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4E2B-77B6-4B61-9B18-FC0460B4C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B123-A577-4BB8-B07D-A668177AB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82F0-D2A1-45DA-A8F8-ADE3489F1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6C4E-7F2A-4B6C-B0CB-1A5B591B9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8CC06-6B44-4DAD-A0EF-69C7EE99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2F719-D63C-475E-BD01-DFC740F0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5F5B9-767D-47B3-8E25-94036C59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9C2D3-22CB-471F-AD22-9443F758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624E4-2D3D-4DC8-8451-176C4838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40979-025A-4E05-8A57-B24335EB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AD420-0269-4B29-9899-EFDC3E6C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ED96-59C7-40BE-BDCD-231447F04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BD0DF-C06B-4DFC-95C0-855F3D02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CD55E-B996-460F-BAE6-9C829D8B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D8B79-853E-4814-9F18-10DE2B18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D837D-99B5-4264-8B98-51F14EC7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8EE3D-97E8-4BEE-91DD-3953B2DE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88AA-8580-4D55-8C67-6125776B0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D02E-18D2-43B7-BC6E-97A2DF628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3E40-BB22-4ABF-8E25-23410EE8A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FF67-AF28-411A-AD73-BD3EA72B6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713D-496B-48BF-AEAD-B48062989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4BF1-01B0-4A6C-AEFB-D381546AB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BA65-82B9-4F49-BB11-A4460F701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F4B6-BA43-462F-A0F8-479427ECB59F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C778-DCAA-4650-BBB0-2DF7D843ED05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access/HA102388991033.aspx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Access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7240" y="63086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minios (Tipos de Dato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hasta 255 caract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Mem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gran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umeros enteros y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Date/Tim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echa y 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Currenc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tos mon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Auto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úmero en secuencia introducido automáticamente por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Yes/N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es b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LE Objec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objeto OLE (imagen, sonido, hoja de cálculo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Hyperlink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uardan direcciones de página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ar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atabase Tools /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tionships/Edit Relationship/Create N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egir qué tablas y columnas relacion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816360" cy="236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384720" cy="24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Tools/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ngresar info a la 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l final de la tab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ara “preguntarle” algo a la base de da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/Query Wizard/Simple Query Wiz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r info que quiero en la respu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598920" cy="2692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Queries/New/Simple Query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uego, podemos filtrar las res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ome/Filter/Advanced/Filter by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le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ggle 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67480" y="62485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990720" y="624852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ds-&gt;Filter-&gt;Filter By Form, Apply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 lanzar consultas con el fin de recuperar -de una forma sencilla- información de interés de una base de datos, así como también hacer cambios sobre la mi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tax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1,col2,.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abla1,tabla2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condicion AND/OR condici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BY 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o ingresar SQL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Query Design / cerrar vent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QL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Ver Resultado: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2879640" cy="1568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1895400" cy="1866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990720" y="6165720"/>
            <a:ext cx="7181640" cy="6721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ries/New/Design View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View/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ver resultado: View-&gt;DataShee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1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t A.id, A.nombre, A.apellido, A.fechanacimien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Where A.fechanacimiento&l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fechas se escriben entre 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ra op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n: Select * (seleccionar todos los camp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Hoy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e Microsof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bajo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ienzo Proyect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2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, ordenados por apellido y nomb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A.fechanacimiento&lt;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r By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3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perar el nombre de las pel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ículas animadas (Cartoo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cientes (desp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del 200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.tipo=‘Cartoon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anno&gt;200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4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es son los actores que han participado en comed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T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OM actores as a, actuan as ac, 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HERE a.id=ac.a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ac.pelicula=p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t.tipo='Comedia'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Parámetr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que Access consulte por alg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n dato para llenar la consulta, se usan los caracteres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Queremos las películas de X a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OM Peliculas as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HERE p.An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ormul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4040" cy="265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47480" y="2135160"/>
            <a:ext cx="496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ir tabla o consulta co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4524120" cy="300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1280" y="4797360"/>
            <a:ext cx="331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 fichas de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990720" y="632448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w 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Repor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5257800" cy="2233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466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 (grupos 2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r una base de datos de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nar la BD con los datos de 5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r consul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6928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crosoft Access es un SGBD, programa para gestionar bases de datos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2870280" cy="175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72480" y="3395520"/>
            <a:ext cx="198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19840" y="42339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91440" y="3852720"/>
            <a:ext cx="2384280" cy="189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95040" y="3471840"/>
            <a:ext cx="128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21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cess vers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1.0 - 19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as vers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4c6d80"/>
                </a:solidFill>
                <a:uFillTx/>
                <a:latin typeface="Arial"/>
                <a:ea typeface="ＭＳ Ｐゴシック"/>
                <a:hlinkClick r:id="rId1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01276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2470320" cy="246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72440" y="19051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69284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base de datos está compuesta de tablas y relaciones entre ell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tabla tiene atributos (columnas, campos). Un elemento (fila) de una tabla es un regis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: Tabla 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ributos: Nombre, apellido, fecha nacimiento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s: Jim Carrey 17/01/1962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 todos sus datos), Mel Gibson ...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6564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23800" y="31572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1125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bla (Pelicul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0400" y="9810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pos (atribu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940000" y="119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0920" y="1700280"/>
            <a:ext cx="1366560" cy="453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2560" y="4221000"/>
            <a:ext cx="669780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02040" y="38606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(1 fi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380360" y="422100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ablas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LICULA(Id, Titulo, 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ño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OR(Id, Nombre, Apellido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83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1206360"/>
                <a:gridCol w="1123920"/>
                <a:gridCol w="100980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6019920" cy="91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049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2330280"/>
                <a:gridCol w="628920"/>
                <a:gridCol w="38088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66880" y="5181480"/>
          <a:ext cx="4038840" cy="125100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</a:tblGrid>
              <a:tr h="3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re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 d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lank Database (elegir nomb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tabla (botón derecho), Design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tab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cada colum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tipo de datos que guardar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: Nombre? Edad? Fecha nac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egir Llave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ia (Primary K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9520" y="4592520"/>
            <a:ext cx="4321080" cy="144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 flipV="1">
            <a:off x="2819160" y="4952520"/>
            <a:ext cx="33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9840" y="40878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tributo (colum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43160" y="4303800"/>
            <a:ext cx="367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22440" y="518148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(text, number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New Blank Database, Create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Herskovic</cp:lastModifiedBy>
  <dcterms:modified xsi:type="dcterms:W3CDTF">2010-10-12T21:26:53Z</dcterms:modified>
  <cp:revision>67</cp:revision>
  <dc:subject/>
  <dc:title>(Microsoft Office) Excel y Access</dc:title>
</cp:coreProperties>
</file>