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DA90-D88B-4D39-9C6A-20B360A9A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ADB4-DCEE-4ABD-8935-90FED854D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A24C-8558-4573-8BE6-5F03A4846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C034-D673-40AF-BB3F-5BFD3B0CF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BCA3B-BE09-45D6-8AE7-55086A2E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5FC60-43DA-4711-BAEE-321F33DC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77632-B7CC-4306-AF2A-0F77ABCD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6C6BD-05DF-463F-A4E6-579AFF1A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B4A45-286F-45B4-AAE3-3D3FE410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04903-D689-46D9-8FAD-2FDA083D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438B2-E6C7-4E24-BE27-7A819C82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F5313-06DC-4F65-90DF-A4D1EE026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EF80B-30D1-4A29-9B54-FEC49639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D4C4C-2A6C-4A54-8E96-72A870E0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59BAF-3D1B-4CEF-9B5F-650C3DA1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441CB-F33B-4D02-A1E0-E94674B9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D7AA5-79A1-4B0E-B161-6267512C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4EE3-E020-42AA-ABEB-2BB3E97C5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00E2-7D62-4C92-BAAD-4C1502C65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DD6E-48C8-4824-9B2A-BAC6CE7E8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E236-FB4F-41AE-8226-2B61047FB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2C30-484F-4C18-9E41-00A3F288A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0F6F-7725-4699-B264-4D2F6B80A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B7C0-4BFA-4C70-B19A-BDFF9E8D9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E9C6-C471-4B08-9406-858A9BA5B95C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D008-3460-4EC4-B888-EDF27BF9B890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office.microsoft.com/en-us/access/HA102388991033.aspx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Microsoft Access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rso Computación-Tecnología Mé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2016000" cy="1533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7240" y="6308640"/>
            <a:ext cx="42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ferencia: Apuntes Universidad de Nava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LICULA(Id, Titulo, Productora, Año, Tip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OR(Id, Nombre, Apellido, FechaNa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PO(Id, Nomb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9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Dominios (Tipos de Datos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Text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formación alfanuméricos de hasta 255 caracte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Mem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formación alfanuméricos de gran tam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umeros enteros y re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Date/Tim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echa y 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Currency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ormatos monet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AutoNumber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número en secuencia introducido automáticamente por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Yes/N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alores bi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OLE Object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objeto OLE (imagen, sonido, hoja de cálculo </a:t>
            </a: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Hyperlink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uardan direcciones de páginas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Relacionar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atabase Tools / Relationshi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lationships/Edit Relationship/Create N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egir qué tablas y columnas relacion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3500280"/>
            <a:ext cx="3816360" cy="2365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3384720" cy="2484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Tools/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Ingresar info a la 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l final de la tab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582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nsult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ara “preguntarle” algo a la base de da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eate/Query Wizard/Simple Query Wiz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egir info que quiero en la respue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3598920" cy="2692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Queries/New/Simple Query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uego, podemos filtrar las respues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Home/Filter/Advanced/Filter by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lenar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ggle 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467480" y="6248520"/>
            <a:ext cx="433440" cy="433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990720" y="624852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rds-&gt;Filter-&gt;Filter By Form, Apply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mite lanzar consultas con el fin de recuperar -de una forma sencilla- información de interés de una base de datos, así como también hacer cambios sobre la mis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tax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col1,col2,.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abla1,tabla2,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condicion AND/OR condicion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DER BY 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omo ingresar SQL en 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ate / Query Design / cerrar vent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QL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Ver Resultado: R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2879640" cy="1568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962520" y="3962520"/>
            <a:ext cx="1895400" cy="18669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4"/>
          <p:cNvSpPr/>
          <p:nvPr/>
        </p:nvSpPr>
        <p:spPr>
          <a:xfrm>
            <a:off x="990720" y="6165720"/>
            <a:ext cx="7181640" cy="67212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ries/New/Design View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View/SQ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ver resultado: View-&gt;DataSheet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1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cione todos los datos de los actores nacidos antes de 196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lect A.id, A.nombre, A.apellido, A.fechanacimient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rom Actores as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Where A.fechanacimiento&l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#1-1-1960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 fechas se escriben entre 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ra opci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ón: Select * (seleccionar todos los camp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Hoy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e Microsof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bajo P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áctico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ienzo Proyecto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2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cione todos los datos de los actores nacidos antes de 1960, ordenados por apellido y nomb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Actores as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A.fechanacimiento&lt;#1-1-1960#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der By A.Apellido, A.no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3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uperar el nombre de las pel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ículas animadas (Cartoo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cientes (desp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del 200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 p.titu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peliculas as p, tipo as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t.tipo=‘Cartoon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p.anno&gt;200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p.tipo=t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sulta 4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u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les son los actores que han participado en comedi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LECT a.apellido, a.no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ROM actores as a, actuan as ac,  peliculas as p, tipo as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WHERE a.id=ac.a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ac.pelicula=p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p.tipo=t.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t.tipo='Comedia'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Parámetr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 que Access consulte por alg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n dato para llenar la consulta, se usan los caracteres [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emplo: Queremos las películas de X añ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LECT p.Ti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ROM Peliculas as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HERE p.An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Formular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reate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524040" cy="2657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47480" y="2135160"/>
            <a:ext cx="496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gir tabla o consulta com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ent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40360" y="3213000"/>
            <a:ext cx="4524120" cy="3009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11280" y="4797360"/>
            <a:ext cx="3313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 fichas de result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990720" y="632448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w 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Form Wi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Report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/Fil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5257800" cy="2233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4660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 (grupos 2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rear una base de datos de Lib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lenar la BD con los datos de 5 lib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r consul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69284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crosoft Access es un SGBD, programa para gestionar bases de datos rel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4005360"/>
            <a:ext cx="2870280" cy="1753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2057400" cy="1498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72480" y="3395520"/>
            <a:ext cx="198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stgreSQ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019840" y="42339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91440" y="3852720"/>
            <a:ext cx="2384280" cy="189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895040" y="3471840"/>
            <a:ext cx="128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62120" y="2286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lgo de histori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cess vers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1.0 - 199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ras version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 u="sng">
                <a:solidFill>
                  <a:srgbClr val="4c6d80"/>
                </a:solidFill>
                <a:uFillTx/>
                <a:latin typeface="Arial"/>
                <a:ea typeface="ＭＳ Ｐゴシック"/>
                <a:hlinkClick r:id="rId1"/>
              </a:rPr>
              <a:t>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4120" y="380880"/>
            <a:ext cx="2012760" cy="2438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181480" y="3505320"/>
            <a:ext cx="2470320" cy="2469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372440" y="1905120"/>
            <a:ext cx="1771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ase de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295280"/>
            <a:ext cx="769284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base de datos está compuesta de tablas y relaciones entre ell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a tabla tiene atributos (columnas, campos). Un elemento (fila) de una tabla es un regist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j: Tabla Act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tributos: Nombre, apellido, fecha nacimiento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gistros: Jim Carrey 17/01/1962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 todos sus datos), Mel Gibson ..., e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665640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523800" y="31572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Base de Datos en Acces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000" y="112536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abla (Pelicul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70400" y="9810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pos (atribu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940000" y="119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0920" y="1700280"/>
            <a:ext cx="1366560" cy="453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2560" y="4221000"/>
            <a:ext cx="6697800" cy="28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02040" y="386064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(1 fi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380360" y="4221000"/>
            <a:ext cx="504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LICULA(Id, Titulo, Productora, Año, Tip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OR(Id, Nombre, Apellido, FechaNa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IPO(Id, Nomb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9481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Tablas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LICULA(Id, Titulo, 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ño,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OR(Id, Nombre, Apellido,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UA(Actor, Pelicul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48320" y="2819520"/>
          <a:ext cx="4038480" cy="2189160"/>
        </p:xfrm>
        <a:graphic>
          <a:graphicData uri="http://schemas.openxmlformats.org/drawingml/2006/table">
            <a:tbl>
              <a:tblPr/>
              <a:tblGrid>
                <a:gridCol w="698400"/>
                <a:gridCol w="1206360"/>
                <a:gridCol w="1123920"/>
                <a:gridCol w="1009800"/>
              </a:tblGrid>
              <a:tr h="31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ell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u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k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6019920" cy="91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304920" y="2819520"/>
          <a:ext cx="4038480" cy="2189160"/>
        </p:xfrm>
        <a:graphic>
          <a:graphicData uri="http://schemas.openxmlformats.org/drawingml/2006/table">
            <a:tbl>
              <a:tblPr/>
              <a:tblGrid>
                <a:gridCol w="698400"/>
                <a:gridCol w="2330280"/>
                <a:gridCol w="628920"/>
                <a:gridCol w="380880"/>
              </a:tblGrid>
              <a:tr h="31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IC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Guerra de los Mu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Guerra de los Mun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66880" y="5181480"/>
          <a:ext cx="4038840" cy="1251000"/>
        </p:xfrm>
        <a:graphic>
          <a:graphicData uri="http://schemas.openxmlformats.org/drawingml/2006/table">
            <a:tbl>
              <a:tblPr/>
              <a:tblGrid>
                <a:gridCol w="1905120"/>
                <a:gridCol w="2133720"/>
              </a:tblGrid>
              <a:tr h="312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ic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rea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 de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2296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Office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 N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lank Database (elegir nomb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ate /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cionar tabla (botón derecho), Design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nombre de tab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nombre de cada colum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pecificar tipo de datos que guardar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: Nombre? Edad? Fecha nacimie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egir Llave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ia (Primary Ke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9520" y="4592520"/>
            <a:ext cx="4321080" cy="1444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H="1" flipV="1">
            <a:off x="2819160" y="4952520"/>
            <a:ext cx="33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9840" y="40878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tributo (colum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43160" y="4303800"/>
            <a:ext cx="3673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22440" y="5181480"/>
            <a:ext cx="28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minio (text, number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971640" y="6237360"/>
            <a:ext cx="7181640" cy="368280"/>
          </a:xfrm>
          <a:prstGeom prst="rect">
            <a:avLst/>
          </a:prstGeom>
          <a:solidFill>
            <a:srgbClr val="ccccff">
              <a:alpha val="49000"/>
            </a:srgbClr>
          </a:solidFill>
          <a:ln w="2232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Access 2003: New Blank Database, Create table in desig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0:41:02Z</dcterms:created>
  <dc:creator>Vale</dc:creator>
  <dc:description/>
  <dc:language>en-US</dc:language>
  <cp:lastModifiedBy>VHerskovic</cp:lastModifiedBy>
  <dcterms:modified xsi:type="dcterms:W3CDTF">2010-10-12T21:26:53Z</dcterms:modified>
  <cp:revision>67</cp:revision>
  <dc:subject/>
  <dc:title>(Microsoft Office) Excel y Access</dc:title>
</cp:coreProperties>
</file>