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E24E3-AC8E-474F-A265-375EA7ECD7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713C3-DD9A-4278-AE3D-F7D33A98B5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CDE66-9F13-4429-A330-DEB3D2BC0A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640F9-61CF-4B49-B352-060FAF4853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1E17C-2331-43A9-985E-EFE05D4C7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5FFCF-DBF3-49BE-8923-EFFD2BE8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0DA48-DC7E-4E1A-A144-DC17985D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79CDE-1B68-462B-84DE-EB5B7F9A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532D5-FE9B-4332-A5D7-64564E83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104BE-0165-4814-A3D0-1A59B62B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F8D3D-A313-4AA8-85EF-326DCE1C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FBEC8-ECF0-4CF2-BC85-4C7A1CE042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99DE9-D563-4C55-A160-F24D1883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CF3D0-DFF6-4710-A8AF-F54A5312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7576D-50F4-48E7-A480-7580FD77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F5087-5047-40D8-B2BB-63EE9E45C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20C40-F0DA-4A08-840A-E07E18673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D73A5-3955-4EA0-906F-1E3A542F84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5D841-7690-4541-B6FA-2B32791BAB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28974-FFA7-4816-B8E2-E75515DEDE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31363-1B62-4587-A49F-9CBFA2E914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16DFC-60F9-4E27-8004-AE51945637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F2250-DDA1-4200-A929-98204716AD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92AE2-1C47-4DB1-BCA7-49EFB073CE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6248160"/>
            <a:ext cx="55515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ecnolog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í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é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dica, Universidad de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A83E-3F64-4F7C-B9B9-87243377C56D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34A4-F99E-4611-BB43-4E6BE1238489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ysql.com/" TargetMode="External"/><Relationship Id="rId2" Type="http://schemas.openxmlformats.org/officeDocument/2006/relationships/hyperlink" Target="http://www.postgresql.org/" TargetMode="External"/><Relationship Id="rId3" Type="http://schemas.openxmlformats.org/officeDocument/2006/relationships/hyperlink" Target="http://www.firebirdsql.org/" TargetMode="External"/><Relationship Id="rId4" Type="http://schemas.openxmlformats.org/officeDocument/2006/relationships/hyperlink" Target="http://www.sqlite.org/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600" spc="-1" strike="noStrike">
                <a:solidFill>
                  <a:srgbClr val="003399"/>
                </a:solidFill>
                <a:latin typeface="Arial"/>
              </a:rPr>
              <a:t>Bases de Datos</a:t>
            </a:r>
            <a:endParaRPr b="0" lang="en-US" sz="5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619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cnología Méd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de Re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Igual a las Jerárquicas, pero la relac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ya no es 1:N. Se usan grafos dirigid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oluciona la redundancia de datos.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ntra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f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cil de recorr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de Re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ino Ani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ursos y Alumn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81880" y="337032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utac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45440" y="47242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. Ro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054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06520" y="4653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. Sal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198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16720" y="2492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950880" y="24922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9308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23600" y="33577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g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19360" y="342900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27000" y="4365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19360" y="429264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295360" y="2637000"/>
            <a:ext cx="1919880" cy="457200"/>
            <a:chOff x="2295360" y="2637000"/>
            <a:chExt cx="1919880" cy="457200"/>
          </a:xfrm>
        </p:grpSpPr>
        <p:sp>
          <p:nvSpPr>
            <p:cNvPr id="160" name=""/>
            <p:cNvSpPr/>
            <p:nvPr/>
          </p:nvSpPr>
          <p:spPr>
            <a:xfrm>
              <a:off x="2295360" y="2637000"/>
              <a:ext cx="457200" cy="457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79840" y="266076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eino Anim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26880" y="35002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13160" y="4869000"/>
            <a:ext cx="12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m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f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7520" y="48690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34960" y="4797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40080" y="4365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71720" y="344016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56560" y="346392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0" idx="4"/>
            <a:endCxn id="156" idx="0"/>
          </p:cNvCxnSpPr>
          <p:nvPr/>
        </p:nvCxnSpPr>
        <p:spPr>
          <a:xfrm flipH="1">
            <a:off x="1947960" y="3094200"/>
            <a:ext cx="57636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60" idx="4"/>
            <a:endCxn id="167" idx="0"/>
          </p:cNvCxnSpPr>
          <p:nvPr/>
        </p:nvCxnSpPr>
        <p:spPr>
          <a:xfrm>
            <a:off x="2523600" y="3093840"/>
            <a:ext cx="577080" cy="34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56" idx="4"/>
            <a:endCxn id="157" idx="0"/>
          </p:cNvCxnSpPr>
          <p:nvPr/>
        </p:nvCxnSpPr>
        <p:spPr>
          <a:xfrm flipH="1">
            <a:off x="1154880" y="3886200"/>
            <a:ext cx="79308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56" idx="4"/>
            <a:endCxn id="158" idx="0"/>
          </p:cNvCxnSpPr>
          <p:nvPr/>
        </p:nvCxnSpPr>
        <p:spPr>
          <a:xfrm>
            <a:off x="1947600" y="3885840"/>
            <a:ext cx="1080" cy="40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56" idx="4"/>
            <a:endCxn id="166" idx="0"/>
          </p:cNvCxnSpPr>
          <p:nvPr/>
        </p:nvCxnSpPr>
        <p:spPr>
          <a:xfrm>
            <a:off x="1947960" y="3886200"/>
            <a:ext cx="72144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4" name=""/>
          <p:cNvCxnSpPr>
            <a:stCxn id="152" idx="4"/>
            <a:endCxn id="146" idx="0"/>
          </p:cNvCxnSpPr>
          <p:nvPr/>
        </p:nvCxnSpPr>
        <p:spPr>
          <a:xfrm flipH="1">
            <a:off x="6241680" y="2949480"/>
            <a:ext cx="50400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5" name=""/>
          <p:cNvCxnSpPr>
            <a:stCxn id="146" idx="4"/>
            <a:endCxn id="149" idx="0"/>
          </p:cNvCxnSpPr>
          <p:nvPr/>
        </p:nvCxnSpPr>
        <p:spPr>
          <a:xfrm flipH="1">
            <a:off x="5733360" y="3814920"/>
            <a:ext cx="5086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6" name=""/>
          <p:cNvCxnSpPr>
            <a:stCxn id="146" idx="4"/>
            <a:endCxn id="151" idx="0"/>
          </p:cNvCxnSpPr>
          <p:nvPr/>
        </p:nvCxnSpPr>
        <p:spPr>
          <a:xfrm>
            <a:off x="6241680" y="3814920"/>
            <a:ext cx="40716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" name=""/>
          <p:cNvCxnSpPr>
            <a:stCxn id="152" idx="4"/>
            <a:endCxn id="154" idx="0"/>
          </p:cNvCxnSpPr>
          <p:nvPr/>
        </p:nvCxnSpPr>
        <p:spPr>
          <a:xfrm>
            <a:off x="6744960" y="2949480"/>
            <a:ext cx="57708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78" name=""/>
          <p:cNvGrpSpPr/>
          <p:nvPr/>
        </p:nvGrpSpPr>
        <p:grpSpPr>
          <a:xfrm>
            <a:off x="6648120" y="3814920"/>
            <a:ext cx="2244960" cy="2278080"/>
            <a:chOff x="6648120" y="3814920"/>
            <a:chExt cx="2244960" cy="2278080"/>
          </a:xfrm>
        </p:grpSpPr>
        <p:cxnSp>
          <p:nvCxnSpPr>
            <p:cNvPr id="179" name=""/>
            <p:cNvCxnSpPr/>
            <p:nvPr/>
          </p:nvCxnSpPr>
          <p:spPr>
            <a:xfrm flipH="1">
              <a:off x="6648120" y="3814920"/>
              <a:ext cx="67392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0" name=""/>
            <p:cNvSpPr/>
            <p:nvPr/>
          </p:nvSpPr>
          <p:spPr>
            <a:xfrm>
              <a:off x="7021440" y="5013360"/>
              <a:ext cx="1871640" cy="1079640"/>
            </a:xfrm>
            <a:prstGeom prst="irregularSeal1">
              <a:avLst/>
            </a:prstGeom>
            <a:solidFill>
              <a:srgbClr val="4c6d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Ya no h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redunda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Relaciona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on las más populares hoy en dí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t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 basado en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cion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ntre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¿Entida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um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fes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¿Relacion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alumn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om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profesor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ct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curs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ien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lum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Relaciona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ino Ani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08360" y="3500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16360" y="443700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08360" y="43639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284720" y="2708280"/>
            <a:ext cx="1919880" cy="457200"/>
            <a:chOff x="4284720" y="2708280"/>
            <a:chExt cx="1919880" cy="457200"/>
          </a:xfrm>
        </p:grpSpPr>
        <p:sp>
          <p:nvSpPr>
            <p:cNvPr id="189" name=""/>
            <p:cNvSpPr/>
            <p:nvPr/>
          </p:nvSpPr>
          <p:spPr>
            <a:xfrm>
              <a:off x="4284720" y="2708280"/>
              <a:ext cx="457200" cy="457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69200" y="273204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eino Anim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315880" y="357192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02520" y="4940280"/>
            <a:ext cx="12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m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f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6520" y="49402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23960" y="486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29080" y="443700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61080" y="351144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44840" y="353520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89" idx="4"/>
            <a:endCxn id="185" idx="0"/>
          </p:cNvCxnSpPr>
          <p:nvPr/>
        </p:nvCxnSpPr>
        <p:spPr>
          <a:xfrm flipH="1">
            <a:off x="3936240" y="3165480"/>
            <a:ext cx="577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" name=""/>
          <p:cNvCxnSpPr>
            <a:stCxn id="189" idx="4"/>
            <a:endCxn id="196" idx="0"/>
          </p:cNvCxnSpPr>
          <p:nvPr/>
        </p:nvCxnSpPr>
        <p:spPr>
          <a:xfrm>
            <a:off x="4512960" y="3165120"/>
            <a:ext cx="577080" cy="34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" name=""/>
          <p:cNvCxnSpPr>
            <a:stCxn id="185" idx="4"/>
            <a:endCxn id="186" idx="0"/>
          </p:cNvCxnSpPr>
          <p:nvPr/>
        </p:nvCxnSpPr>
        <p:spPr>
          <a:xfrm flipH="1">
            <a:off x="3144600" y="3957480"/>
            <a:ext cx="79272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" name=""/>
          <p:cNvCxnSpPr>
            <a:stCxn id="185" idx="4"/>
            <a:endCxn id="187" idx="0"/>
          </p:cNvCxnSpPr>
          <p:nvPr/>
        </p:nvCxnSpPr>
        <p:spPr>
          <a:xfrm>
            <a:off x="3936600" y="3957120"/>
            <a:ext cx="1080" cy="40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" name=""/>
          <p:cNvCxnSpPr>
            <a:stCxn id="185" idx="4"/>
            <a:endCxn id="195" idx="0"/>
          </p:cNvCxnSpPr>
          <p:nvPr/>
        </p:nvCxnSpPr>
        <p:spPr>
          <a:xfrm>
            <a:off x="3936960" y="3957480"/>
            <a:ext cx="72144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3" name=""/>
          <p:cNvSpPr/>
          <p:nvPr/>
        </p:nvSpPr>
        <p:spPr>
          <a:xfrm>
            <a:off x="1979640" y="3789360"/>
            <a:ext cx="358920" cy="1079640"/>
          </a:xfrm>
          <a:prstGeom prst="downArrow">
            <a:avLst>
              <a:gd name="adj1" fmla="val 50000"/>
              <a:gd name="adj2" fmla="val 75201"/>
            </a:avLst>
          </a:prstGeom>
          <a:solidFill>
            <a:srgbClr val="4c6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0800000">
            <a:off x="6876720" y="2781360"/>
            <a:ext cx="358920" cy="1079280"/>
          </a:xfrm>
          <a:prstGeom prst="downArrow">
            <a:avLst>
              <a:gd name="adj1" fmla="val 50000"/>
              <a:gd name="adj2" fmla="val 75176"/>
            </a:avLst>
          </a:prstGeom>
          <a:solidFill>
            <a:srgbClr val="4c6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4520" y="407664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subdivide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238880" y="321300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tenece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Relaciona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ursos y Alumn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8144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49880" y="337032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utac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13440" y="47242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. Ro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34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74520" y="4653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. Sal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878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84720" y="2492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18880" y="24922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6108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91600" y="33577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g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"/>
          <p:cNvCxnSpPr>
            <a:stCxn id="215" idx="4"/>
            <a:endCxn id="209" idx="0"/>
          </p:cNvCxnSpPr>
          <p:nvPr/>
        </p:nvCxnSpPr>
        <p:spPr>
          <a:xfrm flipH="1">
            <a:off x="4009680" y="2949480"/>
            <a:ext cx="50400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0" name=""/>
          <p:cNvCxnSpPr>
            <a:stCxn id="209" idx="4"/>
            <a:endCxn id="212" idx="0"/>
          </p:cNvCxnSpPr>
          <p:nvPr/>
        </p:nvCxnSpPr>
        <p:spPr>
          <a:xfrm flipH="1">
            <a:off x="3501360" y="3814920"/>
            <a:ext cx="5086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1" name=""/>
          <p:cNvCxnSpPr>
            <a:stCxn id="209" idx="4"/>
            <a:endCxn id="214" idx="0"/>
          </p:cNvCxnSpPr>
          <p:nvPr/>
        </p:nvCxnSpPr>
        <p:spPr>
          <a:xfrm>
            <a:off x="4009680" y="3814920"/>
            <a:ext cx="40716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2" name=""/>
          <p:cNvCxnSpPr>
            <a:stCxn id="215" idx="4"/>
            <a:endCxn id="217" idx="0"/>
          </p:cNvCxnSpPr>
          <p:nvPr/>
        </p:nvCxnSpPr>
        <p:spPr>
          <a:xfrm>
            <a:off x="4512960" y="2949480"/>
            <a:ext cx="57708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3" name=""/>
          <p:cNvSpPr/>
          <p:nvPr/>
        </p:nvSpPr>
        <p:spPr>
          <a:xfrm rot="10800000">
            <a:off x="2410920" y="3499920"/>
            <a:ext cx="358920" cy="1079640"/>
          </a:xfrm>
          <a:prstGeom prst="downArrow">
            <a:avLst>
              <a:gd name="adj1" fmla="val 50000"/>
              <a:gd name="adj2" fmla="val 75201"/>
            </a:avLst>
          </a:prstGeom>
          <a:solidFill>
            <a:srgbClr val="4c6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74160" y="386064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oman cu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04000" y="3500280"/>
            <a:ext cx="358920" cy="1079640"/>
          </a:xfrm>
          <a:prstGeom prst="downArrow">
            <a:avLst>
              <a:gd name="adj1" fmla="val 50000"/>
              <a:gd name="adj2" fmla="val 75201"/>
            </a:avLst>
          </a:prstGeom>
          <a:solidFill>
            <a:srgbClr val="4c6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097400" y="371628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iene alum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416120" y="3814920"/>
            <a:ext cx="2891160" cy="2206440"/>
            <a:chOff x="4416120" y="3814920"/>
            <a:chExt cx="2891160" cy="2206440"/>
          </a:xfrm>
        </p:grpSpPr>
        <p:cxnSp>
          <p:nvCxnSpPr>
            <p:cNvPr id="228" name=""/>
            <p:cNvCxnSpPr>
              <a:stCxn id="217" idx="4"/>
              <a:endCxn id="214" idx="0"/>
            </p:cNvCxnSpPr>
            <p:nvPr/>
          </p:nvCxnSpPr>
          <p:spPr>
            <a:xfrm flipH="1">
              <a:off x="4416120" y="3814920"/>
              <a:ext cx="67392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9" name=""/>
            <p:cNvSpPr/>
            <p:nvPr/>
          </p:nvSpPr>
          <p:spPr>
            <a:xfrm>
              <a:off x="5435640" y="4941720"/>
              <a:ext cx="1871640" cy="1079640"/>
            </a:xfrm>
            <a:prstGeom prst="irregularSeal1">
              <a:avLst/>
            </a:prstGeom>
            <a:solidFill>
              <a:srgbClr val="4c6d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Ya no h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redunda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¿</a:t>
            </a:r>
            <a:r>
              <a:rPr b="0" lang="es-ES_tradnl" sz="3400" spc="-1" strike="noStrike">
                <a:solidFill>
                  <a:srgbClr val="003399"/>
                </a:solidFill>
                <a:latin typeface="Arial"/>
              </a:rPr>
              <a:t>C</a:t>
            </a:r>
            <a:r>
              <a:rPr b="0" lang="es-ES_tradnl" sz="3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ómo se representa la información?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mo tablas compuestas de tuplas (filas) y atributos (columna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el ejemplo, cada fila representa a un alum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a tabla puede representarse com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umno(nombre,apellido,ed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2317680" y="2708280"/>
          <a:ext cx="4175280" cy="1400040"/>
        </p:xfrm>
        <a:graphic>
          <a:graphicData uri="http://schemas.openxmlformats.org/drawingml/2006/table">
            <a:tbl>
              <a:tblPr/>
              <a:tblGrid>
                <a:gridCol w="1638360"/>
                <a:gridCol w="1581120"/>
                <a:gridCol w="9558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lli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d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33" name=""/>
          <p:cNvGrpSpPr/>
          <p:nvPr/>
        </p:nvGrpSpPr>
        <p:grpSpPr>
          <a:xfrm>
            <a:off x="2317680" y="3160800"/>
            <a:ext cx="5783400" cy="900000"/>
            <a:chOff x="2317680" y="3160800"/>
            <a:chExt cx="5783400" cy="900000"/>
          </a:xfrm>
        </p:grpSpPr>
        <p:sp>
          <p:nvSpPr>
            <p:cNvPr id="234" name=""/>
            <p:cNvSpPr/>
            <p:nvPr/>
          </p:nvSpPr>
          <p:spPr>
            <a:xfrm>
              <a:off x="2317680" y="3160800"/>
              <a:ext cx="4176720" cy="44604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70760" y="3645000"/>
              <a:ext cx="1030320" cy="415800"/>
            </a:xfrm>
            <a:prstGeom prst="wedgeRectCallout">
              <a:avLst>
                <a:gd name="adj1" fmla="val -106087"/>
                <a:gd name="adj2" fmla="val -112212"/>
              </a:avLst>
            </a:prstGeom>
            <a:solidFill>
              <a:srgbClr val="ff0000">
                <a:alpha val="43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Tupl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662040" y="3141720"/>
            <a:ext cx="3313080" cy="966600"/>
            <a:chOff x="662040" y="3141720"/>
            <a:chExt cx="3313080" cy="966600"/>
          </a:xfrm>
        </p:grpSpPr>
        <p:sp>
          <p:nvSpPr>
            <p:cNvPr id="237" name=""/>
            <p:cNvSpPr/>
            <p:nvPr/>
          </p:nvSpPr>
          <p:spPr>
            <a:xfrm>
              <a:off x="2319480" y="3141720"/>
              <a:ext cx="1655640" cy="96660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2040" y="3500280"/>
              <a:ext cx="1368360" cy="403560"/>
            </a:xfrm>
            <a:prstGeom prst="wedgeRectCallout">
              <a:avLst>
                <a:gd name="adj1" fmla="val 69606"/>
                <a:gd name="adj2" fmla="val 11023"/>
              </a:avLst>
            </a:prstGeom>
            <a:solidFill>
              <a:srgbClr val="ff0000">
                <a:alpha val="43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Atribu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Relaciones entre Tabl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e la misma manera que se usan tablas para mantener datos, se pueden especificar tablas que mantengan las rel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611280" y="3213000"/>
          <a:ext cx="2952720" cy="1065240"/>
        </p:xfrm>
        <a:graphic>
          <a:graphicData uri="http://schemas.openxmlformats.org/drawingml/2006/table">
            <a:tbl>
              <a:tblPr/>
              <a:tblGrid>
                <a:gridCol w="1224000"/>
                <a:gridCol w="1008000"/>
                <a:gridCol w="720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6156360" y="4869000"/>
          <a:ext cx="2520720" cy="1004760"/>
        </p:xfrm>
        <a:graphic>
          <a:graphicData uri="http://schemas.openxmlformats.org/drawingml/2006/table">
            <a:tbl>
              <a:tblPr/>
              <a:tblGrid>
                <a:gridCol w="1441440"/>
                <a:gridCol w="1079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ódi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-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-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4067280" y="3645000"/>
          <a:ext cx="1726920" cy="1339920"/>
        </p:xfrm>
        <a:graphic>
          <a:graphicData uri="http://schemas.openxmlformats.org/drawingml/2006/table">
            <a:tbl>
              <a:tblPr/>
              <a:tblGrid>
                <a:gridCol w="936360"/>
                <a:gridCol w="790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6516720" y="3573360"/>
            <a:ext cx="2016000" cy="403200"/>
          </a:xfrm>
          <a:prstGeom prst="wedgeRectCallout">
            <a:avLst>
              <a:gd name="adj1" fmla="val -85907"/>
              <a:gd name="adj2" fmla="val 9055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abla de R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492000" y="3716280"/>
            <a:ext cx="1195920" cy="533520"/>
            <a:chOff x="3492000" y="3716280"/>
            <a:chExt cx="1195920" cy="533520"/>
          </a:xfrm>
        </p:grpSpPr>
        <p:sp>
          <p:nvSpPr>
            <p:cNvPr id="246" name=""/>
            <p:cNvSpPr/>
            <p:nvPr/>
          </p:nvSpPr>
          <p:spPr>
            <a:xfrm>
              <a:off x="4471920" y="4033800"/>
              <a:ext cx="21600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3492000" y="3716280"/>
              <a:ext cx="1079640" cy="43344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492360" y="3716280"/>
            <a:ext cx="1224000" cy="1224000"/>
            <a:chOff x="3492360" y="3716280"/>
            <a:chExt cx="1224000" cy="1224000"/>
          </a:xfrm>
        </p:grpSpPr>
        <p:sp>
          <p:nvSpPr>
            <p:cNvPr id="249" name=""/>
            <p:cNvSpPr/>
            <p:nvPr/>
          </p:nvSpPr>
          <p:spPr>
            <a:xfrm>
              <a:off x="4500720" y="4724280"/>
              <a:ext cx="21564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3492360" y="3716280"/>
              <a:ext cx="1108080" cy="11239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292720" y="4038480"/>
            <a:ext cx="934920" cy="1335240"/>
            <a:chOff x="5292720" y="4038480"/>
            <a:chExt cx="934920" cy="1335240"/>
          </a:xfrm>
        </p:grpSpPr>
        <p:sp>
          <p:nvSpPr>
            <p:cNvPr id="252" name=""/>
            <p:cNvSpPr/>
            <p:nvPr/>
          </p:nvSpPr>
          <p:spPr>
            <a:xfrm>
              <a:off x="5292720" y="4038480"/>
              <a:ext cx="21600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92800" y="4154400"/>
              <a:ext cx="834840" cy="12193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3502080" y="4047840"/>
            <a:ext cx="1195200" cy="533520"/>
            <a:chOff x="3502080" y="4047840"/>
            <a:chExt cx="1195200" cy="533520"/>
          </a:xfrm>
        </p:grpSpPr>
        <p:sp>
          <p:nvSpPr>
            <p:cNvPr id="255" name=""/>
            <p:cNvSpPr/>
            <p:nvPr/>
          </p:nvSpPr>
          <p:spPr>
            <a:xfrm>
              <a:off x="4481640" y="4365720"/>
              <a:ext cx="215640" cy="2156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flipV="1">
              <a:off x="3502080" y="4047840"/>
              <a:ext cx="1069920" cy="46044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5302080" y="4394160"/>
            <a:ext cx="925560" cy="979560"/>
            <a:chOff x="5302080" y="4394160"/>
            <a:chExt cx="925560" cy="979560"/>
          </a:xfrm>
        </p:grpSpPr>
        <p:sp>
          <p:nvSpPr>
            <p:cNvPr id="258" name=""/>
            <p:cNvSpPr/>
            <p:nvPr/>
          </p:nvSpPr>
          <p:spPr>
            <a:xfrm>
              <a:off x="5302080" y="4394160"/>
              <a:ext cx="21600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02160" y="4510080"/>
              <a:ext cx="825480" cy="86364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5321160" y="4724280"/>
            <a:ext cx="906480" cy="1009800"/>
            <a:chOff x="5321160" y="4724280"/>
            <a:chExt cx="906480" cy="1009800"/>
          </a:xfrm>
        </p:grpSpPr>
        <p:sp>
          <p:nvSpPr>
            <p:cNvPr id="261" name=""/>
            <p:cNvSpPr/>
            <p:nvPr/>
          </p:nvSpPr>
          <p:spPr>
            <a:xfrm>
              <a:off x="5321160" y="4724280"/>
              <a:ext cx="21600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21240" y="4840200"/>
              <a:ext cx="806400" cy="89388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Relaciona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ara identificar únicamente una tupla se utilizan las llaves primar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 valor que no puede repetir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jemplos: ¿Personas? ¿Autos? ¿Cursos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os atributos se caracterizan por tener un nombre y un domini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 dominio dice que tipo de información puede especificarse para ese atribu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Identificadores y domini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13080" y="2997360"/>
            <a:ext cx="2016000" cy="100800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13080" y="4724280"/>
            <a:ext cx="1584360" cy="936720"/>
          </a:xfrm>
          <a:prstGeom prst="wedgeRectCallout">
            <a:avLst>
              <a:gd name="adj1" fmla="val 9018"/>
              <a:gd name="adj2" fmla="val -122879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omin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dena de Caract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76360" y="1700280"/>
            <a:ext cx="1800360" cy="403200"/>
          </a:xfrm>
          <a:prstGeom prst="wedgeRectCallout">
            <a:avLst>
              <a:gd name="adj1" fmla="val -12435"/>
              <a:gd name="adj2" fmla="val 158662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dentific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908000" y="2552760"/>
          <a:ext cx="4978440" cy="1466640"/>
        </p:xfrm>
        <a:graphic>
          <a:graphicData uri="http://schemas.openxmlformats.org/drawingml/2006/table">
            <a:tbl>
              <a:tblPr/>
              <a:tblGrid>
                <a:gridCol w="504720"/>
                <a:gridCol w="1984320"/>
                <a:gridCol w="1544760"/>
                <a:gridCol w="9446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lli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d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"/>
          <p:cNvSpPr/>
          <p:nvPr/>
        </p:nvSpPr>
        <p:spPr>
          <a:xfrm>
            <a:off x="4429080" y="2997360"/>
            <a:ext cx="1511280" cy="100800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940360" y="2997360"/>
            <a:ext cx="936720" cy="100800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429080" y="4724280"/>
            <a:ext cx="1584360" cy="936720"/>
          </a:xfrm>
          <a:prstGeom prst="wedgeRectCallout">
            <a:avLst>
              <a:gd name="adj1" fmla="val -11625"/>
              <a:gd name="adj2" fmla="val -124236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omin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dena de Caract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45080" y="4581360"/>
            <a:ext cx="1584360" cy="935280"/>
          </a:xfrm>
          <a:prstGeom prst="wedgeRectCallout">
            <a:avLst>
              <a:gd name="adj1" fmla="val -52305"/>
              <a:gd name="adj2" fmla="val -108402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omin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teros posi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Acerca de los domini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eben ser “atómico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u valor no puede ser dividido en dominios más si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ersona(nombre, apellido, hijos) </a:t>
            </a:r>
            <a:r>
              <a:rPr b="0" lang="es-ES_trad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mal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¡Una persona puede tener más de un hijo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¿Ej. correct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sona(*id, nombre, apelli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ijos(*id_persona, *id_hijo, nombre, apelli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ceptos Básicos: Dat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9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Qué es un Dat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junto de caracteres con algún signific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Qué es una Base de Dat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lección ordenada de d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Generalmente pertenecientes al mismo contex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Organizados de tal forma que puedan ser consultados posteriorm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Entidad-Rel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ermite “diagramar” una B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demás de las entidades tenemo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2627280" y="2349360"/>
            <a:ext cx="37450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Entidad-Rel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Atribu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opiedades o características de las enti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xisten varios tip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bligatorios: tienen que tener un valor (nombre, fecha nacimi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pcionales: pueden no tener ningún valor (nro. cuenta corriente, código post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635280" y="3789360"/>
            <a:ext cx="720360" cy="360360"/>
            <a:chOff x="3635280" y="3789360"/>
            <a:chExt cx="720360" cy="360360"/>
          </a:xfrm>
        </p:grpSpPr>
        <p:sp>
          <p:nvSpPr>
            <p:cNvPr id="282" name=""/>
            <p:cNvSpPr/>
            <p:nvPr/>
          </p:nvSpPr>
          <p:spPr>
            <a:xfrm>
              <a:off x="3635280" y="3789360"/>
              <a:ext cx="384480" cy="360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19760" y="3994200"/>
              <a:ext cx="33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635280" y="5229360"/>
            <a:ext cx="720360" cy="358560"/>
            <a:chOff x="3635280" y="5229360"/>
            <a:chExt cx="720360" cy="358560"/>
          </a:xfrm>
        </p:grpSpPr>
        <p:sp>
          <p:nvSpPr>
            <p:cNvPr id="285" name=""/>
            <p:cNvSpPr/>
            <p:nvPr/>
          </p:nvSpPr>
          <p:spPr>
            <a:xfrm>
              <a:off x="4019760" y="5382360"/>
              <a:ext cx="33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635280" y="5229360"/>
              <a:ext cx="384480" cy="3585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Entidad-Rel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Rela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Vinculación o correspondencia entre ent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j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19640" y="2781360"/>
            <a:ext cx="504720" cy="431640"/>
          </a:xfrm>
          <a:prstGeom prst="flowChartDecision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Interrelación regular"/>
          <p:cNvPicPr/>
          <p:nvPr/>
        </p:nvPicPr>
        <p:blipFill>
          <a:blip r:embed="rId1"/>
          <a:stretch/>
        </p:blipFill>
        <p:spPr>
          <a:xfrm>
            <a:off x="2268360" y="3573360"/>
            <a:ext cx="38880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Entidad-Rel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ardina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úmero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máximo y mínimo de ejemplares de una entidad que pueden estar asociados, mediante una determinada relación, con un ejemplar de otra ent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ueden ser de la siguiente form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0,n), (n,0), (1,n), (n,1), (0,1), (1,0), (0,0) ó (n,n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Cardinalidad"/>
          <p:cNvPicPr/>
          <p:nvPr/>
        </p:nvPicPr>
        <p:blipFill>
          <a:blip r:embed="rId1"/>
          <a:stretch/>
        </p:blipFill>
        <p:spPr>
          <a:xfrm>
            <a:off x="1116000" y="4869000"/>
            <a:ext cx="69850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etodología de Diseñ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do un proble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las enti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las rel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los atributos y asociarlos a entidades y rel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ar los dominios de los atribu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ar los identific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bujar el diagrama entidad-rel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sar el esquema conceptual local con el problema inici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etir si algo falta o no está completamente correc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 desea recoger en una base de datos la información acerca de las corridas de toros que se celebran en Españ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 desea tener información acerca de cada corrida, identificada conjuntamente por un número de orden, la feria en la que se celebra y el año de celebración (por ejemplo: orden = 2, feria = San Isidro, Año = 1999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una corrida actúan una serie de toreros (mínimo 1 y máximo 3) de los que desea guardar su DNI, nombre, apodo y fecha en que se convirtió en matador de tor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emás se desea saber quien fue el torero que lo apadrinó ese día (un torero puede apadrinar a varios toreros o a ninguno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Ejemplo (cont.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cada corrida, un torero obtiene una serie de premios (orejas, rabos y si salió por la puerta grande o no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torero puede tener un apoderado del que es protegido. A su vez, un apoderado puede proteger a varios toreros. De cada apoderado se desea saber su DNI, nombre, dirección y teléfon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a corrida se celebra en una plaza de toros de la que se desea saber su nombre que se supone único, localidad y dirección. En una misma plaza se pueden celebrar varias corridas de tor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Ejemplo (cont.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 cada corrida son estoqueados al menos 6 toros. Cada toro viene identificado por el código de la ganadería a la que pertenece, el año en que nació y un número de orden. Además se desea mantener información acerca de su nombre y color así como el orden en que fue tore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da toro pertenece a una ganadería determinada. De cada ganadería se pretende saber su código, localidad y fecha de creació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olu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03" name="" descr="Entidad-relación de los amigos de la Fiesta"/>
          <p:cNvPicPr/>
          <p:nvPr/>
        </p:nvPicPr>
        <p:blipFill>
          <a:blip r:embed="rId1"/>
          <a:stretch/>
        </p:blipFill>
        <p:spPr>
          <a:xfrm>
            <a:off x="611280" y="887400"/>
            <a:ext cx="792144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Ejemplo conjunto: </a:t>
            </a:r>
            <a:br>
              <a:rPr sz="3800"/>
            </a:b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alumnos, profesores y cursos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odelo E-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ab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Y ahora, ¿cómo consultamos la informació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ceptos Básicos: SGB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Qué es un SGBD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sistema gestor de la base de datos)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 un programa que se ubica entre los usuarios y los datos como t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Cuál es su utilida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vita la interacción directa con la informació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ermite un acceso a la información a nivel lóg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ermite un mayor grado de independencia entre las aplicaciones y la información fís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QL = Structured Query Langu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tructur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leccionar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iertos camp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d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iertas tab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se cumplan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iertas cond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jemplo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leccionar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mbre y apellid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de tabla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edad sea mayor a 18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QL: Sintaxis rea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LECT A.nombre, A.apell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OM Alumnos a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HERE A.edad&gt;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leccionar los nombres de todos los cursos que son dictados el 2do semestre del año 20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Un ejemplo más complej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ncontrar nombre y apellido de todos los alumnos que est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 tomando el curso llamado “Computación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a consulta…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lec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.nombre, a.apell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Fro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lumnos as a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urso as c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omaCurso as 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Wher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.nombre = “Computación” 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.id = tc.curso 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c.alumno = a.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Que pasa debido a la consulta…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116000" y="2924280"/>
          <a:ext cx="2881440" cy="1064880"/>
        </p:xfrm>
        <a:graphic>
          <a:graphicData uri="http://schemas.openxmlformats.org/drawingml/2006/table">
            <a:tbl>
              <a:tblPr/>
              <a:tblGrid>
                <a:gridCol w="505080"/>
                <a:gridCol w="1295280"/>
                <a:gridCol w="1081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2050920" y="4581360"/>
          <a:ext cx="2016000" cy="1065240"/>
        </p:xfrm>
        <a:graphic>
          <a:graphicData uri="http://schemas.openxmlformats.org/drawingml/2006/table">
            <a:tbl>
              <a:tblPr/>
              <a:tblGrid>
                <a:gridCol w="431640"/>
                <a:gridCol w="1584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5003640" y="3213000"/>
          <a:ext cx="1873080" cy="1460520"/>
        </p:xfrm>
        <a:graphic>
          <a:graphicData uri="http://schemas.openxmlformats.org/drawingml/2006/table">
            <a:tbl>
              <a:tblPr/>
              <a:tblGrid>
                <a:gridCol w="1009440"/>
                <a:gridCol w="863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um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dentificadores con “a” para alumnos y “c” para cursos, así se entiende mej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s-CL" sz="2600" spc="-1" strike="noStrike">
                <a:solidFill>
                  <a:srgbClr val="003399"/>
                </a:solidFill>
                <a:latin typeface="Arial"/>
              </a:rPr>
              <a:t>From Alumnos as a, Curso as c,TomaCurso as tc” implica la combinación de </a:t>
            </a: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TODO con TOD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900000" y="1557360"/>
          <a:ext cx="7272360" cy="436068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where c.nombre = “Computación”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900000" y="1557360"/>
          <a:ext cx="7272360" cy="436068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and c.id =  tc.curs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900000" y="1557360"/>
          <a:ext cx="7272360" cy="235116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and tc.alumno =  a.i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900000" y="1557360"/>
          <a:ext cx="7272360" cy="101124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select a.nombre, a.apellid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900000" y="1557360"/>
          <a:ext cx="7272360" cy="67608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GB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76438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Resultado Fina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843280" y="1557360"/>
          <a:ext cx="2376360" cy="676080"/>
        </p:xfrm>
        <a:graphic>
          <a:graphicData uri="http://schemas.openxmlformats.org/drawingml/2006/table">
            <a:tbl>
              <a:tblPr/>
              <a:tblGrid>
                <a:gridCol w="1223640"/>
                <a:gridCol w="1152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2060280"/>
            <a:ext cx="762336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¿Preguntas?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rabajo Práctic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ibuje un modelo entidad-relación que modele la información de asociada a los pacientes de un centro méd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u modelo, debe incluir al menos la siguiente inform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c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isitas/consultas méd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ám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istorial méd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be incluir las entidades y relaciones que estime conveniente, además de las correspondientes cardina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ceptos Básicos: SGB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ambién sirve para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ducir la redundancia en la B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segurar la consistencia de los d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antener la integridad ante fallas (datos malos, fallas de hardware, cortes de luz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roveer algún tipo de seguridad al acceder la B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trolar el acceso concurr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jorar la efici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GB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BMS Grat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4c6d80"/>
                </a:solidFill>
                <a:uFillTx/>
                <a:latin typeface="Arial"/>
                <a:hlinkClick r:id="rId1"/>
              </a:rPr>
              <a:t>mySQ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4c6d80"/>
                </a:solidFill>
                <a:uFillTx/>
                <a:latin typeface="Arial"/>
                <a:hlinkClick r:id="rId2"/>
              </a:rPr>
              <a:t>PostgreSQ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4c6d80"/>
                </a:solidFill>
                <a:uFillTx/>
                <a:latin typeface="Arial"/>
                <a:hlinkClick r:id="rId3"/>
              </a:rPr>
              <a:t>Firebi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4c6d80"/>
                </a:solidFill>
                <a:uFillTx/>
                <a:latin typeface="Arial"/>
                <a:hlinkClick r:id="rId4"/>
              </a:rPr>
              <a:t>SQL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BMS Comerc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S Ac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S SQL 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Tipos de Bases de Dat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Una clasificación posible es dado el tipo de organización en la base de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BD Jer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rqu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BD de 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BD Relacion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Jer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rquic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structura de árbol: nodo padre tiene muchos nodos hij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uy eficiente pues los sistemas de archivo son jer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rqu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ntr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laciones son unidireccionales: 1: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fícil evitar la redundancia </a:t>
            </a:r>
            <a:r>
              <a:rPr b="0" lang="es-ES_tradn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inconsist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Jer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rquic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ino Ani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ursos y Alumn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344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81880" y="337032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utac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02520" y="46530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. Ro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054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34880" y="4653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. Sal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198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16720" y="2492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50880" y="24922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9308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23600" y="33577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g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19360" y="342900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27000" y="4365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19360" y="429264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295360" y="2637000"/>
            <a:ext cx="1919880" cy="457200"/>
            <a:chOff x="2295360" y="2637000"/>
            <a:chExt cx="1919880" cy="457200"/>
          </a:xfrm>
        </p:grpSpPr>
        <p:sp>
          <p:nvSpPr>
            <p:cNvPr id="118" name=""/>
            <p:cNvSpPr/>
            <p:nvPr/>
          </p:nvSpPr>
          <p:spPr>
            <a:xfrm>
              <a:off x="2295360" y="2637000"/>
              <a:ext cx="457200" cy="457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79840" y="266076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eino Anim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26880" y="35002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13160" y="4869000"/>
            <a:ext cx="12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m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f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7520" y="48690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34960" y="4797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40080" y="4365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1720" y="344016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55840" y="346392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18" idx="4"/>
            <a:endCxn id="114" idx="0"/>
          </p:cNvCxnSpPr>
          <p:nvPr/>
        </p:nvCxnSpPr>
        <p:spPr>
          <a:xfrm flipH="1">
            <a:off x="1947960" y="3094200"/>
            <a:ext cx="57636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stCxn id="118" idx="4"/>
            <a:endCxn id="125" idx="0"/>
          </p:cNvCxnSpPr>
          <p:nvPr/>
        </p:nvCxnSpPr>
        <p:spPr>
          <a:xfrm>
            <a:off x="2523600" y="3093840"/>
            <a:ext cx="577080" cy="34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" name=""/>
          <p:cNvCxnSpPr>
            <a:stCxn id="114" idx="4"/>
            <a:endCxn id="115" idx="0"/>
          </p:cNvCxnSpPr>
          <p:nvPr/>
        </p:nvCxnSpPr>
        <p:spPr>
          <a:xfrm flipH="1">
            <a:off x="1154880" y="3886200"/>
            <a:ext cx="79308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" name=""/>
          <p:cNvCxnSpPr>
            <a:stCxn id="114" idx="4"/>
            <a:endCxn id="116" idx="0"/>
          </p:cNvCxnSpPr>
          <p:nvPr/>
        </p:nvCxnSpPr>
        <p:spPr>
          <a:xfrm>
            <a:off x="1947600" y="3885840"/>
            <a:ext cx="1080" cy="40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" name=""/>
          <p:cNvCxnSpPr>
            <a:stCxn id="114" idx="4"/>
            <a:endCxn id="124" idx="0"/>
          </p:cNvCxnSpPr>
          <p:nvPr/>
        </p:nvCxnSpPr>
        <p:spPr>
          <a:xfrm>
            <a:off x="1947960" y="3886200"/>
            <a:ext cx="72144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" name=""/>
          <p:cNvCxnSpPr>
            <a:stCxn id="110" idx="4"/>
            <a:endCxn id="104" idx="0"/>
          </p:cNvCxnSpPr>
          <p:nvPr/>
        </p:nvCxnSpPr>
        <p:spPr>
          <a:xfrm flipH="1">
            <a:off x="6241680" y="2949480"/>
            <a:ext cx="50400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" name=""/>
          <p:cNvCxnSpPr>
            <a:stCxn id="104" idx="4"/>
            <a:endCxn id="107" idx="0"/>
          </p:cNvCxnSpPr>
          <p:nvPr/>
        </p:nvCxnSpPr>
        <p:spPr>
          <a:xfrm flipH="1">
            <a:off x="5733360" y="3814920"/>
            <a:ext cx="5086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4" name=""/>
          <p:cNvCxnSpPr>
            <a:stCxn id="104" idx="4"/>
            <a:endCxn id="109" idx="0"/>
          </p:cNvCxnSpPr>
          <p:nvPr/>
        </p:nvCxnSpPr>
        <p:spPr>
          <a:xfrm>
            <a:off x="6241680" y="3814920"/>
            <a:ext cx="40716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5" name=""/>
          <p:cNvCxnSpPr>
            <a:stCxn id="110" idx="4"/>
            <a:endCxn id="112" idx="0"/>
          </p:cNvCxnSpPr>
          <p:nvPr/>
        </p:nvCxnSpPr>
        <p:spPr>
          <a:xfrm>
            <a:off x="6744960" y="2949480"/>
            <a:ext cx="57708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36" name=""/>
          <p:cNvGrpSpPr/>
          <p:nvPr/>
        </p:nvGrpSpPr>
        <p:grpSpPr>
          <a:xfrm>
            <a:off x="7021440" y="3814920"/>
            <a:ext cx="1871640" cy="2278080"/>
            <a:chOff x="7021440" y="3814920"/>
            <a:chExt cx="1871640" cy="2278080"/>
          </a:xfrm>
        </p:grpSpPr>
        <p:cxnSp>
          <p:nvCxnSpPr>
            <p:cNvPr id="137" name=""/>
            <p:cNvCxnSpPr>
              <a:stCxn id="112" idx="4"/>
              <a:endCxn id="138" idx="0"/>
            </p:cNvCxnSpPr>
            <p:nvPr/>
          </p:nvCxnSpPr>
          <p:spPr>
            <a:xfrm>
              <a:off x="7321320" y="3814920"/>
              <a:ext cx="72144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9" name=""/>
            <p:cNvSpPr/>
            <p:nvPr/>
          </p:nvSpPr>
          <p:spPr>
            <a:xfrm>
              <a:off x="7670880" y="465300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. Roj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13440" y="4149720"/>
              <a:ext cx="457200" cy="457200"/>
            </a:xfrm>
            <a:prstGeom prst="ellipse">
              <a:avLst/>
            </a:prstGeom>
            <a:solidFill>
              <a:srgbClr val="4c6d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21440" y="5157720"/>
              <a:ext cx="1871640" cy="935280"/>
            </a:xfrm>
            <a:prstGeom prst="irregularSeal1">
              <a:avLst/>
            </a:prstGeom>
            <a:solidFill>
              <a:srgbClr val="4c6d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Redunda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01:09:36Z</dcterms:created>
  <dc:creator/>
  <dc:description/>
  <dc:language>en-US</dc:language>
  <cp:lastModifiedBy>rtoledo</cp:lastModifiedBy>
  <dcterms:modified xsi:type="dcterms:W3CDTF">2010-05-14T18:12:29Z</dcterms:modified>
  <cp:revision>240</cp:revision>
  <dc:subject/>
  <dc:title>Bases de Datos</dc:title>
</cp:coreProperties>
</file>