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6.jpeg" ContentType="image/jpeg"/>
  <Override PartName="/ppt/media/image27.jpeg" ContentType="image/jpeg"/>
  <Override PartName="/ppt/media/image22.jpeg" ContentType="image/jpeg"/>
  <Override PartName="/ppt/media/image21.png" ContentType="image/png"/>
  <Override PartName="/ppt/media/image19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552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94020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50560" y="698040"/>
            <a:ext cx="465300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4F2E-41C6-4CB2-BB15-E1B892BB6DB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07AD-E2DC-413D-BC6D-A41E906220A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0288-7E95-4D0A-9DD6-036A3197442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B25B-BFC2-432B-97E3-461AA8B57DA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1F8D-5B85-461F-9F9F-1CAD3A97AFC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DA86-CADD-4101-8FD6-106B2B2B4B1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0725-4F72-4E4F-96E6-506A09EFFD4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367D8-C67A-4BA0-863B-E4C974E0B3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2236D-BE42-4B4C-8F8E-F818380333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E51D6-F71D-4BD1-8555-B1C7F5F94E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EF8C2-5344-4D1D-9EC8-C9CFD3A041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D2E9D-8714-4D60-A11A-547565C90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3C542-6A78-4FF2-8962-324FA2DB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A8A9C-ECDE-4035-88E2-39A8238B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87413-3B28-4161-8EE9-72DB2D7F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0FE9E-F090-4118-AB1D-5BAA1B5F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6CF6A-A398-4524-9262-63B95B13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ABA7F-1269-4113-A82B-3A1922FE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5394A-50E0-4189-8680-FACF4F837F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B6FAE-5CE6-4A3A-B777-D7AFD7BD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ACB41-C232-4F18-B00E-6DD1E493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40674-E70E-4764-921D-CBC191E5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99400-029F-4577-A64D-66523274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1D7C2-2030-44D5-B37F-B7BFE73AF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1D2A3-0E91-4368-A1A7-7F2A19C11D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67255-83C0-4509-8468-A69D682FE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5D926-4F27-477F-8FB2-9EB513D922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06230-F9AB-44BA-A192-C60DEA7D9E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79634-279F-4950-B491-78A18726DC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66513-C99D-418E-8148-E213F03945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49EC8-91F9-44E1-872D-C188E8738A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248160"/>
            <a:ext cx="55515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ecnolog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í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é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dica, Universidad de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B042-C1B8-4892-AC7B-795CF3974AC0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1031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032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D9D8-8E90-49C7-8CFC-0FA5FB40E1B7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Hardware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Rectangle 1027"/>
          <p:cNvSpPr/>
          <p:nvPr/>
        </p:nvSpPr>
        <p:spPr>
          <a:xfrm>
            <a:off x="2197080" y="4178160"/>
            <a:ext cx="6553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cnología Mé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Cuarta Generación de Computadora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icroprocesad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icroprocesador: desarrollado por Intel Corpor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Se minimizan los circuitos, aumenta la capacidad de almace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Reduce el tiempo de respue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Gran expansión del uso de las computado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emorias electrónicas más rápid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Sistemas de tratamiento de base de dat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Generalización de las aplic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ultiproces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icrocomput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Un computador por dentr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5" name="Picture 5" descr="http://evilpixel.org/blog/images/154.jpg"/>
          <p:cNvPicPr/>
          <p:nvPr/>
        </p:nvPicPr>
        <p:blipFill>
          <a:blip r:embed="rId1"/>
          <a:stretch/>
        </p:blipFill>
        <p:spPr>
          <a:xfrm>
            <a:off x="1332000" y="1268280"/>
            <a:ext cx="648000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omponent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laca Mad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roces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emor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eriférico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ctores de medios ópticos (CD/DVD/Blu-ray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eclado/Mo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Placa Madre (motherboard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 base del sistema donde se sitúan los componentes del computador: procesador, memoria, conectores, tarjetas de expans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http://www.germes-online.com/direct/dbimage/50140474/810ET_Motherboard.jpg"/>
          <p:cNvPicPr/>
          <p:nvPr/>
        </p:nvPicPr>
        <p:blipFill>
          <a:blip r:embed="rId1"/>
          <a:stretch/>
        </p:blipFill>
        <p:spPr>
          <a:xfrm>
            <a:off x="5148360" y="177336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Procesador (CPU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ealiza todas las operaciones de cálculo y controla lo que pasa en el computador recibiendo información y dando órdenes para que los demás componentes trabaj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3" descr="http://www.instablogsimages.com/images/2008/01/30/3d-cpu_5913.jpg"/>
          <p:cNvPicPr/>
          <p:nvPr/>
        </p:nvPicPr>
        <p:blipFill>
          <a:blip r:embed="rId1"/>
          <a:stretch/>
        </p:blipFill>
        <p:spPr>
          <a:xfrm>
            <a:off x="5292720" y="3716280"/>
            <a:ext cx="2919240" cy="218916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7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1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6" descr="http://www.zonalibre.com.uy/catalog/images/categorias/cpu_intel.jpg"/>
          <p:cNvPicPr/>
          <p:nvPr/>
        </p:nvPicPr>
        <p:blipFill>
          <a:blip r:embed="rId2"/>
          <a:stretch/>
        </p:blipFill>
        <p:spPr>
          <a:xfrm>
            <a:off x="5435640" y="126828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emori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Primar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emoria principal (RA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egist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Secundaria, terciaria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iscos du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VD, C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endr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mparaci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33520" y="1066680"/>
          <a:ext cx="8229600" cy="4970520"/>
        </p:xfrm>
        <a:graphic>
          <a:graphicData uri="http://schemas.openxmlformats.org/drawingml/2006/table">
            <a:tbl>
              <a:tblPr/>
              <a:tblGrid>
                <a:gridCol w="2163600"/>
                <a:gridCol w="2595600"/>
                <a:gridCol w="347040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ia (RA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memo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áti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ontenido se pierd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anen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ontenido se mantie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oc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ápida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~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s-E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g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ta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~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0</a:t>
                      </a:r>
                      <a:r>
                        <a:rPr b="0" lang="es-E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g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 acce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an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cualquier lug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pende de cercanía a cabez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ato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~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00 veces men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ada (máx ~8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or (máx ~1000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emoria principal (RAM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AM: Memoria de acceso </a:t>
            </a: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aleatorio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os datos pueden ser leídos o escritos de manera inmediata en cualquier parte de su estruct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2" descr="http://miprogramacion.files.wordpress.com/2008/04/300px-ram_n.jpg"/>
          <p:cNvPicPr/>
          <p:nvPr/>
        </p:nvPicPr>
        <p:blipFill>
          <a:blip r:embed="rId1"/>
          <a:stretch/>
        </p:blipFill>
        <p:spPr>
          <a:xfrm>
            <a:off x="5364000" y="1268280"/>
            <a:ext cx="2943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emoria cache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emoria especial de acceso muy ráp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iempos de acceso son nanosegun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1 y L2: poca memoria muy rápi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" descr="http://img.zdnet.com/techDirectory/CACHEMEM.GIF"/>
          <p:cNvPicPr/>
          <p:nvPr/>
        </p:nvPicPr>
        <p:blipFill>
          <a:blip r:embed="rId1"/>
          <a:stretch/>
        </p:blipFill>
        <p:spPr>
          <a:xfrm>
            <a:off x="4716360" y="1413000"/>
            <a:ext cx="403884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Disco Dur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La información se guarda como pequeños imanes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agnetorresis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476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Capacidad de los materiales de aumentar/disminuir su resistencia eléctrica cuando son sometidos a un campo magnétic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http://www.upgradecomputermemory.com/images/products/large/500gb-desktop-3-5-sata-hard-drive-dhd-s500.jpg"/>
          <p:cNvPicPr/>
          <p:nvPr/>
        </p:nvPicPr>
        <p:blipFill>
          <a:blip r:embed="rId1"/>
          <a:stretch/>
        </p:blipFill>
        <p:spPr>
          <a:xfrm>
            <a:off x="5364000" y="1125360"/>
            <a:ext cx="2476800" cy="24768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4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2" descr="http://i.ehow.com/images/GlobalPhoto/Articles/6026/harddrive_Full.jpg"/>
          <p:cNvPicPr/>
          <p:nvPr/>
        </p:nvPicPr>
        <p:blipFill>
          <a:blip r:embed="rId2"/>
          <a:stretch/>
        </p:blipFill>
        <p:spPr>
          <a:xfrm>
            <a:off x="4932360" y="3645000"/>
            <a:ext cx="3598920" cy="2398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tocadiscos"/>
          <p:cNvPicPr/>
          <p:nvPr/>
        </p:nvPicPr>
        <p:blipFill>
          <a:blip r:embed="rId3"/>
          <a:stretch/>
        </p:blipFill>
        <p:spPr>
          <a:xfrm>
            <a:off x="900000" y="4005360"/>
            <a:ext cx="373392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omput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isciplina que estudia el tratamiento automático de la información utilizando dispositivos electrónico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res tareas básic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ntrada: Captación de la inform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roceso: Tratamiento de la inform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alida: Transmisión de result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Periféric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trada y salida de informaci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l computa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http://www.harting.se/imperia/md/images/lg/hartingconnectivitynetworks/products/interfaceconnectors/00_interface_connectors_overview_700_500x333.jpg"/>
          <p:cNvPicPr/>
          <p:nvPr/>
        </p:nvPicPr>
        <p:blipFill>
          <a:blip r:embed="rId1"/>
          <a:stretch/>
        </p:blipFill>
        <p:spPr>
          <a:xfrm>
            <a:off x="900000" y="3573360"/>
            <a:ext cx="3287880" cy="2189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http://www.cksinfo.com/clipart/electronics/computers/connectors/PC-ports.png"/>
          <p:cNvPicPr/>
          <p:nvPr/>
        </p:nvPicPr>
        <p:blipFill>
          <a:blip r:embed="rId2"/>
          <a:stretch/>
        </p:blipFill>
        <p:spPr>
          <a:xfrm>
            <a:off x="4572000" y="1413000"/>
            <a:ext cx="42084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3399"/>
                </a:solidFill>
                <a:latin typeface="Arial"/>
              </a:rPr>
              <a:t>Lectores de medios ópticos (CD/DVD/Blu-ray)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 láser mide la distancia desde la capa reflectante hasta el detector del lá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olo existen 2 distancias (0 y 1) y un sector que representa el fin de los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rcRect l="15549" t="18930" r="10626" b="13382"/>
          <a:stretch/>
        </p:blipFill>
        <p:spPr>
          <a:xfrm>
            <a:off x="4859280" y="1916280"/>
            <a:ext cx="40384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onitor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475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ermiten desplegar de manera visual la información generada por el comput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2" descr="http://www.kentmusictechnology.co.uk/images/17%20CRT.jpg"/>
          <p:cNvPicPr/>
          <p:nvPr/>
        </p:nvPicPr>
        <p:blipFill>
          <a:blip r:embed="rId1"/>
          <a:stretch/>
        </p:blipFill>
        <p:spPr>
          <a:xfrm>
            <a:off x="5148360" y="1413000"/>
            <a:ext cx="1655640" cy="165564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5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http://www.techfresh.net/wp-content/uploads/2006/11/benq-world-fastest-lcd-monitor.jpg"/>
          <p:cNvPicPr/>
          <p:nvPr/>
        </p:nvPicPr>
        <p:blipFill>
          <a:blip r:embed="rId2"/>
          <a:stretch/>
        </p:blipFill>
        <p:spPr>
          <a:xfrm>
            <a:off x="7020000" y="2568600"/>
            <a:ext cx="1913040" cy="2189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8" descr="http://www.bhphotovideo.com/images/images345x345/589452.jpg"/>
          <p:cNvPicPr/>
          <p:nvPr/>
        </p:nvPicPr>
        <p:blipFill>
          <a:blip r:embed="rId3"/>
          <a:stretch/>
        </p:blipFill>
        <p:spPr>
          <a:xfrm>
            <a:off x="4089240" y="402120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eclado / Mouse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Arial"/>
              </a:rPr>
              <a:t>Periféricos para introducir datos al computado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2" descr="http://closedstacks.files.wordpress.com/2009/01/keyboard.jpg"/>
          <p:cNvPicPr/>
          <p:nvPr/>
        </p:nvPicPr>
        <p:blipFill>
          <a:blip r:embed="rId1"/>
          <a:stretch/>
        </p:blipFill>
        <p:spPr>
          <a:xfrm>
            <a:off x="468360" y="3789360"/>
            <a:ext cx="4038480" cy="195408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5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5" descr="http://www.pergaminovirtual.com.ar/revista/cgi-bin/hoy/archivos/2005/mouse-lector-huellas-biometrico.JPG"/>
          <p:cNvPicPr/>
          <p:nvPr/>
        </p:nvPicPr>
        <p:blipFill>
          <a:blip r:embed="rId2"/>
          <a:stretch/>
        </p:blipFill>
        <p:spPr>
          <a:xfrm>
            <a:off x="5219640" y="1125360"/>
            <a:ext cx="2521080" cy="2241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8" descr="http://www.linuxla.cl/wp-content/uploads/21-07-2008/mouse.jpg"/>
          <p:cNvPicPr/>
          <p:nvPr/>
        </p:nvPicPr>
        <p:blipFill>
          <a:blip r:embed="rId3"/>
          <a:stretch/>
        </p:blipFill>
        <p:spPr>
          <a:xfrm>
            <a:off x="4859280" y="3429000"/>
            <a:ext cx="337824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3399"/>
                </a:solidFill>
                <a:latin typeface="Arial"/>
              </a:rPr>
              <a:t>¿Que necesito saber para elegir un computador?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Para qué lo voy a us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ternet, correo electrónico, procesador de texto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ción de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álisis de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Jue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Qué sistema operativo usaré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Pienso en expandirl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uántas personas lo usar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U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2-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ás de 10 perso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o que se necesit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050560" y="1599840"/>
            <a:ext cx="66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Internet, correo electrónico, procesador de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o requiere grandes recursos de siste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tación de Tr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rga normal de procesamiento con o sin carga de almace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nálisis de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lta carga de procesamiento, memoria, y almace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Jueg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lta carga de procesamiento de datos y gráficos, uso intensivo de la memoria y almace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4"/>
          <p:cNvGrpSpPr/>
          <p:nvPr/>
        </p:nvGrpSpPr>
        <p:grpSpPr>
          <a:xfrm>
            <a:off x="395280" y="1341360"/>
            <a:ext cx="1671120" cy="4797360"/>
            <a:chOff x="395280" y="1341360"/>
            <a:chExt cx="1671120" cy="4797360"/>
          </a:xfrm>
        </p:grpSpPr>
        <p:sp>
          <p:nvSpPr>
            <p:cNvPr id="193" name="3 Flecha abajo"/>
            <p:cNvSpPr/>
            <p:nvPr/>
          </p:nvSpPr>
          <p:spPr>
            <a:xfrm>
              <a:off x="731520" y="1770120"/>
              <a:ext cx="999720" cy="3857400"/>
            </a:xfrm>
            <a:prstGeom prst="downArrow">
              <a:avLst>
                <a:gd name="adj1" fmla="val 50000"/>
                <a:gd name="adj2" fmla="val 50017"/>
              </a:avLst>
            </a:prstGeom>
            <a:gradFill rotWithShape="0">
              <a:gsLst>
                <a:gs pos="0">
                  <a:srgbClr val="ff8080"/>
                </a:gs>
                <a:gs pos="100000">
                  <a:srgbClr val="ffdada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4 CuadroTexto"/>
            <p:cNvSpPr/>
            <p:nvPr/>
          </p:nvSpPr>
          <p:spPr>
            <a:xfrm>
              <a:off x="514440" y="5770440"/>
              <a:ext cx="142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Calibri"/>
                </a:rPr>
                <a:t>Más exig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5 CuadroTexto"/>
            <p:cNvSpPr/>
            <p:nvPr/>
          </p:nvSpPr>
          <p:spPr>
            <a:xfrm>
              <a:off x="395280" y="1341360"/>
              <a:ext cx="16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Calibri"/>
                </a:rPr>
                <a:t>Menos exig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¿Que elegir hoy?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Proces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X86/x64 (AMD/Inte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UltraSparc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emor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DDR2 o DDR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arjeta Mad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Monoprocesad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Multiprocesad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arjeta de Vid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Integr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No integr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2 Marcador de contenido"/>
          <p:cNvSpPr/>
          <p:nvPr/>
        </p:nvSpPr>
        <p:spPr>
          <a:xfrm>
            <a:off x="4559400" y="1603440"/>
            <a:ext cx="4114800" cy="45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arjeta de So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teg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 integ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Gabinete (fuente de pod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onitor (tamañ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ecl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isco de almace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ectores de medios ópt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Impres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cá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áma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quinas de Turing y Computador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191120" cy="3591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DellComputer"/>
          <p:cNvPicPr/>
          <p:nvPr/>
        </p:nvPicPr>
        <p:blipFill>
          <a:blip r:embed="rId2"/>
          <a:stretch/>
        </p:blipFill>
        <p:spPr>
          <a:xfrm>
            <a:off x="4800600" y="2133720"/>
            <a:ext cx="4000680" cy="29336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2004480" y="533412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quina abstra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6100560" y="5348160"/>
            <a:ext cx="14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quina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4191120" y="5334120"/>
            <a:ext cx="1600200" cy="457200"/>
          </a:xfrm>
          <a:prstGeom prst="leftRightArrow">
            <a:avLst>
              <a:gd name="adj1" fmla="val 50000"/>
              <a:gd name="adj2" fmla="val 69676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Definición Hardware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mponentes físicos de una computado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tretch/>
        </p:blipFill>
        <p:spPr>
          <a:xfrm>
            <a:off x="1187280" y="2492280"/>
            <a:ext cx="3068640" cy="3181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http://webdelprofesor.ula.ve/economia/dougil/HISTORIA%20DE%20LA%20COMPUTCION_archivos/image028.jpg"/>
          <p:cNvPicPr/>
          <p:nvPr/>
        </p:nvPicPr>
        <p:blipFill>
          <a:blip r:embed="rId2"/>
          <a:stretch/>
        </p:blipFill>
        <p:spPr>
          <a:xfrm>
            <a:off x="5076720" y="2565360"/>
            <a:ext cx="25434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Una M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quina de Turing “real”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7" name="Picture 5" descr="The_LEGO_Turing_Machine"/>
          <p:cNvPicPr/>
          <p:nvPr/>
        </p:nvPicPr>
        <p:blipFill>
          <a:blip r:embed="rId1"/>
          <a:stretch/>
        </p:blipFill>
        <p:spPr>
          <a:xfrm>
            <a:off x="2050920" y="198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Primera Generación de Computadora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ulbos para procesar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stituidos por tubos de vacío, desprendían bastante calor y tenían una vida relativamente c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áquinas grandes y pes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o consumo de ener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macenamiento de la información en tambor magnético i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o co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so de tarjetas perforadas para suministrar datos de progra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059280" y="4508640"/>
            <a:ext cx="32144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Segunda Generación de Computadora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ransistor como componente principal. El componente principal es un pequeño trozo de semiconductor, y se expone en los llamados circuitos transist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isminución del tamaño,  consumo y producción de ca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ayor rapide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emorias internas de núcleos de ferri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lmacenamiento: cintas y dis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ey de Moore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4" name="Picture 9" descr="http://petra.euitio.uniovi.es/~arrai/historia/trilobytes/5-Moore%20y%20la%20ley%20de%20Moore/imagenes/moore.jpg"/>
          <p:cNvPicPr/>
          <p:nvPr/>
        </p:nvPicPr>
        <p:blipFill>
          <a:blip r:embed="rId1"/>
          <a:stretch/>
        </p:blipFill>
        <p:spPr>
          <a:xfrm>
            <a:off x="7812000" y="333360"/>
            <a:ext cx="1067040" cy="1368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http://7ecnologia.com/wp-content/uploads/2009/04/lei_de_moore_2006svg.png"/>
          <p:cNvPicPr/>
          <p:nvPr/>
        </p:nvPicPr>
        <p:blipFill>
          <a:blip r:embed="rId2"/>
          <a:stretch/>
        </p:blipFill>
        <p:spPr>
          <a:xfrm>
            <a:off x="468360" y="1054080"/>
            <a:ext cx="719136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1 Título"/>
          <p:cNvSpPr/>
          <p:nvPr/>
        </p:nvSpPr>
        <p:spPr>
          <a:xfrm>
            <a:off x="357120" y="357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9 Grupo"/>
          <p:cNvGrpSpPr/>
          <p:nvPr/>
        </p:nvGrpSpPr>
        <p:grpSpPr>
          <a:xfrm>
            <a:off x="5843520" y="4454640"/>
            <a:ext cx="2696400" cy="1674720"/>
            <a:chOff x="5843520" y="4454640"/>
            <a:chExt cx="2696400" cy="1674720"/>
          </a:xfrm>
        </p:grpSpPr>
        <p:pic>
          <p:nvPicPr>
            <p:cNvPr id="118" name="Picture 2" descr=""/>
            <p:cNvPicPr/>
            <p:nvPr/>
          </p:nvPicPr>
          <p:blipFill>
            <a:blip r:embed="rId1"/>
            <a:stretch/>
          </p:blipFill>
          <p:spPr>
            <a:xfrm>
              <a:off x="5843520" y="4454640"/>
              <a:ext cx="1908360" cy="16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8 Rectángulo"/>
            <p:cNvSpPr/>
            <p:nvPr/>
          </p:nvSpPr>
          <p:spPr>
            <a:xfrm>
              <a:off x="7755840" y="5004720"/>
              <a:ext cx="78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Calibri"/>
                </a:rPr>
                <a:t>IBM 3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Tercera Generación de Computadora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ircuitos Integr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ircuitos integrados, miniaturización y reunión de centenares de elementos en una placa de silicio o (chi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enor consumo de energía, reducción de espa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Aumenta la capacidad de almacenamiento y se reduce el tiempo de respue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ompatibilidad para compartir software entre diversos equip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ultiprogram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a mini computad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8:45:24Z</dcterms:created>
  <dc:creator>Elias Leiva-Salcedo</dc:creator>
  <dc:description/>
  <dc:language>en-US</dc:language>
  <cp:lastModifiedBy>Valeria Herskovic</cp:lastModifiedBy>
  <dcterms:modified xsi:type="dcterms:W3CDTF">2010-08-24T17:56:21Z</dcterms:modified>
  <cp:revision>178</cp:revision>
  <dc:subject/>
  <dc:title>Diapositiva 1</dc:title>
</cp:coreProperties>
</file>