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4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26.jpeg" ContentType="image/jpeg"/>
  <Override PartName="/ppt/media/image27.jpeg" ContentType="image/jpeg"/>
  <Override PartName="/ppt/media/image22.jpeg" ContentType="image/jpeg"/>
  <Override PartName="/ppt/media/image21.png" ContentType="image/png"/>
  <Override PartName="/ppt/media/image19.jpeg" ContentType="image/jpeg"/>
  <Override PartName="/ppt/media/image16.jpeg" ContentType="image/jpeg"/>
  <Override PartName="/ppt/media/image24.jpeg" ContentType="image/jpeg"/>
  <Override PartName="/ppt/media/image15.png" ContentType="image/png"/>
  <Override PartName="/ppt/media/image1.png" ContentType="image/pn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954838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552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6"/>
          </p:nvPr>
        </p:nvSpPr>
        <p:spPr>
          <a:xfrm>
            <a:off x="3940200" y="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50560" y="698040"/>
            <a:ext cx="4653000" cy="34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7"/>
          </p:nvPr>
        </p:nvSpPr>
        <p:spPr>
          <a:xfrm>
            <a:off x="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8"/>
          </p:nvPr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1D218-F4B5-4578-8A11-16390D5524CD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3 Marcador de número de diapositiva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CB68-EA49-4B3A-B8F5-AA59A0929657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3 Marcador de número de diapositiva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8CB63-7629-4830-A8EC-19102CB88830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3 Marcador de número de diapositiva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0DA98-AAD3-4961-9660-7F6AC4701A86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3 Marcador de número de diapositiva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51C62-1F82-4BBE-B33E-B65805B5D558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3 Marcador de número de diapositiva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65A8D-1079-4A16-A7FE-D27796C19EAE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3 Marcador de número de diapositiva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0D8A5-F94C-489F-BB9B-4D0BC2A3B0BD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E4297-06A8-4DC8-9D39-5AD27FEC5F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756B6-AD02-4B78-8546-28B5B4C447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290F1-4FEC-4DC5-B526-5A33BDA44E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AA313-F57A-4AF3-961A-418A9BC2ED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A2D19D-6C7E-4FEA-A3E6-3B88823AC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D10F4C-5782-4ED5-BDF7-22BAA24F2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76CD37-7CE1-41E0-B94A-93D17D89A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744BE1-112C-43D9-A6E1-88C5A6B4F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4C375E-83C5-4C72-A3F3-60C7597AB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517D4E-989F-4986-89EA-7AE315DEF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FE28C7-BA6E-49B4-9948-40A65771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B0F66-0967-4A2D-9A2A-B32669B8CD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D8053C-86E1-4AD1-B2FF-7ADD95FE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939CEB-4F7F-4482-B27B-C506A26F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64B5B1-1F41-4D49-BB63-23D835E45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7D436C-CC44-4958-B9A7-5B29A0AD4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F55C73-9EE7-4C04-85F7-9EFC1521E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E06AB-DFE5-4860-813B-2AC7FDDFCE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FABD3-914B-4C24-B030-798AD93FA1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268EB-95B1-42B2-98E6-9D5E5F3A71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FE06C-9920-457C-B425-AD7A2813CF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2D27F-1598-42C7-9835-0F3724A207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D28DE-5EAD-4E49-9551-4D0509F389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398F2-F910-42E9-AAB0-46EB82177C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8000" y="6248160"/>
            <a:ext cx="555156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ecnolog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í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a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é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dica, Universidad de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94130-99C5-4658-BD78-B5BFDE2577BA}" type="slidenum"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Freeform 1031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1032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C323A-F474-4AC5-B6BC-43F25269E31B}" type="slidenum"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03399"/>
                </a:solidFill>
                <a:latin typeface="Arial"/>
              </a:rPr>
              <a:t>Hardware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Rectangle 1027"/>
          <p:cNvSpPr/>
          <p:nvPr/>
        </p:nvSpPr>
        <p:spPr>
          <a:xfrm>
            <a:off x="2197080" y="4178160"/>
            <a:ext cx="65530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ecnología Méd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3399"/>
                </a:solidFill>
                <a:latin typeface="Arial"/>
              </a:rPr>
              <a:t>Cuarta Generación de Computadoras</a:t>
            </a:r>
            <a:endParaRPr b="0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Microprocesado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Microprocesador: desarrollado por Intel Corpor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Se minimizan los circuitos, aumenta la capacidad de almacena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Reduce el tiempo de respues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Gran expansión del uso de las computador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Memorias electrónicas más rápida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Sistemas de tratamiento de base de dat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Generalización de las aplica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Multiproces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Microcomputa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Un computador por dentr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5" name="Picture 5" descr="http://evilpixel.org/blog/images/154.jpg"/>
          <p:cNvPicPr/>
          <p:nvPr/>
        </p:nvPicPr>
        <p:blipFill>
          <a:blip r:embed="rId1"/>
          <a:stretch/>
        </p:blipFill>
        <p:spPr>
          <a:xfrm>
            <a:off x="1332000" y="1268280"/>
            <a:ext cx="6480000" cy="48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Componente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laca Mad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rocesad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Memori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eriférico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ectores de medios ópticos (CD/DVD/Blu-ray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Teclado/Mou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Placa Madre (motherboard)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330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La base del sistema donde se sitúan los componentes del computador: procesador, memoria, conectores, tarjetas de expans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http://www.germes-online.com/direct/dbimage/50140474/810ET_Motherboard.jpg"/>
          <p:cNvPicPr/>
          <p:nvPr/>
        </p:nvPicPr>
        <p:blipFill>
          <a:blip r:embed="rId1"/>
          <a:stretch/>
        </p:blipFill>
        <p:spPr>
          <a:xfrm>
            <a:off x="5148360" y="177336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Procesador (CPU)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Realiza todas las operaciones de cálculo y controla lo que pasa en el computador recibiendo información y dando órdenes para que los demás componentes trabaj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3" descr="http://www.instablogsimages.com/images/2008/01/30/3d-cpu_5913.jpg"/>
          <p:cNvPicPr/>
          <p:nvPr/>
        </p:nvPicPr>
        <p:blipFill>
          <a:blip r:embed="rId1"/>
          <a:stretch/>
        </p:blipFill>
        <p:spPr>
          <a:xfrm>
            <a:off x="5292720" y="3716280"/>
            <a:ext cx="2919240" cy="218916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7"/>
          <p:cNvSpPr/>
          <p:nvPr/>
        </p:nvSpPr>
        <p:spPr>
          <a:xfrm>
            <a:off x="6081840" y="4876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9"/>
          <p:cNvSpPr/>
          <p:nvPr/>
        </p:nvSpPr>
        <p:spPr>
          <a:xfrm>
            <a:off x="7388280" y="2263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1"/>
          <p:cNvSpPr/>
          <p:nvPr/>
        </p:nvSpPr>
        <p:spPr>
          <a:xfrm>
            <a:off x="5979960" y="34545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6" descr="http://www.zonalibre.com.uy/catalog/images/categorias/cpu_intel.jpg"/>
          <p:cNvPicPr/>
          <p:nvPr/>
        </p:nvPicPr>
        <p:blipFill>
          <a:blip r:embed="rId2"/>
          <a:stretch/>
        </p:blipFill>
        <p:spPr>
          <a:xfrm>
            <a:off x="5435640" y="1268280"/>
            <a:ext cx="291924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Memori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Primari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Memoria principal (RA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Regist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Secundaria, terciaria, 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Discos dur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DVD, C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Pendri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Comparaci</a:t>
            </a:r>
            <a:r>
              <a:rPr b="0" lang="es-ES_tradnl" sz="42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533520" y="1066680"/>
          <a:ext cx="8229600" cy="4970520"/>
        </p:xfrm>
        <a:graphic>
          <a:graphicData uri="http://schemas.openxmlformats.org/drawingml/2006/table">
            <a:tbl>
              <a:tblPr/>
              <a:tblGrid>
                <a:gridCol w="2163600"/>
                <a:gridCol w="2595600"/>
                <a:gridCol w="347040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ia (RA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 de memor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áti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ontenido se pierd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manen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ontenido se mantien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loc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ápida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~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s-E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6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eg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ta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~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0</a:t>
                      </a:r>
                      <a:r>
                        <a:rPr b="0" lang="es-E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eg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empo acce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an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 cualquier luga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epende de cercanía a cabeza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ato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~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00 veces meno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mitada (máx ~8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or (máx ~1000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Memoria principal (RAM)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RAM: Memoria de acceso </a:t>
            </a: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aleatorio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os datos pueden ser leídos o escritos de manera inmediata en cualquier parte de su estructu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5"/>
          <p:cNvSpPr/>
          <p:nvPr/>
        </p:nvSpPr>
        <p:spPr>
          <a:xfrm>
            <a:off x="6081840" y="4876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7388280" y="2263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7"/>
          <p:cNvSpPr/>
          <p:nvPr/>
        </p:nvSpPr>
        <p:spPr>
          <a:xfrm>
            <a:off x="5979960" y="34545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2" descr="http://miprogramacion.files.wordpress.com/2008/04/300px-ram_n.jpg"/>
          <p:cNvPicPr/>
          <p:nvPr/>
        </p:nvPicPr>
        <p:blipFill>
          <a:blip r:embed="rId1"/>
          <a:stretch/>
        </p:blipFill>
        <p:spPr>
          <a:xfrm>
            <a:off x="5364000" y="1268280"/>
            <a:ext cx="29433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Memoria cache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Memoria especial de acceso muy rápi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Tiempos de acceso son nanosegun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1 y L2: poca memoria muy rápi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6081840" y="4876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7388280" y="2263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5979960" y="34545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0" descr="http://img.zdnet.com/techDirectory/CACHEMEM.GIF"/>
          <p:cNvPicPr/>
          <p:nvPr/>
        </p:nvPicPr>
        <p:blipFill>
          <a:blip r:embed="rId1"/>
          <a:stretch/>
        </p:blipFill>
        <p:spPr>
          <a:xfrm>
            <a:off x="4716360" y="1413000"/>
            <a:ext cx="403884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Disco Dur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La información se guarda como pequeños imanes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agnetorresist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spcBef>
                <a:spcPts val="476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Capacidad de los materiales de aumentar/disminuir su resistencia eléctrica cuando son sometidos a un campo magnétic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0" descr="http://www.upgradecomputermemory.com/images/products/large/500gb-desktop-3-5-sata-hard-drive-dhd-s500.jpg"/>
          <p:cNvPicPr/>
          <p:nvPr/>
        </p:nvPicPr>
        <p:blipFill>
          <a:blip r:embed="rId1"/>
          <a:stretch/>
        </p:blipFill>
        <p:spPr>
          <a:xfrm>
            <a:off x="5364000" y="1125360"/>
            <a:ext cx="2476800" cy="247680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4"/>
          <p:cNvSpPr/>
          <p:nvPr/>
        </p:nvSpPr>
        <p:spPr>
          <a:xfrm>
            <a:off x="6081840" y="4876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5"/>
          <p:cNvSpPr/>
          <p:nvPr/>
        </p:nvSpPr>
        <p:spPr>
          <a:xfrm>
            <a:off x="7388280" y="2263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6"/>
          <p:cNvSpPr/>
          <p:nvPr/>
        </p:nvSpPr>
        <p:spPr>
          <a:xfrm>
            <a:off x="5979960" y="34545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2" descr="http://i.ehow.com/images/GlobalPhoto/Articles/6026/harddrive_Full.jpg"/>
          <p:cNvPicPr/>
          <p:nvPr/>
        </p:nvPicPr>
        <p:blipFill>
          <a:blip r:embed="rId2"/>
          <a:stretch/>
        </p:blipFill>
        <p:spPr>
          <a:xfrm>
            <a:off x="4932360" y="3645000"/>
            <a:ext cx="3598920" cy="23986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4" descr="tocadiscos"/>
          <p:cNvPicPr/>
          <p:nvPr/>
        </p:nvPicPr>
        <p:blipFill>
          <a:blip r:embed="rId3"/>
          <a:stretch/>
        </p:blipFill>
        <p:spPr>
          <a:xfrm>
            <a:off x="900000" y="4005360"/>
            <a:ext cx="373392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Computaci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isciplina que estudia el tratamiento automático de la información utilizando dispositivos electrónico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Tres tareas básica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ntrada: Captación de la inform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Proceso: Tratamiento de la inform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alida: Transmisión de result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Periféric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ntrada y salida de informaci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l computad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http://www.harting.se/imperia/md/images/lg/hartingconnectivitynetworks/products/interfaceconnectors/00_interface_connectors_overview_700_500x333.jpg"/>
          <p:cNvPicPr/>
          <p:nvPr/>
        </p:nvPicPr>
        <p:blipFill>
          <a:blip r:embed="rId1"/>
          <a:stretch/>
        </p:blipFill>
        <p:spPr>
          <a:xfrm>
            <a:off x="900000" y="3573360"/>
            <a:ext cx="3287880" cy="21891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http://www.cksinfo.com/clipart/electronics/computers/connectors/PC-ports.png"/>
          <p:cNvPicPr/>
          <p:nvPr/>
        </p:nvPicPr>
        <p:blipFill>
          <a:blip r:embed="rId2"/>
          <a:stretch/>
        </p:blipFill>
        <p:spPr>
          <a:xfrm>
            <a:off x="4572000" y="1413000"/>
            <a:ext cx="42084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3399"/>
                </a:solidFill>
                <a:latin typeface="Arial"/>
              </a:rPr>
              <a:t>Lectores de medios ópticos (CD/DVD/Blu-ray)</a:t>
            </a:r>
            <a:endParaRPr b="0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Un láser mide la distancia desde la capa reflectante hasta el detector del lás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olo existen 2 distancias (0 y 1) y un sector que representa el fin de los da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6081840" y="4876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6"/>
          <p:cNvSpPr/>
          <p:nvPr/>
        </p:nvSpPr>
        <p:spPr>
          <a:xfrm>
            <a:off x="7388280" y="2263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7"/>
          <p:cNvSpPr/>
          <p:nvPr/>
        </p:nvSpPr>
        <p:spPr>
          <a:xfrm>
            <a:off x="5979960" y="34545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rcRect l="15549" t="18930" r="10626" b="13382"/>
          <a:stretch/>
        </p:blipFill>
        <p:spPr>
          <a:xfrm>
            <a:off x="4859280" y="1916280"/>
            <a:ext cx="403848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Monitor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44751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ermiten desplegar de manera visual la información generada por el computad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2" descr="http://www.kentmusictechnology.co.uk/images/17%20CRT.jpg"/>
          <p:cNvPicPr/>
          <p:nvPr/>
        </p:nvPicPr>
        <p:blipFill>
          <a:blip r:embed="rId1"/>
          <a:stretch/>
        </p:blipFill>
        <p:spPr>
          <a:xfrm>
            <a:off x="5148360" y="1413000"/>
            <a:ext cx="1655640" cy="165564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5"/>
          <p:cNvSpPr/>
          <p:nvPr/>
        </p:nvSpPr>
        <p:spPr>
          <a:xfrm>
            <a:off x="6081840" y="4876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6"/>
          <p:cNvSpPr/>
          <p:nvPr/>
        </p:nvSpPr>
        <p:spPr>
          <a:xfrm>
            <a:off x="7388280" y="2263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7"/>
          <p:cNvSpPr/>
          <p:nvPr/>
        </p:nvSpPr>
        <p:spPr>
          <a:xfrm>
            <a:off x="5979960" y="34545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5" descr="http://www.techfresh.net/wp-content/uploads/2006/11/benq-world-fastest-lcd-monitor.jpg"/>
          <p:cNvPicPr/>
          <p:nvPr/>
        </p:nvPicPr>
        <p:blipFill>
          <a:blip r:embed="rId2"/>
          <a:stretch/>
        </p:blipFill>
        <p:spPr>
          <a:xfrm>
            <a:off x="7020000" y="2568600"/>
            <a:ext cx="1913040" cy="21891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8" descr="http://www.bhphotovideo.com/images/images345x345/589452.jpg"/>
          <p:cNvPicPr/>
          <p:nvPr/>
        </p:nvPicPr>
        <p:blipFill>
          <a:blip r:embed="rId3"/>
          <a:stretch/>
        </p:blipFill>
        <p:spPr>
          <a:xfrm>
            <a:off x="4089240" y="4021200"/>
            <a:ext cx="20163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Teclado / Mouse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Arial"/>
              </a:rPr>
              <a:t>Periféricos para introducir datos al computado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2" descr="http://closedstacks.files.wordpress.com/2009/01/keyboard.jpg"/>
          <p:cNvPicPr/>
          <p:nvPr/>
        </p:nvPicPr>
        <p:blipFill>
          <a:blip r:embed="rId1"/>
          <a:stretch/>
        </p:blipFill>
        <p:spPr>
          <a:xfrm>
            <a:off x="468360" y="3789360"/>
            <a:ext cx="4038480" cy="195408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5"/>
          <p:cNvSpPr/>
          <p:nvPr/>
        </p:nvSpPr>
        <p:spPr>
          <a:xfrm>
            <a:off x="6081840" y="4876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6"/>
          <p:cNvSpPr/>
          <p:nvPr/>
        </p:nvSpPr>
        <p:spPr>
          <a:xfrm>
            <a:off x="7388280" y="2263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7"/>
          <p:cNvSpPr/>
          <p:nvPr/>
        </p:nvSpPr>
        <p:spPr>
          <a:xfrm>
            <a:off x="5979960" y="34545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5" descr="http://www.pergaminovirtual.com.ar/revista/cgi-bin/hoy/archivos/2005/mouse-lector-huellas-biometrico.JPG"/>
          <p:cNvPicPr/>
          <p:nvPr/>
        </p:nvPicPr>
        <p:blipFill>
          <a:blip r:embed="rId2"/>
          <a:stretch/>
        </p:blipFill>
        <p:spPr>
          <a:xfrm>
            <a:off x="5219640" y="1125360"/>
            <a:ext cx="2521080" cy="22417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8" descr="http://www.linuxla.cl/wp-content/uploads/21-07-2008/mouse.jpg"/>
          <p:cNvPicPr/>
          <p:nvPr/>
        </p:nvPicPr>
        <p:blipFill>
          <a:blip r:embed="rId3"/>
          <a:stretch/>
        </p:blipFill>
        <p:spPr>
          <a:xfrm>
            <a:off x="4859280" y="3429000"/>
            <a:ext cx="3378240" cy="24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3399"/>
                </a:solidFill>
                <a:latin typeface="Arial"/>
              </a:rPr>
              <a:t>¿Que necesito saber para elegir un computador?</a:t>
            </a: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Para qué lo voy a us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60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ternet, correo electrónico, procesador de texto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60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ación de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60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nálisis de d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60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Jue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¿Qué sistema operativo usaré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Pienso en expandirl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Cuántas personas lo usar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U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2-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Más de 10 person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Lo que se necesita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050560" y="1599840"/>
            <a:ext cx="66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Internet, correo electrónico, procesador de tex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No requiere grandes recursos de siste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stación de Trabaj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arga normal de procesamiento con o sin carga de almacena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nálisis de da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lta carga de procesamiento, memoria, y almacena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Jueg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lta carga de procesamiento de datos y gráficos, uso intensivo de la memoria y almacena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4"/>
          <p:cNvGrpSpPr/>
          <p:nvPr/>
        </p:nvGrpSpPr>
        <p:grpSpPr>
          <a:xfrm>
            <a:off x="395280" y="1341360"/>
            <a:ext cx="1671120" cy="4797360"/>
            <a:chOff x="395280" y="1341360"/>
            <a:chExt cx="1671120" cy="4797360"/>
          </a:xfrm>
        </p:grpSpPr>
        <p:sp>
          <p:nvSpPr>
            <p:cNvPr id="193" name="3 Flecha abajo"/>
            <p:cNvSpPr/>
            <p:nvPr/>
          </p:nvSpPr>
          <p:spPr>
            <a:xfrm>
              <a:off x="731520" y="1770120"/>
              <a:ext cx="999720" cy="3857400"/>
            </a:xfrm>
            <a:prstGeom prst="downArrow">
              <a:avLst>
                <a:gd name="adj1" fmla="val 50000"/>
                <a:gd name="adj2" fmla="val 50017"/>
              </a:avLst>
            </a:prstGeom>
            <a:gradFill rotWithShape="0">
              <a:gsLst>
                <a:gs pos="0">
                  <a:srgbClr val="ff8080"/>
                </a:gs>
                <a:gs pos="100000">
                  <a:srgbClr val="ffdada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4 CuadroTexto"/>
            <p:cNvSpPr/>
            <p:nvPr/>
          </p:nvSpPr>
          <p:spPr>
            <a:xfrm>
              <a:off x="514440" y="5770440"/>
              <a:ext cx="142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Calibri"/>
                </a:rPr>
                <a:t>Más exig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5 CuadroTexto"/>
            <p:cNvSpPr/>
            <p:nvPr/>
          </p:nvSpPr>
          <p:spPr>
            <a:xfrm>
              <a:off x="395280" y="1341360"/>
              <a:ext cx="167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Calibri"/>
                </a:rPr>
                <a:t>Menos exig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¿Que elegir hoy?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Procesa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524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X86/x64 (AMD/Intel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524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MI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524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UltraSparc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Memori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524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DDR2 o DDR3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Tarjeta Mad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524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Monoprocesado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524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Multiprocesado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Tarjeta de Vide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524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Integra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524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No integra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2 Marcador de contenido"/>
          <p:cNvSpPr/>
          <p:nvPr/>
        </p:nvSpPr>
        <p:spPr>
          <a:xfrm>
            <a:off x="4559400" y="1603440"/>
            <a:ext cx="4114800" cy="45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Tarjeta de Son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tegr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o integr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Gabinete (fuente de pod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Monitor (tamañ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Mo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Tecl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Disco de almacena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Lectores de medios óptic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Impreso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scán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áma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M</a:t>
            </a:r>
            <a:r>
              <a:rPr b="0" lang="es-ES_tradnl" sz="42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áquinas de Turing y Computador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4191120" cy="3591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DellComputer"/>
          <p:cNvPicPr/>
          <p:nvPr/>
        </p:nvPicPr>
        <p:blipFill>
          <a:blip r:embed="rId2"/>
          <a:stretch/>
        </p:blipFill>
        <p:spPr>
          <a:xfrm>
            <a:off x="4800600" y="2133720"/>
            <a:ext cx="4000680" cy="2933640"/>
          </a:xfrm>
          <a:prstGeom prst="rect">
            <a:avLst/>
          </a:prstGeom>
          <a:ln w="0">
            <a:noFill/>
          </a:ln>
        </p:spPr>
      </p:pic>
      <p:sp>
        <p:nvSpPr>
          <p:cNvPr id="99" name="Text Box 6"/>
          <p:cNvSpPr/>
          <p:nvPr/>
        </p:nvSpPr>
        <p:spPr>
          <a:xfrm>
            <a:off x="2004480" y="5334120"/>
            <a:ext cx="20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quina abstra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6100560" y="5348160"/>
            <a:ext cx="149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quina 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8"/>
          <p:cNvSpPr/>
          <p:nvPr/>
        </p:nvSpPr>
        <p:spPr>
          <a:xfrm>
            <a:off x="4191120" y="5334120"/>
            <a:ext cx="1600200" cy="457200"/>
          </a:xfrm>
          <a:prstGeom prst="leftRightArrow">
            <a:avLst>
              <a:gd name="adj1" fmla="val 50000"/>
              <a:gd name="adj2" fmla="val 69676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Definición Hardware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omponentes físicos de una computado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"/>
          <p:cNvPicPr/>
          <p:nvPr/>
        </p:nvPicPr>
        <p:blipFill>
          <a:blip r:embed="rId1"/>
          <a:stretch/>
        </p:blipFill>
        <p:spPr>
          <a:xfrm>
            <a:off x="1187280" y="2492280"/>
            <a:ext cx="3068640" cy="3181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http://webdelprofesor.ula.ve/economia/dougil/HISTORIA%20DE%20LA%20COMPUTCION_archivos/image028.jpg"/>
          <p:cNvPicPr/>
          <p:nvPr/>
        </p:nvPicPr>
        <p:blipFill>
          <a:blip r:embed="rId2"/>
          <a:stretch/>
        </p:blipFill>
        <p:spPr>
          <a:xfrm>
            <a:off x="5076720" y="2565360"/>
            <a:ext cx="25434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Una M</a:t>
            </a:r>
            <a:r>
              <a:rPr b="0" lang="es-ES_tradnl" sz="42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áquina de Turing “real”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07" name="Picture 5" descr="The_LEGO_Turing_Machine"/>
          <p:cNvPicPr/>
          <p:nvPr/>
        </p:nvPicPr>
        <p:blipFill>
          <a:blip r:embed="rId1"/>
          <a:stretch/>
        </p:blipFill>
        <p:spPr>
          <a:xfrm>
            <a:off x="2050920" y="198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3399"/>
                </a:solidFill>
                <a:latin typeface="Arial"/>
              </a:rPr>
              <a:t>Primera Generación de Computadoras</a:t>
            </a:r>
            <a:endParaRPr b="0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Bulbos para procesar inform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stituidos por tubos de vacío, desprendían bastante calor y tenían una vida relativamente co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áquinas grandes y pes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to consumo de energ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macenamiento de la información en tambor magnético int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to co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so de tarjetas perforadas para suministrar datos de progra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3059280" y="4508640"/>
            <a:ext cx="321444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3399"/>
                </a:solidFill>
                <a:latin typeface="Arial"/>
              </a:rPr>
              <a:t>Segunda Generación de Computadoras</a:t>
            </a:r>
            <a:endParaRPr b="0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Transis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Transistor como componente principal. El componente principal es un pequeño trozo de semiconductor, y se expone en los llamados circuitos transisto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Disminución del tamaño,  consumo y producción de ca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Mayor rapidez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Memorias internas de núcleos de ferri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Almacenamiento: cintas y disc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Ley de Moore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4" name="Picture 9" descr="http://petra.euitio.uniovi.es/~arrai/historia/trilobytes/5-Moore%20y%20la%20ley%20de%20Moore/imagenes/moore.jpg"/>
          <p:cNvPicPr/>
          <p:nvPr/>
        </p:nvPicPr>
        <p:blipFill>
          <a:blip r:embed="rId1"/>
          <a:stretch/>
        </p:blipFill>
        <p:spPr>
          <a:xfrm>
            <a:off x="7812000" y="333360"/>
            <a:ext cx="1067040" cy="1368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3" descr="http://7ecnologia.com/wp-content/uploads/2009/04/lei_de_moore_2006svg.png"/>
          <p:cNvPicPr/>
          <p:nvPr/>
        </p:nvPicPr>
        <p:blipFill>
          <a:blip r:embed="rId2"/>
          <a:stretch/>
        </p:blipFill>
        <p:spPr>
          <a:xfrm>
            <a:off x="468360" y="1054080"/>
            <a:ext cx="719136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1 Título"/>
          <p:cNvSpPr/>
          <p:nvPr/>
        </p:nvSpPr>
        <p:spPr>
          <a:xfrm>
            <a:off x="357120" y="357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9 Grupo"/>
          <p:cNvGrpSpPr/>
          <p:nvPr/>
        </p:nvGrpSpPr>
        <p:grpSpPr>
          <a:xfrm>
            <a:off x="5843520" y="4454640"/>
            <a:ext cx="2696400" cy="1674720"/>
            <a:chOff x="5843520" y="4454640"/>
            <a:chExt cx="2696400" cy="1674720"/>
          </a:xfrm>
        </p:grpSpPr>
        <p:pic>
          <p:nvPicPr>
            <p:cNvPr id="118" name="Picture 2" descr=""/>
            <p:cNvPicPr/>
            <p:nvPr/>
          </p:nvPicPr>
          <p:blipFill>
            <a:blip r:embed="rId1"/>
            <a:stretch/>
          </p:blipFill>
          <p:spPr>
            <a:xfrm>
              <a:off x="5843520" y="4454640"/>
              <a:ext cx="1908360" cy="16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8 Rectángulo"/>
            <p:cNvSpPr/>
            <p:nvPr/>
          </p:nvSpPr>
          <p:spPr>
            <a:xfrm>
              <a:off x="7755840" y="5004720"/>
              <a:ext cx="78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Calibri"/>
                </a:rPr>
                <a:t>IBM 3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3399"/>
                </a:solidFill>
                <a:latin typeface="Arial"/>
              </a:rPr>
              <a:t>Tercera Generación de Computadoras</a:t>
            </a:r>
            <a:endParaRPr b="0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ircuitos Integr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ircuitos integrados, miniaturización y reunión de centenares de elementos en una placa de silicio o (chip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Menor consumo de energía, reducción de espac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Aumenta la capacidad de almacenamiento y se reduce el tiempo de respues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ompatibilidad para compartir software entre diversos equip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Multiprogramació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La mini computado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8:45:24Z</dcterms:created>
  <dc:creator>Elias Leiva-Salcedo</dc:creator>
  <dc:description/>
  <dc:language>en-US</dc:language>
  <cp:lastModifiedBy>Valeria Herskovic</cp:lastModifiedBy>
  <dcterms:modified xsi:type="dcterms:W3CDTF">2010-08-24T17:56:21Z</dcterms:modified>
  <cp:revision>178</cp:revision>
  <dc:subject/>
  <dc:title>Diapositiva 1</dc:title>
</cp:coreProperties>
</file>