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91F7-C851-43EE-ABEA-A847EDE8AE9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30FC-8185-450C-B659-485E53415B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79C-8B3C-4BBC-8047-FDB3FEDE298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422-B6A2-4BC5-B4CA-A1263944E7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21AF-AFE1-40EE-9E72-A76457FE63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B1DA-1275-4867-8342-6ED507B37C5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D311-5A69-441C-A8D9-803A98269FC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1ADE-ACBB-4F64-8F99-807C8D1F6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7FFC-A804-4A33-9F30-648A69679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9D31-2763-4699-9781-2E9FD0E1B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BA83-40BA-4225-AE7D-E832307AA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9995D-64BC-407E-85B8-E9EEA74C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AB80A-6FA4-493F-AE0B-30AC2E4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B0870-91CC-4EEC-BF17-7B5F9B87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60C19-B72A-4F64-893E-F9F3EAE9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00470-ACA3-4ADB-B5C6-A772652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23E74-DE9D-4775-8BED-19282BB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646B7-B817-4DBC-B615-6A85CA4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E10CA-3DFB-4109-9816-1E8CC5C29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B9D14-972A-4C43-9065-2C32720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049AC-C61F-447C-AB10-931FC2D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A29E2-E676-4E52-8436-08F61E03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B713D-04E2-4C79-828A-B77AE080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7EB3F-613A-41A9-9E9D-300516BD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C533-FF13-4D7E-ABF9-AC1DC4133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7EBC-8F6C-4C67-A97D-26A1B01FF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296E-7DFA-4EF5-AB19-A3602D07F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68A9-8977-4363-BA08-BB9082E86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8E8B-17B7-471A-AF12-85FCD0867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21D5-49E3-49B3-9FFF-526A69C1F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0444-E837-43C5-B86B-776B4C403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6CA9-997E-4A7A-86A8-894A5F38D5DB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CC19-DD57-4EBC-AB9B-08227E21EC7B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27"/>
          <p:cNvSpPr/>
          <p:nvPr/>
        </p:nvSpPr>
        <p:spPr>
          <a:xfrm>
            <a:off x="2197080" y="417816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uart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croproces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procesador: desarrollado por Intel Corpo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minimizan los circuitos, aumenta la capacidad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ran expansión del uso de las computa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 electrónicas más ráp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stemas de tratamiento de base de d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ización de las apl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Un computador por dent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Picture 5" descr="http://evilpixel.org/blog/images/154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onen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laca Mad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iféric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ctores de medios ópticos (CD/DVD/Blu-r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clado/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laca Madre (motherboard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base del sistema donde se sitúan los componentes del computador: procesador, memoria, conectores, tarjetas de expa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germes-online.com/direct/dbimage/50140474/810ET_Motherboard.jpg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ocesador (CPU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aliza todas las operaciones de cálculo y controla lo que pasa en el computador recibiendo información y dando órdenes para que los demás componentes traba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ttp://www.instablogsimages.com/images/2008/01/30/3d-cpu_5913.jpg"/>
          <p:cNvPicPr/>
          <p:nvPr/>
        </p:nvPicPr>
        <p:blipFill>
          <a:blip r:embed="rId1"/>
          <a:stretch/>
        </p:blipFill>
        <p:spPr>
          <a:xfrm>
            <a:off x="5292720" y="37162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http://www.zonalibre.com.uy/catalog/images/categorias/cpu_intel.jpg"/>
          <p:cNvPicPr/>
          <p:nvPr/>
        </p:nvPicPr>
        <p:blipFill>
          <a:blip r:embed="rId2"/>
          <a:stretch/>
        </p:blipFill>
        <p:spPr>
          <a:xfrm>
            <a:off x="5435640" y="12682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principal (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cundaria, terciaria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VD, 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nd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mpara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06668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595600"/>
                <a:gridCol w="3470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 veces m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da (máx ~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(máx ~10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principal (RAM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M: Memoria de acceso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leator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datos pueden ser leídos o escritos de manera inmediata en cualquier parte de su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http://miprogramacion.files.wordpress.com/2008/04/300px-ram_n.jpg"/>
          <p:cNvPicPr/>
          <p:nvPr/>
        </p:nvPicPr>
        <p:blipFill>
          <a:blip r:embed="rId1"/>
          <a:stretch/>
        </p:blipFill>
        <p:spPr>
          <a:xfrm>
            <a:off x="5364000" y="1268280"/>
            <a:ext cx="2943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cach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especial de acceso muy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empos de acceso son nanosegun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1 y L2: poca memoria muy ráp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http://img.zdnet.com/techDirectory/CACHEMEM.GIF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isco Du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a información se guarda como pequeños iman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netor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476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Capacidad de los materiales de aumentar/disminuir su resistencia eléctrica cuando son sometidos a un campo magnét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://www.upgradecomputermemory.com/images/products/large/500gb-desktop-3-5-sata-hard-drive-dhd-s500.jpg"/>
          <p:cNvPicPr/>
          <p:nvPr/>
        </p:nvPicPr>
        <p:blipFill>
          <a:blip r:embed="rId1"/>
          <a:stretch/>
        </p:blipFill>
        <p:spPr>
          <a:xfrm>
            <a:off x="5364000" y="1125360"/>
            <a:ext cx="2476800" cy="24768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http://i.ehow.com/images/GlobalPhoto/Articles/6026/harddrive_Full.jpg"/>
          <p:cNvPicPr/>
          <p:nvPr/>
        </p:nvPicPr>
        <p:blipFill>
          <a:blip r:embed="rId2"/>
          <a:stretch/>
        </p:blipFill>
        <p:spPr>
          <a:xfrm>
            <a:off x="4932360" y="3645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tocadiscos"/>
          <p:cNvPicPr/>
          <p:nvPr/>
        </p:nvPicPr>
        <p:blipFill>
          <a:blip r:embed="rId3"/>
          <a:stretch/>
        </p:blipFill>
        <p:spPr>
          <a:xfrm>
            <a:off x="900000" y="4005360"/>
            <a:ext cx="37339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ciplina que estudia el tratamiento automático de la información utilizando dispositivos electróni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es tareas 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rada: Captación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ceso: Tratamiento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ida: Transmisión de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erifér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trada y salida de informa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www.harting.se/imperia/md/images/lg/hartingconnectivitynetworks/products/interfaceconnectors/00_interface_connectors_overview_700_500x333.jpg"/>
          <p:cNvPicPr/>
          <p:nvPr/>
        </p:nvPicPr>
        <p:blipFill>
          <a:blip r:embed="rId1"/>
          <a:stretch/>
        </p:blipFill>
        <p:spPr>
          <a:xfrm>
            <a:off x="900000" y="357336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www.cksinfo.com/clipart/electronics/computers/connectors/PC-ports.png"/>
          <p:cNvPicPr/>
          <p:nvPr/>
        </p:nvPicPr>
        <p:blipFill>
          <a:blip r:embed="rId2"/>
          <a:stretch/>
        </p:blipFill>
        <p:spPr>
          <a:xfrm>
            <a:off x="4572000" y="1413000"/>
            <a:ext cx="4208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Lectores de medios ópticos (CD/DVD/Blu-ray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láser mide la distancia desde la capa reflectante hasta el detector del lá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lo existen 2 distancias (0 y 1) y un sector que representa el fi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5549" t="18930" r="10626" b="13382"/>
          <a:stretch/>
        </p:blipFill>
        <p:spPr>
          <a:xfrm>
            <a:off x="4859280" y="1916280"/>
            <a:ext cx="40384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desplegar de manera visual la información generada por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www.kentmusictechnology.co.uk/images/17%20CRT.jpg"/>
          <p:cNvPicPr/>
          <p:nvPr/>
        </p:nvPicPr>
        <p:blipFill>
          <a:blip r:embed="rId1"/>
          <a:stretch/>
        </p:blipFill>
        <p:spPr>
          <a:xfrm>
            <a:off x="5148360" y="1413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http://www.techfresh.net/wp-content/uploads/2006/11/benq-world-fastest-lcd-monitor.jpg"/>
          <p:cNvPicPr/>
          <p:nvPr/>
        </p:nvPicPr>
        <p:blipFill>
          <a:blip r:embed="rId2"/>
          <a:stretch/>
        </p:blipFill>
        <p:spPr>
          <a:xfrm>
            <a:off x="7020000" y="2568600"/>
            <a:ext cx="19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bhphotovideo.com/images/images345x345/589452.jpg"/>
          <p:cNvPicPr/>
          <p:nvPr/>
        </p:nvPicPr>
        <p:blipFill>
          <a:blip r:embed="rId3"/>
          <a:stretch/>
        </p:blipFill>
        <p:spPr>
          <a:xfrm>
            <a:off x="4089240" y="40212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eclado / Mous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Periféricos para introducir datos al computad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closedstacks.files.wordpress.com/2009/01/keyboard.jpg"/>
          <p:cNvPicPr/>
          <p:nvPr/>
        </p:nvPicPr>
        <p:blipFill>
          <a:blip r:embed="rId1"/>
          <a:stretch/>
        </p:blipFill>
        <p:spPr>
          <a:xfrm>
            <a:off x="468360" y="3789360"/>
            <a:ext cx="4038480" cy="195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http://www.pergaminovirtual.com.ar/revista/cgi-bin/hoy/archivos/2005/mouse-lector-huellas-biometrico.JPG"/>
          <p:cNvPicPr/>
          <p:nvPr/>
        </p:nvPicPr>
        <p:blipFill>
          <a:blip r:embed="rId2"/>
          <a:stretch/>
        </p:blipFill>
        <p:spPr>
          <a:xfrm>
            <a:off x="5219640" y="1125360"/>
            <a:ext cx="2521080" cy="22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http://www.linuxla.cl/wp-content/uploads/21-07-2008/mouse.jpg"/>
          <p:cNvPicPr/>
          <p:nvPr/>
        </p:nvPicPr>
        <p:blipFill>
          <a:blip r:embed="rId3"/>
          <a:stretch/>
        </p:blipFill>
        <p:spPr>
          <a:xfrm>
            <a:off x="4859280" y="3429000"/>
            <a:ext cx="3378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¿Que necesito saber para elegir un computador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ara qué lo voy a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net, correo electrónico, procesador de text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istema operativo usar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ienso en expand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uántas personas lo usa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de 10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o que se necesi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net, correo electrónico, procesador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requiere grandes recursos de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ga normal de procesamiento con o sin carga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, memoria,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 de datos y gráficos, uso intensivo de la memoria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395280" y="1341360"/>
            <a:ext cx="1671120" cy="4797360"/>
            <a:chOff x="395280" y="1341360"/>
            <a:chExt cx="1671120" cy="4797360"/>
          </a:xfrm>
        </p:grpSpPr>
        <p:sp>
          <p:nvSpPr>
            <p:cNvPr id="193" name="3 Flecha abajo"/>
            <p:cNvSpPr/>
            <p:nvPr/>
          </p:nvSpPr>
          <p:spPr>
            <a:xfrm>
              <a:off x="731520" y="1770120"/>
              <a:ext cx="999720" cy="3857400"/>
            </a:xfrm>
            <a:prstGeom prst="down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4 CuadroTexto"/>
            <p:cNvSpPr/>
            <p:nvPr/>
          </p:nvSpPr>
          <p:spPr>
            <a:xfrm>
              <a:off x="514440" y="577044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á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5 CuadroTexto"/>
            <p:cNvSpPr/>
            <p:nvPr/>
          </p:nvSpPr>
          <p:spPr>
            <a:xfrm>
              <a:off x="395280" y="13413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eno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e elegir hoy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X86/x64 (AMD/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UltraSparc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DR2 o DD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Ma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o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4559400" y="1603440"/>
            <a:ext cx="411480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So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abinete (fuente de po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nitor (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co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ctores de medios óp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y Computador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9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ellComputer"/>
          <p:cNvPicPr/>
          <p:nvPr/>
        </p:nvPicPr>
        <p:blipFill>
          <a:blip r:embed="rId2"/>
          <a:stretch/>
        </p:blipFill>
        <p:spPr>
          <a:xfrm>
            <a:off x="4800600" y="2133720"/>
            <a:ext cx="40006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04480" y="53341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abstra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00560" y="53481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191120" y="5334120"/>
            <a:ext cx="1600200" cy="4572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Definición Hardwa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onentes físicos de una computad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3068640" cy="31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ebdelprofesor.ula.ve/economia/dougil/HISTORIA%20DE%20LA%20COMPUTCION_archivos/image028.jpg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a 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de Turing “real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5" descr="The_LEGO_Turing_Machine"/>
          <p:cNvPicPr/>
          <p:nvPr/>
        </p:nvPicPr>
        <p:blipFill>
          <a:blip r:embed="rId1"/>
          <a:stretch/>
        </p:blipFill>
        <p:spPr>
          <a:xfrm>
            <a:off x="2050920" y="198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Prim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lbos para proces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ituidos por tubos de vacío, desprendían bastante calor y tenían una vida relativamente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quinas grandes y p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nsumo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macenamiento de la información en tambor magnético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tarjetas perforadas para suministrar datos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214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Segund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nsistor como componente principal. El componente principal es un pequeño trozo de semiconductor, y se expone en los llamados circuitos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minución del tamaño,  consumo y producción de c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yor rapid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s internas de núcleos de ferr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macenamiento: cintas y d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y de Moo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9" descr="http://petra.euitio.uniovi.es/~arrai/historia/trilobytes/5-Moore%20y%20la%20ley%20de%20Moore/imagenes/moore.jpg"/>
          <p:cNvPicPr/>
          <p:nvPr/>
        </p:nvPicPr>
        <p:blipFill>
          <a:blip r:embed="rId1"/>
          <a:stretch/>
        </p:blipFill>
        <p:spPr>
          <a:xfrm>
            <a:off x="7812000" y="33336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http://7ecnologia.com/wp-content/uploads/2009/04/lei_de_moore_2006svg.png"/>
          <p:cNvPicPr/>
          <p:nvPr/>
        </p:nvPicPr>
        <p:blipFill>
          <a:blip r:embed="rId2"/>
          <a:stretch/>
        </p:blipFill>
        <p:spPr>
          <a:xfrm>
            <a:off x="468360" y="1054080"/>
            <a:ext cx="71913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Título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9 Grupo"/>
          <p:cNvGrpSpPr/>
          <p:nvPr/>
        </p:nvGrpSpPr>
        <p:grpSpPr>
          <a:xfrm>
            <a:off x="5843520" y="4454640"/>
            <a:ext cx="2696400" cy="1674720"/>
            <a:chOff x="5843520" y="4454640"/>
            <a:chExt cx="2696400" cy="167472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5843520" y="4454640"/>
              <a:ext cx="1908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8 Rectángulo"/>
            <p:cNvSpPr/>
            <p:nvPr/>
          </p:nvSpPr>
          <p:spPr>
            <a:xfrm>
              <a:off x="7755840" y="5004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Calibri"/>
                </a:rPr>
                <a:t>IBM 3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Terc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ircuitos integrados, miniaturización y reunión de centenares de elementos en una placa de silicio o (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nor consumo de energía, reducción de espa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menta la capacidad de almacenamiento y se 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atibilidad para compartir software entre divers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gram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mini comput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8:45:24Z</dcterms:created>
  <dc:creator>Elias Leiva-Salcedo</dc:creator>
  <dc:description/>
  <dc:language>en-US</dc:language>
  <cp:lastModifiedBy>Valeria Herskovic</cp:lastModifiedBy>
  <dcterms:modified xsi:type="dcterms:W3CDTF">2010-08-24T17:56:21Z</dcterms:modified>
  <cp:revision>178</cp:revision>
  <dc:subject/>
  <dc:title>Diapositiva 1</dc:title>
</cp:coreProperties>
</file>