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97B9A-F116-4B56-B377-DB370AE053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4855E-D115-45A2-A861-7DD6CF15C1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C96EA-B0B5-47A8-A154-D826744D33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B31C3-4A0B-44B4-BDA5-C5477537C3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5BF69-02F9-45DE-A5B2-4A852B35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D357E-8C12-47A0-902A-0C5331C4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FD22B-F271-4749-8172-82FE929E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DA8AB-622C-4F95-962E-E8C37640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2342B-FC3B-47CC-9600-74877357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97DCD-EF88-4854-8BF5-19229622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A66CF-6391-4DFC-8945-EB1E569B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30141-0B2F-41E3-B1C6-A0677EFCE1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A916F-2F54-4A00-9ED3-F7BCC894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A945E-7E1D-4A98-AECF-B2914CE0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A6B04-5ABC-4461-BCAE-7F610D83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BAE66-918E-4BD6-9995-0D62C488A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AF9A5-4F3E-43C2-BE79-A66033E97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76A09-319A-4BF2-8047-56779E6325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7A6B1-AAF1-452B-91BA-6DEA83971C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A30A2-F372-4C1F-9A32-7B38056C53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1D574-AD79-4721-8E41-569A772878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962C8-D5B8-426D-90F3-87587DCFF7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3FD20-6DF9-43D9-9590-EE3AF2C6E1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6B47F-4333-4895-BD17-78638F487B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248160"/>
            <a:ext cx="55515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ecnolog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í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edica, Universidad de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hile, Otoño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D34A-EEF6-4F49-B6C7-F9F0D7BA4A2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3EEC-8A8F-450D-9F8F-93C2209AF8B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vherskov@dcc.uchile.cl" TargetMode="External"/><Relationship Id="rId2" Type="http://schemas.openxmlformats.org/officeDocument/2006/relationships/hyperlink" Target="mailto:rtoledo@dcc.uchile.cl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omputaci</a:t>
            </a: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ón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19320" y="396252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aleria Herskovic – </a:t>
            </a:r>
            <a:r>
              <a:rPr b="0" lang="es-CL" sz="2800" spc="-1" strike="noStrike" u="sng">
                <a:solidFill>
                  <a:srgbClr val="4c6d80"/>
                </a:solidFill>
                <a:uFillTx/>
                <a:latin typeface="Arial"/>
                <a:hlinkClick r:id="rId1"/>
              </a:rPr>
              <a:t>vherskov@dcc.uchile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odolfo Toledo – </a:t>
            </a:r>
            <a:r>
              <a:rPr b="0" lang="es-CL" sz="2800" spc="-1" strike="noStrike" u="sng">
                <a:solidFill>
                  <a:srgbClr val="4c6d80"/>
                </a:solidFill>
                <a:uFillTx/>
                <a:latin typeface="Arial"/>
                <a:hlinkClick r:id="rId2"/>
              </a:rPr>
              <a:t>rtoledo@dcc.uchile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enguaje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Un lenguaje sobre un alfabeto </a:t>
            </a:r>
            <a:r>
              <a:rPr b="0" lang="en-US" sz="3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 un subconjunto de </a:t>
            </a:r>
            <a:r>
              <a:rPr b="0" lang="en-US" sz="3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Arial"/>
              </a:rPr>
              <a:t>Ejempl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a,b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= a,b,ab,ba,aa,bb,aab,aba,abb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Lenguaj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a, b, ab, 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a,b,…,z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=a,b,...,abbbb,…,auto,…, barco,…. bbirvf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nguaje=a, auto, barco, casa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629400" y="4343400"/>
            <a:ext cx="175248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n resumen…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lfabeto: conjunto de s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mbolos con los que escribiremos cadenas, o palab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dena: similar a una palabra, usa los símbolos del alfabe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nguaje: conjunto de caden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enguajes regular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n aquellos lenguajes que se pueden describir utilizando, equivalentemente,  cualquiera de las siguientes tres técnic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resiones Regula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ómatas finitos determiníst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utómatas finitos no determiníst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Expresiones Regular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odo caracter c en el lenguaje es una 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  <a:ea typeface="Arial"/>
              </a:rPr>
              <a:t> (vacío) también es una 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s siguientes combinaciones de caracteres también son una 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| b = a o b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• b = a seguido de b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* = a repetido cero o más ve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mero se aplica *, luego • y luego |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jempl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uaje que contiene cualquier n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mero de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, seguido de cualquier número de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Incluye a, b, aaaab, abbbbbbb, aaaabbbb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No incluye ba, aba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espuesta: 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b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uaje que contiene cualquier n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mero de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 y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n cualquier o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espuesta: (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b)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066680"/>
            <a:ext cx="84582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Recuerde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: a | b = a o b,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b = ab, a* = a repetido 0 o más v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jempl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uaje que comienza y termina co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(b|a)*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uaje con cualquier cantidad de a’s, pero un n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mero impar de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(ba*ba*)*ba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066680"/>
            <a:ext cx="84582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Recuerde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: a | b = a o b,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b = ab, a* = a repetido 0 o más v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3399"/>
                </a:solidFill>
                <a:latin typeface="Arial"/>
              </a:rPr>
              <a:t>Autómatas finitos determinísticos (AFD)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Reconoce cadenas de lenguaje mediante estados y transicion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3809880"/>
            <a:ext cx="914400" cy="914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95280" y="4876920"/>
            <a:ext cx="914400" cy="914400"/>
            <a:chOff x="1295280" y="4876920"/>
            <a:chExt cx="914400" cy="914400"/>
          </a:xfrm>
        </p:grpSpPr>
        <p:sp>
          <p:nvSpPr>
            <p:cNvPr id="125" name=""/>
            <p:cNvSpPr/>
            <p:nvPr/>
          </p:nvSpPr>
          <p:spPr>
            <a:xfrm>
              <a:off x="1295280" y="487692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41360" y="4923000"/>
              <a:ext cx="822240" cy="822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242440" y="4070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30840" y="51814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ado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75400" y="304812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ado in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14400" y="2819520"/>
            <a:ext cx="1295280" cy="914400"/>
            <a:chOff x="914400" y="2819520"/>
            <a:chExt cx="1295280" cy="914400"/>
          </a:xfrm>
        </p:grpSpPr>
        <p:sp>
          <p:nvSpPr>
            <p:cNvPr id="131" name=""/>
            <p:cNvSpPr/>
            <p:nvPr/>
          </p:nvSpPr>
          <p:spPr>
            <a:xfrm>
              <a:off x="1295280" y="281952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914400" y="330804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914400" y="307944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114800" y="2509920"/>
            <a:ext cx="4805280" cy="42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 comienza en el estado ini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 “leen” los caracteres de la cadena a reconocer uno a uno, pasando al estado correspondiente según el carácter leído (siempre debe haber una transición por cada caracter en 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Ʃ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 al terminar de leer la cadena el autómata se encuentra en el estado final, la cadena pertenece al lenguaje. De otra manera, 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3399"/>
                </a:solidFill>
                <a:latin typeface="Arial"/>
              </a:rPr>
              <a:t>Autómatas finitos determinísticos</a:t>
            </a:r>
            <a:br>
              <a:rPr sz="3800"/>
            </a:br>
            <a:r>
              <a:rPr b="0" lang="es-CL" sz="38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adena a reconoce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19920" y="4572000"/>
            <a:ext cx="685800" cy="687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7010280" y="3124080"/>
            <a:ext cx="685800" cy="687600"/>
            <a:chOff x="7010280" y="3124080"/>
            <a:chExt cx="685800" cy="687600"/>
          </a:xfrm>
        </p:grpSpPr>
        <p:sp>
          <p:nvSpPr>
            <p:cNvPr id="139" name=""/>
            <p:cNvSpPr/>
            <p:nvPr/>
          </p:nvSpPr>
          <p:spPr>
            <a:xfrm>
              <a:off x="7010280" y="3124080"/>
              <a:ext cx="685800" cy="687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44840" y="3158640"/>
              <a:ext cx="616680" cy="618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181120" y="3200400"/>
            <a:ext cx="971640" cy="687240"/>
            <a:chOff x="5181120" y="3200400"/>
            <a:chExt cx="971640" cy="687240"/>
          </a:xfrm>
        </p:grpSpPr>
        <p:sp>
          <p:nvSpPr>
            <p:cNvPr id="142" name=""/>
            <p:cNvSpPr/>
            <p:nvPr/>
          </p:nvSpPr>
          <p:spPr>
            <a:xfrm>
              <a:off x="5466960" y="3200400"/>
              <a:ext cx="685800" cy="687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5181480" y="3567240"/>
              <a:ext cx="28548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5181120" y="3395520"/>
              <a:ext cx="28548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57200" y="2362320"/>
            <a:ext cx="4267080" cy="4282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cue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 comienza en el estado ini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 “leen” los caracteres de la cadena a reconocer uno a uno, pasando al estado correspondiente según el carácter leí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 al terminar de leer la cadena el autómata se encuentra en el estado final, la cadena pertenece al lenguaje. De otra manera, 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2" idx="0"/>
            <a:endCxn id="139" idx="0"/>
          </p:cNvCxnSpPr>
          <p:nvPr/>
        </p:nvCxnSpPr>
        <p:spPr>
          <a:xfrm flipH="1" flipV="1" rot="5400000">
            <a:off x="6543720" y="2390760"/>
            <a:ext cx="76680" cy="1543680"/>
          </a:xfrm>
          <a:prstGeom prst="curvedConnector5">
            <a:avLst>
              <a:gd name="adj1" fmla="val 401415"/>
              <a:gd name="adj2" fmla="val 49988"/>
              <a:gd name="adj3" fmla="val 401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2" idx="4"/>
            <a:endCxn id="137" idx="2"/>
          </p:cNvCxnSpPr>
          <p:nvPr/>
        </p:nvCxnSpPr>
        <p:spPr>
          <a:xfrm flipH="1" rot="16200000">
            <a:off x="5400720" y="4296960"/>
            <a:ext cx="1029600" cy="210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7" idx="3"/>
            <a:endCxn id="137" idx="5"/>
          </p:cNvCxnSpPr>
          <p:nvPr/>
        </p:nvCxnSpPr>
        <p:spPr>
          <a:xfrm flipH="1" rot="16200000">
            <a:off x="6361920" y="4916880"/>
            <a:ext cx="2160" cy="486720"/>
          </a:xfrm>
          <a:prstGeom prst="curvedConnector5">
            <a:avLst>
              <a:gd name="adj1" fmla="val 20700000"/>
              <a:gd name="adj2" fmla="val 49962"/>
              <a:gd name="adj3" fmla="val 207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7" idx="1"/>
            <a:endCxn id="137" idx="7"/>
          </p:cNvCxnSpPr>
          <p:nvPr/>
        </p:nvCxnSpPr>
        <p:spPr>
          <a:xfrm flipH="1" rot="16200000">
            <a:off x="6361920" y="4429440"/>
            <a:ext cx="2160" cy="486720"/>
          </a:xfrm>
          <a:prstGeom prst="curvedConnector5">
            <a:avLst>
              <a:gd name="adj1" fmla="val -20700000"/>
              <a:gd name="adj2" fmla="val 49962"/>
              <a:gd name="adj3" fmla="val -207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0" idx="1"/>
            <a:endCxn id="139" idx="7"/>
          </p:cNvCxnSpPr>
          <p:nvPr/>
        </p:nvCxnSpPr>
        <p:spPr>
          <a:xfrm flipH="1" flipV="1" rot="5400000">
            <a:off x="7353000" y="3006000"/>
            <a:ext cx="26280" cy="461160"/>
          </a:xfrm>
          <a:prstGeom prst="curvedConnector5">
            <a:avLst>
              <a:gd name="adj1" fmla="val 1393055"/>
              <a:gd name="adj2" fmla="val 50000"/>
              <a:gd name="adj3" fmla="val 13930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9" idx="5"/>
          </p:cNvCxnSpPr>
          <p:nvPr/>
        </p:nvCxnSpPr>
        <p:spPr>
          <a:xfrm flipH="1" rot="16200000">
            <a:off x="7352640" y="3468960"/>
            <a:ext cx="2160" cy="486720"/>
          </a:xfrm>
          <a:prstGeom prst="curvedConnector5">
            <a:avLst>
              <a:gd name="adj1" fmla="val 20700000"/>
              <a:gd name="adj2" fmla="val 49962"/>
              <a:gd name="adj3" fmla="val 207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554520" y="25146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64000" y="25909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73640" y="4038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167240" y="4038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67040" y="4114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76520" y="54100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59120" y="14382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05600" y="14382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78400" y="14382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45240" y="14382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jempl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uaje que contiene cualquier n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mero de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, seguido de cualquier número de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657600" y="3429000"/>
            <a:ext cx="914400" cy="914400"/>
            <a:chOff x="3657600" y="3429000"/>
            <a:chExt cx="914400" cy="914400"/>
          </a:xfrm>
        </p:grpSpPr>
        <p:sp>
          <p:nvSpPr>
            <p:cNvPr id="165" name=""/>
            <p:cNvSpPr/>
            <p:nvPr/>
          </p:nvSpPr>
          <p:spPr>
            <a:xfrm>
              <a:off x="3657600" y="342900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03680" y="3475080"/>
              <a:ext cx="822240" cy="822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990720" y="3429000"/>
            <a:ext cx="1295280" cy="914400"/>
            <a:chOff x="990720" y="3429000"/>
            <a:chExt cx="1295280" cy="914400"/>
          </a:xfrm>
        </p:grpSpPr>
        <p:sp>
          <p:nvSpPr>
            <p:cNvPr id="168" name=""/>
            <p:cNvSpPr/>
            <p:nvPr/>
          </p:nvSpPr>
          <p:spPr>
            <a:xfrm>
              <a:off x="1371600" y="342900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990720" y="391752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990720" y="368892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1" name=""/>
          <p:cNvCxnSpPr>
            <a:stCxn id="168" idx="0"/>
            <a:endCxn id="165" idx="0"/>
          </p:cNvCxnSpPr>
          <p:nvPr/>
        </p:nvCxnSpPr>
        <p:spPr>
          <a:xfrm flipH="1" rot="16200000">
            <a:off x="2971080" y="2286360"/>
            <a:ext cx="2160" cy="2286720"/>
          </a:xfrm>
          <a:prstGeom prst="curvedConnector5">
            <a:avLst>
              <a:gd name="adj1" fmla="val -14400000"/>
              <a:gd name="adj2" fmla="val 49992"/>
              <a:gd name="adj3" fmla="val -144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72" name=""/>
          <p:cNvCxnSpPr>
            <a:stCxn id="165" idx="4"/>
            <a:endCxn id="173" idx="6"/>
          </p:cNvCxnSpPr>
          <p:nvPr/>
        </p:nvCxnSpPr>
        <p:spPr>
          <a:xfrm rot="5400000">
            <a:off x="3504240" y="4267080"/>
            <a:ext cx="534240" cy="686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74" name=""/>
          <p:cNvSpPr/>
          <p:nvPr/>
        </p:nvSpPr>
        <p:spPr>
          <a:xfrm>
            <a:off x="2808000" y="26989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63600" y="4572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"/>
          <p:cNvCxnSpPr/>
          <p:nvPr/>
        </p:nvCxnSpPr>
        <p:spPr>
          <a:xfrm flipH="1" rot="16200000">
            <a:off x="1808640" y="3257280"/>
            <a:ext cx="2520" cy="648360"/>
          </a:xfrm>
          <a:prstGeom prst="curvedConnector5">
            <a:avLst>
              <a:gd name="adj1" fmla="val -38000000"/>
              <a:gd name="adj2" fmla="val 50000"/>
              <a:gd name="adj3" fmla="val -380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77" name=""/>
          <p:cNvCxnSpPr/>
          <p:nvPr/>
        </p:nvCxnSpPr>
        <p:spPr>
          <a:xfrm flipH="1" rot="16200000">
            <a:off x="4120200" y="3220200"/>
            <a:ext cx="2160" cy="648360"/>
          </a:xfrm>
          <a:prstGeom prst="curvedConnector5">
            <a:avLst>
              <a:gd name="adj1" fmla="val -38000000"/>
              <a:gd name="adj2" fmla="val 50000"/>
              <a:gd name="adj3" fmla="val -380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78" name=""/>
          <p:cNvSpPr/>
          <p:nvPr/>
        </p:nvSpPr>
        <p:spPr>
          <a:xfrm>
            <a:off x="1487160" y="26290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14560" y="26049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4419720"/>
            <a:ext cx="914400" cy="914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/>
          <p:nvPr/>
        </p:nvCxnSpPr>
        <p:spPr>
          <a:xfrm flipH="1" rot="16200000">
            <a:off x="2976840" y="4895640"/>
            <a:ext cx="2520" cy="648360"/>
          </a:xfrm>
          <a:prstGeom prst="curvedConnector5">
            <a:avLst>
              <a:gd name="adj1" fmla="val 34800000"/>
              <a:gd name="adj2" fmla="val 50000"/>
              <a:gd name="adj3" fmla="val 348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81" name=""/>
          <p:cNvSpPr/>
          <p:nvPr/>
        </p:nvSpPr>
        <p:spPr>
          <a:xfrm>
            <a:off x="2839680" y="57276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327672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¡Más dificil que con expresiones regular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"/>
          <p:cNvCxnSpPr/>
          <p:nvPr/>
        </p:nvCxnSpPr>
        <p:spPr>
          <a:xfrm flipH="1" rot="16200000">
            <a:off x="2964240" y="4209840"/>
            <a:ext cx="2520" cy="648360"/>
          </a:xfrm>
          <a:prstGeom prst="curvedConnector5">
            <a:avLst>
              <a:gd name="adj1" fmla="val -38000000"/>
              <a:gd name="adj2" fmla="val 50000"/>
              <a:gd name="adj3" fmla="val -380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84" name=""/>
          <p:cNvSpPr/>
          <p:nvPr/>
        </p:nvSpPr>
        <p:spPr>
          <a:xfrm>
            <a:off x="2808000" y="3608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514600"/>
            <a:ext cx="487692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86400" y="3048120"/>
            <a:ext cx="27432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jempl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uaje que contiene cualquier n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mero de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 y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n cualquier o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590920" y="3886200"/>
            <a:ext cx="914400" cy="914400"/>
            <a:chOff x="2590920" y="3886200"/>
            <a:chExt cx="914400" cy="914400"/>
          </a:xfrm>
        </p:grpSpPr>
        <p:sp>
          <p:nvSpPr>
            <p:cNvPr id="190" name=""/>
            <p:cNvSpPr/>
            <p:nvPr/>
          </p:nvSpPr>
          <p:spPr>
            <a:xfrm>
              <a:off x="2590920" y="388620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37000" y="3932280"/>
              <a:ext cx="822240" cy="822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184480" y="4114440"/>
            <a:ext cx="380880" cy="457200"/>
            <a:chOff x="2184480" y="4114440"/>
            <a:chExt cx="380880" cy="457200"/>
          </a:xfrm>
        </p:grpSpPr>
        <p:sp>
          <p:nvSpPr>
            <p:cNvPr id="193" name=""/>
            <p:cNvSpPr/>
            <p:nvPr/>
          </p:nvSpPr>
          <p:spPr>
            <a:xfrm flipV="1">
              <a:off x="2184480" y="434304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2184480" y="411444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5562720" y="327672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¡Más fácil que con expresiones regular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"/>
          <p:cNvCxnSpPr/>
          <p:nvPr/>
        </p:nvCxnSpPr>
        <p:spPr>
          <a:xfrm flipH="1" rot="16200000">
            <a:off x="3053520" y="4364640"/>
            <a:ext cx="2160" cy="648360"/>
          </a:xfrm>
          <a:prstGeom prst="curvedConnector5">
            <a:avLst>
              <a:gd name="adj1" fmla="val 34800000"/>
              <a:gd name="adj2" fmla="val 50000"/>
              <a:gd name="adj3" fmla="val 348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97" name=""/>
          <p:cNvSpPr/>
          <p:nvPr/>
        </p:nvSpPr>
        <p:spPr>
          <a:xfrm>
            <a:off x="2916000" y="51958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/>
          <p:nvPr/>
        </p:nvCxnSpPr>
        <p:spPr>
          <a:xfrm flipH="1" rot="16200000">
            <a:off x="3040920" y="3678840"/>
            <a:ext cx="2160" cy="648360"/>
          </a:xfrm>
          <a:prstGeom prst="curvedConnector5">
            <a:avLst>
              <a:gd name="adj1" fmla="val -38000000"/>
              <a:gd name="adj2" fmla="val 50000"/>
              <a:gd name="adj3" fmla="val -380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99" name=""/>
          <p:cNvSpPr/>
          <p:nvPr/>
        </p:nvSpPr>
        <p:spPr>
          <a:xfrm>
            <a:off x="2884320" y="30765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2514600"/>
            <a:ext cx="487692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86400" y="3048120"/>
            <a:ext cx="27432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Objetivo del curs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715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Objetivo: Interiorizar al estudiante en el funcionamiento de los sistemas computacionales que apoyarán su trabajo profesion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mprender cómo funciona un computa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943600" y="2133720"/>
            <a:ext cx="2841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jempl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uaje con cualquier cantidad de a’s, pero un n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mero impar de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886200" y="3809880"/>
            <a:ext cx="914400" cy="914400"/>
            <a:chOff x="3886200" y="3809880"/>
            <a:chExt cx="914400" cy="914400"/>
          </a:xfrm>
        </p:grpSpPr>
        <p:sp>
          <p:nvSpPr>
            <p:cNvPr id="205" name=""/>
            <p:cNvSpPr/>
            <p:nvPr/>
          </p:nvSpPr>
          <p:spPr>
            <a:xfrm>
              <a:off x="3886200" y="380988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32280" y="3855960"/>
              <a:ext cx="822240" cy="822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219320" y="3809880"/>
            <a:ext cx="1295280" cy="914400"/>
            <a:chOff x="1219320" y="3809880"/>
            <a:chExt cx="1295280" cy="914400"/>
          </a:xfrm>
        </p:grpSpPr>
        <p:sp>
          <p:nvSpPr>
            <p:cNvPr id="208" name=""/>
            <p:cNvSpPr/>
            <p:nvPr/>
          </p:nvSpPr>
          <p:spPr>
            <a:xfrm>
              <a:off x="1600200" y="380988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1219320" y="429840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1219320" y="406980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11" name=""/>
          <p:cNvCxnSpPr>
            <a:stCxn id="208" idx="0"/>
            <a:endCxn id="205" idx="0"/>
          </p:cNvCxnSpPr>
          <p:nvPr/>
        </p:nvCxnSpPr>
        <p:spPr>
          <a:xfrm flipH="1" rot="16200000">
            <a:off x="3199320" y="2666520"/>
            <a:ext cx="2520" cy="2286720"/>
          </a:xfrm>
          <a:prstGeom prst="curvedConnector5">
            <a:avLst>
              <a:gd name="adj1" fmla="val -14400000"/>
              <a:gd name="adj2" fmla="val 49992"/>
              <a:gd name="adj3" fmla="val -144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12" name=""/>
          <p:cNvCxnSpPr>
            <a:stCxn id="205" idx="4"/>
            <a:endCxn id="208" idx="4"/>
          </p:cNvCxnSpPr>
          <p:nvPr/>
        </p:nvCxnSpPr>
        <p:spPr>
          <a:xfrm rot="5400000">
            <a:off x="3198960" y="3582000"/>
            <a:ext cx="2520" cy="2286720"/>
          </a:xfrm>
          <a:prstGeom prst="curvedConnector5">
            <a:avLst>
              <a:gd name="adj1" fmla="val 14400000"/>
              <a:gd name="adj2" fmla="val 49992"/>
              <a:gd name="adj3" fmla="val 144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13" name=""/>
          <p:cNvSpPr/>
          <p:nvPr/>
        </p:nvSpPr>
        <p:spPr>
          <a:xfrm>
            <a:off x="3036600" y="3079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03200" y="5068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"/>
          <p:cNvCxnSpPr/>
          <p:nvPr/>
        </p:nvCxnSpPr>
        <p:spPr>
          <a:xfrm flipH="1" rot="16200000">
            <a:off x="2037600" y="3639240"/>
            <a:ext cx="2160" cy="648360"/>
          </a:xfrm>
          <a:prstGeom prst="curvedConnector5">
            <a:avLst>
              <a:gd name="adj1" fmla="val -38000000"/>
              <a:gd name="adj2" fmla="val 50000"/>
              <a:gd name="adj3" fmla="val -380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16" name=""/>
          <p:cNvCxnSpPr/>
          <p:nvPr/>
        </p:nvCxnSpPr>
        <p:spPr>
          <a:xfrm flipH="1" rot="16200000">
            <a:off x="4348800" y="3588480"/>
            <a:ext cx="2160" cy="648360"/>
          </a:xfrm>
          <a:prstGeom prst="curvedConnector5">
            <a:avLst>
              <a:gd name="adj1" fmla="val -38000000"/>
              <a:gd name="adj2" fmla="val 50000"/>
              <a:gd name="adj3" fmla="val -380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17" name=""/>
          <p:cNvSpPr/>
          <p:nvPr/>
        </p:nvSpPr>
        <p:spPr>
          <a:xfrm>
            <a:off x="1868400" y="30099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79600" y="2960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62720" y="327672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ás o menos lo mismo que con expresiones reg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2514600"/>
            <a:ext cx="487692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86400" y="3048120"/>
            <a:ext cx="27432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Aut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ómata finito no determinístic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n el caso de un AFD, dado el estado actual y el siguiente carácter, se sabe exactamente a qué estado pasará el autóm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n un AFND puede haber varias alternativas a seguir para un mismo caracter. El AFND sigue todas las alternativas al mismo tiempo. Esto implica que hay más de un estado activo a la vez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(Recordar que los AFD y los AFND son equivalentes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(ab|aba)* - AF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49312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(ab|aba)* - AFN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708660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Arial"/>
              </a:rPr>
              <a:t>¿Qué queda fuera de los lenguajes regulares?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enguajes con reglas más complej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jemplo: Lenguajes libres de con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odas las cadenas con la misma cantidad de </a:t>
            </a:r>
            <a:r>
              <a:rPr b="0" i="1" lang="es-CL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’s y </a:t>
            </a:r>
            <a:r>
              <a:rPr b="0" i="1" lang="es-CL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b, aabb, abab, bbaa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odas las cadenas con N a’s seguidas de N b’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b, aabb, aaabbb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odas las cadenas con paréntesis balance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3+4)*((8-2)*5)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balance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5+3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no balance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nte definir estos ejemplos utilizando ER, AFD o AFND. ¿Qué problemas encuentr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Trabajo 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práctic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utorial de jFlap (10mi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ree los AFD en jFlap para los siguientes lenguaj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enguaje que contiene las palabras ab y ba. Ejemplo de cadena: a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enguaje que comienza por cualquier número de a’s, y termina con una b. Ejemplo de cadena: aaaaa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enguaje que contiene exactamente dos caracteres que pueden ser a o b. Ejemplo de cadena: b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enguaje que contiene a’s y b’s alternadamente. Ejemplo de cadena: abababab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etodologí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ada semana: Clase teórica + trabajo práctic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ntrega trabajo práctico: mismo día clase teórica, 17:30 horas, sin fal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Evalu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T: Evaluaciones teóricas (2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4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P: Trabajos pr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áctico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2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: Proyectos (3) = 4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ximición con 5,5 o más, siempre que E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≥4, TP≥4, PR≥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Nota Final = 70% Nota Presentaci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  <a:ea typeface="Arial"/>
              </a:rPr>
              <a:t>ón + 30% Exa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03399"/>
                </a:solidFill>
                <a:latin typeface="Arial"/>
              </a:rPr>
              <a:t>Fundamentos de la Computaci</a:t>
            </a: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ón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leria Herskov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odolfo Tole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Fundamentos de la Computaci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iencias de la computación: estudio de la teoría de la información y comput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rocesos algorítimicos que crean, describen y transforman inform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tudio de máquinas abstractas y los problemas que éstas pueden resol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undamentos de la comput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Hoy: lenguajes regulares – usando expresiones regulares y autóma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róxima clase: utilizaremos este tipo de abstracciones para definir una Máquina de Tu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áquina de Turing: es capaz de realizar operaciones matemáticas de manera mecánica. Se demostró que esta máquina permite computar cualquiera de estas operaciones y por lo tanto son equivalentes a cualquier computad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Alfabet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56386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ju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Finito (cierto n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mero de element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No puede estar vací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o llamaremos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us elementos son símbolos que llamaremos caracte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Ejemplo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a,b,c,d,e,f,g,h,i,j,k,l,m,n,ñ,o,p,q,r,s,t,u,v,w,x,y,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,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0,1,2,3,4,5,6,7,8,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A,4,#,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434280" y="990720"/>
            <a:ext cx="1719000" cy="2361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791320" y="3657600"/>
            <a:ext cx="327636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aden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cuencia finita de símbolos de un alfabe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a,b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lgunas cadenas: aaa, abba, b, bbbbbbb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a,b,…,z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lgunas cadenas: auto,barco,casa,bbirv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* es el conjunto de todas las cadenas de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a,b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= a,b,ab,ba,aa,bb,aab,aba,abb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a,b,…,z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=a,b,...,abbbb,…,auto,…, barco,…. bbirvf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8T14:23:54Z</dcterms:created>
  <dc:creator/>
  <dc:description/>
  <dc:language>en-US</dc:language>
  <cp:lastModifiedBy>Valeria Herskovic</cp:lastModifiedBy>
  <dcterms:modified xsi:type="dcterms:W3CDTF">2010-03-25T19:32:13Z</dcterms:modified>
  <cp:revision>82</cp:revision>
  <dc:subject/>
  <dc:title>E-learning</dc:title>
</cp:coreProperties>
</file>