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31.png" ContentType="image/png"/>
  <Override PartName="/ppt/media/image35.png" ContentType="image/png"/>
  <Override PartName="/ppt/media/image32.jpeg" ContentType="image/jpeg"/>
  <Override PartName="/ppt/media/image36.png" ContentType="image/png"/>
  <Override PartName="/ppt/media/image3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6.wmf" ContentType="image/x-wmf"/>
  <Override PartName="/ppt/media/image25.png" ContentType="image/png"/>
  <Override PartName="/ppt/media/image19.jpeg" ContentType="image/jpeg"/>
  <Override PartName="/ppt/media/image5.wmf" ContentType="image/x-wmf"/>
  <Override PartName="/ppt/media/image37.jpeg" ContentType="image/jpeg"/>
  <Override PartName="/ppt/media/image28.wmf" ContentType="image/x-wmf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CEBC-5B67-46EE-9841-8C803382721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DB4-A4AE-48A4-ADBA-85E414488E2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DC9-771A-4B7E-BB78-6109A5D486A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8240" cy="34131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MS Sans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11F3-A5E9-4A33-8B48-F43A5BDC36D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530-B5F7-46D2-B1FE-5463865AB22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refrontal cortex, a significant number of norepinephrine (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ers exist that are indiscriminant in their reuptake of both N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amine (DA). The blockade of the NE transporter creates an equiva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stream increase of both NE and DA in the prefrontal cort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tera does not increase DA levels in the nucleus accumbens,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explain its lack of association with stimulant or euphoriant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tera does not increase DA levels in the striatum, which may expl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lack of association with motor activities, such as 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discussed above were derived from animal studies. Effect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ET) scans show that patients with ADHD had lower levels of dopamine transporters in the nucleus accumbens, a part of the brain's reward center, than control su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0A3-313E-4112-8F49-891590775B7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xposición prenatal a acetilcolina produce una persistente disminución de la actividad colinergica y serotoninergica, con secuelas en el aprendizaje y la audición, que no se expresan en el nacimiento sino mas adel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D22C-FFE7-42CC-A843-C56DDEFC4B9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F299-668C-48D7-A2F5-9B6B117D2F0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4C4-BA50-46C1-AB31-D2836AD5848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33A-606D-4513-AE05-DCB97A706F7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DD8-CA34-4480-B1E3-E2FC262C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920-ABFC-4316-8124-3BB32B98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E9B-D9F5-49E5-AAC1-DF5F9175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167-D655-4463-8AEF-A4B8CDF6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A3B-3518-4CA5-9240-E4157E2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4B69-E307-420A-BC88-712BAE8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D23E-6F74-421E-8EC3-1E1362F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411-EE7B-4306-A01F-2BF17204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8373-1125-41C6-9635-C6178DB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A04-76EF-4AF7-B3C5-6116022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642F-EE8C-4FBD-ACD2-78A77E6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ECD-F38B-4A51-832B-463CD0E9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7CCF-8E9A-48F4-9CC2-5068EDC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378D-65FB-402E-8B9F-FE2DC32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8BAC-D3A8-4B99-8EB4-E27AFA2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43CD-1C64-48A5-848F-8A0759DB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87EF-11B0-4B0B-A797-0E460E48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E2583-3A77-4C28-B448-5C46569C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BAEAF-ED2D-41D4-9FF1-A689CC4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6ED1D-5FB9-4D42-B9BE-B5B46F16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B7D1C-CD4F-432E-9F7C-EF36130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DA5E0-E62A-4782-BC23-8928372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FB3-E68E-4715-9AA3-BEAE2AB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54638-D891-442F-A6A4-D8BB46A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9FB4E-FE08-4A80-9175-5010A6C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ACC32-93E1-4A14-A6E5-A4803D9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764E4-FE53-4363-8F6A-0A240AD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8AE43-B58A-47B5-98C4-F3427372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B0852-615E-43C5-B776-09B204EC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B82CB-2B17-4051-A240-46845EDB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8752-E192-4494-909E-D5E3F96E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EC61-6C84-4A8C-B061-ACEEBC2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2E86-650F-4E8F-8455-399AF7C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D01-2860-4597-BCF5-6B60F5E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F1A8-321A-4C77-B874-A0E2450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986B-85F9-479A-AB51-D2C5A96C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A848-7166-4B9C-AC77-834FB2E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0DE4-5AB4-4815-845D-C956F84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DA8B-10B9-4241-87E8-B4C74EF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20B5-BB39-4A97-8240-41A0829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7D93-C77B-419B-B4BA-A1247DFC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4814-8CFA-4CD1-8E5E-66B05673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FE19-7BA3-4A1F-B4C0-ADC823BB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2974D-6896-41C7-8300-2FBFC876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3A2-4087-4191-B5F1-2AFE7D7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0FBBB-C27A-41F7-A3D3-9A2498D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EFD53-E54B-4B9F-A07B-541E589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1DCEF-D351-44CF-83A6-6258231C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69DBE-F6F9-48BE-B3F4-588980E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E4A8B-B534-420C-8342-0284288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96393-85D9-4846-9FE3-866EBE9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90C6C-D54C-4434-837C-3371F23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89B16-417B-4593-94EA-641013E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6E1F7-1779-4DCA-8A33-76BAD89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C452A-3261-4FFE-A42B-94EA2ADF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7DE-0D95-4FA5-B718-D6A7643B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BB03C-754C-47A0-BDA1-B1629BD9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B2F0A-69D6-424D-8C0B-CD51476E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2260C-BDE8-4F6E-8565-1119D13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B7858-062D-45CF-9B8D-A6D2441C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9F7E4-F1C0-4EFB-BF81-EABAA75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93A5F-7ADE-4C51-A99C-BF01ED0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2E01F-3A14-4963-A47C-C509363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4A4A1-3EAB-451E-BFB5-1BCB43A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383EC-200D-42B3-89FF-52B61CC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527DA-2338-4C26-9D6F-A22CC48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674-4FB2-4981-BD0A-D4DB2E9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C9314-B9AC-4857-B61E-D4CB69E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34CCC-4291-46F2-9FCC-D588A6EE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52298-3F89-4645-8BF9-8FED44A1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E037F-BED9-4EA8-B3ED-062B60FD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E5CBD-7ED9-436F-9928-E31E7F8E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8A239-3FA3-404A-81A3-E0EC582A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0E49B-9746-4C8D-B171-EC4D4936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CF5AD-C09D-4428-8C4F-938ED705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28EF4-58D5-4E6C-94CF-EF23CA7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63D2F-E5F3-4FD7-B5AF-2E16F71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6C1-0D30-404B-ACBB-4942D1B0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AFEDC-977D-42A1-8267-F02219A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96FE3-745D-4025-B669-E78A1A4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A6097-1D18-4E74-9651-78B56F31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0D670-E369-48D1-AAB7-967D713B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09468-C9B0-4589-956E-8B9EA4E2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D9CDB-554C-47E0-9ED3-245F5992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258C3-BF94-4687-8254-C7505C3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8A71-918D-4919-94B5-CAA5BE58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F481-F558-49F6-AA79-7E3689F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0B58-7AEE-4C72-B1F4-ED8D4299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A81-0791-450E-8E2F-BFB0E79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CD43-CE99-439B-9F0A-38C99E2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338C-943A-42FF-B940-DE91129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B3BA-C729-4D17-AF9A-1862CFFA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E3D76-4066-4564-A77E-B4E34C9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B268-BC20-4B8F-B3A5-3A31229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AF191-23C2-4247-B7E8-A097B981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0A1CC-B25C-4C77-A57E-4D9497CE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7BA-E255-4E47-923F-2D80E8EE25B4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F57-E779-4AE1-986D-2A291BA9B3AA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48A-F69D-428F-9A11-EBB35DBCF14C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bf5f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bf5f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A1B-E63F-4447-B8BC-9470DC4D32E2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E932-51BD-4AE5-95CE-716C70D936A4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50B-5983-42AA-AF5F-BBF74160CC71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A25-5A10-44CB-B1D2-D473A2A61F5E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EADE-3060-451B-946F-5531EF0CDAD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32.jpeg"/><Relationship Id="rId3" Type="http://schemas.openxmlformats.org/officeDocument/2006/relationships/slide" Target="slide52.xml"/><Relationship Id="rId4" Type="http://schemas.openxmlformats.org/officeDocument/2006/relationships/image" Target="../media/image3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3000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Dra. Marcela Abufhele 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Psiquiatra de Niños y Adolescent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Clínica Psiquiátrica Universitari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42560" y="712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9dd9"/>
                </a:solidFill>
                <a:latin typeface="Century Schoolbook"/>
              </a:rPr>
              <a:t>SINDROME DEFICIT DE ATENCION EN NIÑOS Y ADOLESCENTES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0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3357720" y="1643040"/>
            <a:ext cx="4643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CRITERIOS DIAGNOS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storno que, junto al desorden oposicionista y trastorno de conducta, está agrupado bajo la categoría de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trastornos por déficit de atención y comportamiento perturbado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según el DSM 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is o más síntomas de Desaten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is o más síntomas de hiperactividad impulsivid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íntomas en dos o más contex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icio Precoz antes de los 7 añ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Discapacidad en áreas de desarroll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otro trastorno psiquiátric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1217520" y="0"/>
            <a:ext cx="663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SUBTIPOS CLÍNICOS TDAH</a:t>
            </a:r>
            <a:endParaRPr b="0" lang="en-US" sz="35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11430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Con predominio de inaten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ácilmente distrácti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in excesiva hiperactividad ni impulsividad en conduc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Con predominio de Hiperactivida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e Impuls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xtremadamente hiperactivo e impulsiv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atención leve o ausen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 general en niños menor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Tipo Combin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btipo más frecuen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resenta 3 signos centrales del trastorn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4071960" y="1163520"/>
          <a:ext cx="492912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163520"/>
                    <a:ext cx="49291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 Box 5"/>
          <p:cNvSpPr/>
          <p:nvPr/>
        </p:nvSpPr>
        <p:spPr>
          <a:xfrm>
            <a:off x="4067280" y="6381720"/>
            <a:ext cx="47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9dd9"/>
                </a:solidFill>
                <a:latin typeface="Times New Roman"/>
              </a:rPr>
              <a:t>Adaptado de Asociación Psiquiátrica Americana DSM IV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http://www.solucionespedagogicas.cl/images/dificitatencional.jpg"/>
          <p:cNvPicPr/>
          <p:nvPr/>
        </p:nvPicPr>
        <p:blipFill>
          <a:blip r:embed="rId3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7120" y="414000"/>
            <a:ext cx="77169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SUB-TIP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42" name="3 Diagrama" descr=""/>
          <p:cNvPicPr/>
          <p:nvPr/>
        </p:nvPicPr>
        <p:blipFill>
          <a:blip r:embed="rId1"/>
          <a:stretch/>
        </p:blipFill>
        <p:spPr>
          <a:xfrm>
            <a:off x="353880" y="1195560"/>
            <a:ext cx="7704360" cy="4986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1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Vicente, preescolar de 4 años. La Madre lo trae a consultar derivado del jardín por severa inquietud motora, no realiza actividades en la sala o las inicia y luego sale corriendo, corre y salta constantemente. Golpea a compañer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dice que en la casa es igual, es mas inquieto de  lo normal, no se queda dormido nunca, interrumpe y ha tenido múltiples accidentes doméstic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demás “es voluntarioso y manipulador con la madre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Si no se le da en el gusto, hace pataletas y siempre consigue lo que quier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PRESENTACIÓN CLÍNICA DEL TDAH </a:t>
            </a:r>
            <a:br>
              <a:rPr sz="3200"/>
            </a:b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EN PRE-ESCOLARES</a:t>
            </a:r>
            <a:r>
              <a:rPr b="1" lang="es-ES" sz="32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0" y="164304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quietud motor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gresividad (hacia otros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sparrama las cos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uriosidad insaciab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emerario  - Pone en peligro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 sí mismo o a otr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Bajos niveles  de persistenci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Juegos rudos, a menudo destructiv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mandantes, ruidosos, argumentativ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Pataletas frecuent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75% corresponde al subtipo hiperactivo impuls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571680" y="6100920"/>
            <a:ext cx="764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DuPaul GJ, et al. J Am Acad Child Adolesc Psychiatry 2001; 40:508-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Attention Dedicit Hyperactivity Disorder in Preschol Children  Laurence et. 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Child Adolesc Psychiatric Clin N Am 17 (2008) 347-3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>
            <a:off x="214200" y="1785960"/>
            <a:ext cx="395460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2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rancisca, escolar de 10 años. Cursa 5to básico. Madre consulta porque le preocupa que este año las notas de su hija han bajado considerablemente, hasta el punto de tener 2 asignaturas rojas. Hasta el año pasado rendimiento regular a malo (x: 5.0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y Fca concuerdan en que no hay otra sintomatología concomitante y que no ha cambiado el patrón de estudio, el cual es my intenso, hasta el punto que Fca prácticamente pasa todo su tiempo fuera del colegio realizando resúmenes y estudian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descrita como una niña muy respetuosa, nunca ha tenido problemas conductuales, más bien retraí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I norm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20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PRESENTACIÓN CLÍNICA DEL TDAH EN ESCOLARES</a:t>
            </a:r>
            <a:r>
              <a:rPr b="1" lang="es-ES" sz="32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286160" y="1428840"/>
            <a:ext cx="4486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e distrae fácilment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areas domésticas poco organizadas, descuidado, errores, a menudo incompletas  o pérdid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alificaciones académicas baj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monestaciones frecuentes en el colegi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 e invade a los otr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utoestima baj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rrocha agre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ificultad en relaciones con pares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espera su turno en jueg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 menudo fuera de s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Percepción de inmadurez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colabora en tareas doméstic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66760" y="6329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Greenhill LL. J. Clin Psychiatry 1998;59 (Suppl7):31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psicom"/>
          <p:cNvPicPr/>
          <p:nvPr/>
        </p:nvPicPr>
        <p:blipFill>
          <a:blip r:embed="rId2"/>
          <a:stretch/>
        </p:blipFill>
        <p:spPr>
          <a:xfrm>
            <a:off x="142920" y="2071800"/>
            <a:ext cx="3943440" cy="30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3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colar de 9 años. Traido a consultar por obligación del colegio, tras amenaza de cancelación de matrícul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Informe del colegio describe severas dificultades conductuales “desde siempre”. Es oposicionista y provocador con profesores. Además tiene rendimiento regular a malo en ramos como matemáticas y lenguaje y bueno en educación fisica. Conners abreviado de 27 punt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reconoce inquietud motora y dificultades en su manejo, pero tiende a culpar al colegio de no saber manejarlo planteando que ella no está de acuerdo con medic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7929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entury Schoolbook"/>
              </a:rPr>
              <a:t>TDAH: MULTISISTÉMIC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57120" y="1071720"/>
          <a:ext cx="8001000" cy="4857480"/>
        </p:xfrm>
        <a:graphic>
          <a:graphicData uri="http://schemas.openxmlformats.org/drawingml/2006/table">
            <a:tbl>
              <a:tblPr/>
              <a:tblGrid>
                <a:gridCol w="1765440"/>
                <a:gridCol w="220680"/>
                <a:gridCol w="1544400"/>
                <a:gridCol w="1397160"/>
                <a:gridCol w="1469880"/>
                <a:gridCol w="1603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s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sc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iper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fiere 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s rutina: horas de comidas y dorm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para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sta a 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ros ni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ros ni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lo invi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 even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s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ha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rde 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utoes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mpulsiv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tructivo, fácilmente frust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uesta inadecu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espera su turno, hace tra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mete 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ate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cer las tareas es 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sadill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rde co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retrasa 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 t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c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s niñ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portan 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sigue instru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 los jue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nsa de s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smo que 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 inteli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464" name="Rectangle 3"/>
          <p:cNvSpPr/>
          <p:nvPr/>
        </p:nvSpPr>
        <p:spPr>
          <a:xfrm>
            <a:off x="214200" y="6072120"/>
            <a:ext cx="81439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Barkley RA, et al. J Atten Disord 1996;1:41-54; Bird HR, et al. Int J Methods Psychiatr Res 1993;3:167-76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Greenhill LL, et al. J Am Acad Child Adolesc Psychiatry 2001;40:180-7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Murphy K, et al. Attention deficit hyperactivity disorder adults: comorbidities and adaptive impairments. Compr Psychiatry 1996;37:393-40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Hodges K, et al. J Child Fam Stud 1996;5:445-67; Szatmari P, et al. J Child Psychol Psychiatry 1989;30:205-17</a:t>
            </a: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786800" y="0"/>
            <a:ext cx="1000080" cy="107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INTRODUC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09" name="3 Diagrama" descr=""/>
          <p:cNvPicPr/>
          <p:nvPr/>
        </p:nvPicPr>
        <p:blipFill>
          <a:blip r:embed="rId1"/>
          <a:stretch/>
        </p:blipFill>
        <p:spPr>
          <a:xfrm>
            <a:off x="360360" y="1878120"/>
            <a:ext cx="7740720" cy="4413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70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f6fc6"/>
                </a:solidFill>
                <a:latin typeface="Century Schoolbook"/>
              </a:rPr>
              <a:t>PRESENTACIÓN CLÍNICA DEL TDAH EN ADOLESCENTES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42864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entido de  inquietud interna más que hiperat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Trabajo escolar desorganiz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Falla en el trabajo autónom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Baja autoesti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laciones con pares pob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capacidad para postergar gratific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iscapacidades de aprendizaje especific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457200" y="41911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uctas generalmente no se modifica con compensaciones o casti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volucra en conductas riesgosa (velocidad, sexo sin protección, abuso de susta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uido aparente de su propia seguridad (lesiones o accid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icultades o confrontación  con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1357200" y="6329520"/>
            <a:ext cx="732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Greenhill LL. J. Clin Psychiatry 1998;59 (Suppl 7):31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4" descr="http://anonadatos.files.wordpress.com/2008/09/estudiar_g2.jpg"/>
          <p:cNvPicPr/>
          <p:nvPr/>
        </p:nvPicPr>
        <p:blipFill>
          <a:blip r:embed="rId1"/>
          <a:stretch/>
        </p:blipFill>
        <p:spPr>
          <a:xfrm>
            <a:off x="428760" y="164304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00960" y="0"/>
            <a:ext cx="128592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PREVALENCIA DEL S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56760" y="1357200"/>
            <a:ext cx="81536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blación Esc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3% – 9.5%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Promedio 5.23%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1100" spc="-1" strike="noStrike">
                <a:solidFill>
                  <a:srgbClr val="000000"/>
                </a:solidFill>
                <a:latin typeface="Century Schoolbook"/>
              </a:rPr>
              <a:t>Barkley (1997,1998)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Surgeant 2000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ferencias Geográficas y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Chile 6%  </a:t>
            </a:r>
            <a:r>
              <a:rPr b="0" lang="es-CL" sz="1400" spc="-1" strike="noStrike">
                <a:solidFill>
                  <a:srgbClr val="000000"/>
                </a:solidFill>
                <a:latin typeface="Century Schoolbook"/>
              </a:rPr>
              <a:t>De la Barra(1998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blación Consultante 17.5%                </a:t>
            </a:r>
            <a:r>
              <a:rPr b="0" lang="es-CL" sz="1200" spc="-1" strike="noStrike">
                <a:solidFill>
                  <a:srgbClr val="000000"/>
                </a:solidFill>
                <a:latin typeface="Century Schoolbook"/>
              </a:rPr>
              <a:t>Almonte (1998)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esentación en ambos sexos. Relación </a:t>
            </a:r>
            <a:r>
              <a:rPr b="0" i="1" lang="es-ES_tradnl" sz="2500" spc="-1" strike="noStrike">
                <a:solidFill>
                  <a:srgbClr val="000000"/>
                </a:solidFill>
                <a:latin typeface="Century Schoolbook"/>
              </a:rPr>
              <a:t>H :  M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colares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4:1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dultos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2: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s mujeres menos agresividad y comorbilidad conductu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4 Rectángulo"/>
          <p:cNvSpPr/>
          <p:nvPr/>
        </p:nvSpPr>
        <p:spPr>
          <a:xfrm>
            <a:off x="208584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Child Adolesc Psychiatric Clin N Am 17 (2008) 254-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9dd9"/>
                </a:solidFill>
                <a:latin typeface="Century Schoolbook"/>
              </a:rPr>
              <a:t>ETIOPATOGENIA:</a:t>
            </a:r>
            <a:br>
              <a:rPr sz="2700"/>
            </a:br>
            <a:r>
              <a:rPr b="0" lang="es-MX" sz="2700" spc="-1" strike="noStrike">
                <a:solidFill>
                  <a:srgbClr val="009dd9"/>
                </a:solidFill>
                <a:latin typeface="Century Schoolbook"/>
              </a:rPr>
              <a:t>FACTORES IMPLICADOS  EN EL S.D.A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83" name="8 Marcador de contenido" descr=""/>
          <p:cNvPicPr/>
          <p:nvPr/>
        </p:nvPicPr>
        <p:blipFill>
          <a:blip r:embed="rId1"/>
          <a:stretch/>
        </p:blipFill>
        <p:spPr>
          <a:xfrm>
            <a:off x="554040" y="1639800"/>
            <a:ext cx="7248600" cy="4280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FACTORES FAMILIARES Y GENÉ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86" name="3 Diagrama" descr=""/>
          <p:cNvPicPr/>
          <p:nvPr/>
        </p:nvPicPr>
        <p:blipFill>
          <a:blip r:embed="rId1"/>
          <a:stretch/>
        </p:blipFill>
        <p:spPr>
          <a:xfrm>
            <a:off x="554040" y="1627200"/>
            <a:ext cx="7656480" cy="4237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72240" y="0"/>
            <a:ext cx="121464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42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ltiplicidad de genes  de variados efe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550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Genes candidat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GEN del transportador de dopamina DAT1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GEN DOPAMINA 4 (DRD4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RD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opamina Beta hidroxila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 D2, D catecol O metiltransfera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es noradrenérg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es serotoninérg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550"/>
              </a:spcBef>
              <a:buClr>
                <a:srgbClr val="009dd9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GENES EN LA NEUROTRANSMISION DOPAMINERGIC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Estudios en gemelos                   heredabilidad 70%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eredabilidad de vulnerabilida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5 Rectángulo"/>
          <p:cNvSpPr/>
          <p:nvPr/>
        </p:nvSpPr>
        <p:spPr>
          <a:xfrm>
            <a:off x="1104840" y="6429240"/>
            <a:ext cx="7467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6 Flecha derecha"/>
          <p:cNvSpPr/>
          <p:nvPr/>
        </p:nvSpPr>
        <p:spPr>
          <a:xfrm>
            <a:off x="3429000" y="5143680"/>
            <a:ext cx="673200" cy="3315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FACTORES FAMILIARES Y GENÉ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323040" y="3243240"/>
          <a:ext cx="233676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243240"/>
                    <a:ext cx="233676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0160" y="631800"/>
            <a:ext cx="6829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entury Schoolbook"/>
              </a:rPr>
              <a:t>NEUROTRANSMISORES INVOLUCRADOS EN EL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57120" y="125208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 regiones ricas en noradrenalina y dopamina estan consistentemente implica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349200" y="2487600"/>
            <a:ext cx="1682640" cy="6523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Aten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2014560" y="2487600"/>
            <a:ext cx="2146320" cy="6350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Neurotransmisor</a:t>
            </a:r>
            <a:br>
              <a:rPr sz="1600"/>
            </a:b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Impl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4143240" y="2487600"/>
            <a:ext cx="1798920" cy="6350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349200" y="3122640"/>
            <a:ext cx="168444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2000160" y="3143160"/>
            <a:ext cx="214632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oradrena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4143240" y="3122640"/>
            <a:ext cx="179892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conexión con e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mbio de foco a un nuevo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estar atención al nuevo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1"/>
          <p:cNvSpPr/>
          <p:nvPr/>
        </p:nvSpPr>
        <p:spPr>
          <a:xfrm>
            <a:off x="7180200" y="3530520"/>
            <a:ext cx="128520" cy="12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2"/>
          <p:cNvSpPr/>
          <p:nvPr/>
        </p:nvSpPr>
        <p:spPr>
          <a:xfrm>
            <a:off x="7361280" y="4316400"/>
            <a:ext cx="19692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3"/>
          <p:cNvSpPr/>
          <p:nvPr/>
        </p:nvSpPr>
        <p:spPr>
          <a:xfrm>
            <a:off x="7264440" y="3656160"/>
            <a:ext cx="108000" cy="728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642960" y="6183360"/>
            <a:ext cx="8072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6fc6"/>
                </a:solidFill>
                <a:latin typeface="Arial Narrow"/>
              </a:rPr>
              <a:t>Pliszka SR, McCracken IT, Maas JW. Catecholamines in Attention Deficit Hyperactivity Disorder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6fc6"/>
                </a:solidFill>
                <a:latin typeface="Arial Narrow"/>
              </a:rPr>
              <a:t>Current Perspectives. J Am Acad Child Adolesc Psychiatry. 1996;35(3):264-272; Mefford and Potter et. al Medical Hypotheses, 1989; Robbins &amp; Everitt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6"/>
          <p:cNvSpPr/>
          <p:nvPr/>
        </p:nvSpPr>
        <p:spPr>
          <a:xfrm>
            <a:off x="7140600" y="4383000"/>
            <a:ext cx="241200" cy="41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7"/>
          <p:cNvGrpSpPr/>
          <p:nvPr/>
        </p:nvGrpSpPr>
        <p:grpSpPr>
          <a:xfrm>
            <a:off x="349200" y="3422520"/>
            <a:ext cx="7815240" cy="2305080"/>
            <a:chOff x="349200" y="3422520"/>
            <a:chExt cx="7815240" cy="2305080"/>
          </a:xfrm>
        </p:grpSpPr>
        <p:sp>
          <p:nvSpPr>
            <p:cNvPr id="509" name="Oval 18"/>
            <p:cNvSpPr/>
            <p:nvPr/>
          </p:nvSpPr>
          <p:spPr>
            <a:xfrm>
              <a:off x="7361280" y="4316400"/>
              <a:ext cx="196920" cy="20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7264440" y="3656160"/>
              <a:ext cx="108000" cy="7286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349200" y="4718160"/>
              <a:ext cx="168444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2014560" y="4718160"/>
              <a:ext cx="214632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oradrenalina y Dop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"/>
            <p:cNvSpPr/>
            <p:nvPr/>
          </p:nvSpPr>
          <p:spPr>
            <a:xfrm>
              <a:off x="4143240" y="4718160"/>
              <a:ext cx="179892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nálisis de d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eparación para la respue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24"/>
            <p:cNvGrpSpPr/>
            <p:nvPr/>
          </p:nvGrpSpPr>
          <p:grpSpPr>
            <a:xfrm>
              <a:off x="7264440" y="3422520"/>
              <a:ext cx="900000" cy="1100160"/>
              <a:chOff x="7264440" y="3422520"/>
              <a:chExt cx="900000" cy="1100160"/>
            </a:xfrm>
          </p:grpSpPr>
          <p:sp>
            <p:nvSpPr>
              <p:cNvPr id="515" name="Oval 25"/>
              <p:cNvSpPr/>
              <p:nvPr/>
            </p:nvSpPr>
            <p:spPr>
              <a:xfrm>
                <a:off x="7655040" y="3422520"/>
                <a:ext cx="126720" cy="123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6"/>
              <p:cNvSpPr/>
              <p:nvPr/>
            </p:nvSpPr>
            <p:spPr>
              <a:xfrm>
                <a:off x="7923240" y="3436920"/>
                <a:ext cx="241200" cy="311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27"/>
              <p:cNvSpPr/>
              <p:nvPr/>
            </p:nvSpPr>
            <p:spPr>
              <a:xfrm>
                <a:off x="7361280" y="4316400"/>
                <a:ext cx="196920" cy="206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8"/>
              <p:cNvSpPr/>
              <p:nvPr/>
            </p:nvSpPr>
            <p:spPr>
              <a:xfrm>
                <a:off x="7264440" y="3656160"/>
                <a:ext cx="108000" cy="72864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9"/>
              <p:cNvSpPr/>
              <p:nvPr/>
            </p:nvSpPr>
            <p:spPr>
              <a:xfrm>
                <a:off x="7297560" y="3483000"/>
                <a:ext cx="357480" cy="34452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0"/>
              <p:cNvSpPr/>
              <p:nvPr/>
            </p:nvSpPr>
            <p:spPr>
              <a:xfrm>
                <a:off x="7473960" y="3627360"/>
                <a:ext cx="488880" cy="10008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1" name="Picture 2" descr="http://www.solucionespedagogicas.cl/images/dificitatencional.jpg"/>
          <p:cNvPicPr/>
          <p:nvPr/>
        </p:nvPicPr>
        <p:blipFill>
          <a:blip r:embed="rId3"/>
          <a:stretch/>
        </p:blipFill>
        <p:spPr>
          <a:xfrm>
            <a:off x="7429680" y="0"/>
            <a:ext cx="135720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EUROBIOLOGIA</a:t>
            </a:r>
            <a:r>
              <a:rPr b="0" lang="es-MX" sz="3000" spc="-1" strike="noStrike">
                <a:solidFill>
                  <a:srgbClr val="ffcc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OL DE LA CORTEZA FRO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Disfunción frontal: Hipoperfusión frontal MRI funcional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éficit en capacidad de inhibición conductual y autocontrol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éficit en memoria de traba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anglios bas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erebe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3 Rectángulo"/>
          <p:cNvSpPr/>
          <p:nvPr/>
        </p:nvSpPr>
        <p:spPr>
          <a:xfrm>
            <a:off x="1150920" y="6442200"/>
            <a:ext cx="7467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526" name="2 Imagen" descr="ADHD-DAT-300.jpg"/>
          <p:cNvPicPr/>
          <p:nvPr/>
        </p:nvPicPr>
        <p:blipFill>
          <a:blip r:embed="rId2"/>
          <a:stretch/>
        </p:blipFill>
        <p:spPr>
          <a:xfrm>
            <a:off x="2428920" y="3429000"/>
            <a:ext cx="51418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EUROBIOLOGI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28" name="3 Diagrama" descr=""/>
          <p:cNvPicPr/>
          <p:nvPr/>
        </p:nvPicPr>
        <p:blipFill>
          <a:blip r:embed="rId1"/>
          <a:stretch/>
        </p:blipFill>
        <p:spPr>
          <a:xfrm>
            <a:off x="738360" y="1768320"/>
            <a:ext cx="6851520" cy="4151520"/>
          </a:xfrm>
          <a:prstGeom prst="rect">
            <a:avLst/>
          </a:prstGeom>
          <a:ln w="0">
            <a:noFill/>
          </a:ln>
        </p:spPr>
      </p:pic>
      <p:sp>
        <p:nvSpPr>
          <p:cNvPr id="529" name="4 Rectángulo"/>
          <p:cNvSpPr/>
          <p:nvPr/>
        </p:nvSpPr>
        <p:spPr>
          <a:xfrm>
            <a:off x="838080" y="6477120"/>
            <a:ext cx="7467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4674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ALTERACIONES PERINAT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EXPOSICIÓN A SUSTANCIAS EN ÚTERO (tabaco, OH, drogas, metal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oblemas de aprendiz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oblemas de atención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ol de la acetilcolina en el desarrollo cerebral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Hipoxia perinata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Bajo peso al nacer (menor a 1000 grs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Uso de corticoides:  alteración del eje HH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9 Rectángulo"/>
          <p:cNvSpPr/>
          <p:nvPr/>
        </p:nvSpPr>
        <p:spPr>
          <a:xfrm>
            <a:off x="3214800" y="647712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f6fc6"/>
                </a:solidFill>
                <a:latin typeface="Century Schoolbook"/>
              </a:rPr>
              <a:t>Kieling et al. </a:t>
            </a: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 Child Adolesc Psychiatric Clin N Am 17(2008) 285-3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www.cooperativa.cl/prontus_nots/site/artic/20090327/imag/FOTO_0120090327143908.jpg"/>
          <p:cNvPicPr/>
          <p:nvPr/>
        </p:nvPicPr>
        <p:blipFill>
          <a:blip r:embed="rId2"/>
          <a:stretch/>
        </p:blipFill>
        <p:spPr>
          <a:xfrm>
            <a:off x="3786120" y="4500720"/>
            <a:ext cx="33339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FORMAS ADQUIRIDAS  DEL SD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900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20% TEC SEVEROS: INATENCIÓN, IMPULS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EC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regiones frontales y prefro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Impacto en la sustancia blan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dema: hipoperfusión  núcleo caudado y striatum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Century Schoolbook"/>
              </a:rPr>
              <a:t>Secuelas de infecciones graves SNC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9dd9"/>
                </a:solidFill>
                <a:latin typeface="Century Schoolbook"/>
              </a:rPr>
              <a:t>FACTORES PSICOSOCIALE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entury Schoolbook"/>
              </a:rPr>
              <a:t>Severidad del SDA relacionado con estresores familiares y adversidad psicosocial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entury Schoolbook"/>
              </a:rPr>
              <a:t>Severidad asociada a comorbilidad</a:t>
            </a: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INTRODUC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12" name="4 Diagrama" descr=""/>
          <p:cNvPicPr/>
          <p:nvPr/>
        </p:nvPicPr>
        <p:blipFill>
          <a:blip r:embed="rId1"/>
          <a:stretch/>
        </p:blipFill>
        <p:spPr>
          <a:xfrm>
            <a:off x="487440" y="2023920"/>
            <a:ext cx="7381800" cy="4181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960" y="428400"/>
            <a:ext cx="8915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HIPERACTIVIDAD: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3000"/>
            </a:br>
            <a:br>
              <a:rPr sz="2700"/>
            </a:b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INQUIETUD SIN RUMBO SE CONVIERTE EN INQUIETUD CON PROPÓSITO</a:t>
            </a:r>
            <a:endParaRPr b="0" lang="en-US" sz="2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240" y="2428920"/>
            <a:ext cx="3809880" cy="2819520"/>
          </a:xfrm>
          <a:prstGeom prst="rect">
            <a:avLst/>
          </a:prstGeom>
          <a:noFill/>
          <a:ln w="12600">
            <a:solidFill>
              <a:srgbClr val="0060d0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DSM IV de Hiperactividad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abla en forma excesiv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Inquietud  psicomot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Juego intranqui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Motor sin rumb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76920" y="2428920"/>
            <a:ext cx="3962160" cy="281952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comunes en el </a:t>
            </a:r>
            <a:r>
              <a:rPr b="0" lang="es-CL" sz="2000" spc="-1" strike="noStrike">
                <a:solidFill>
                  <a:srgbClr val="0f6fc6"/>
                </a:solidFill>
                <a:latin typeface="Century Schoolbook"/>
              </a:rPr>
              <a:t>adolescente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 - adulto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abla en forma excesiv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Inquietud interi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Abrum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Elige trabajos activ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266760" y="61815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ight Arrow 6"/>
          <p:cNvSpPr/>
          <p:nvPr/>
        </p:nvSpPr>
        <p:spPr>
          <a:xfrm>
            <a:off x="4214880" y="32860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4200" y="109080"/>
            <a:ext cx="8344080" cy="1676520"/>
          </a:xfrm>
          <a:prstGeom prst="rect">
            <a:avLst/>
          </a:prstGeom>
          <a:noFill/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MPULSIVIDAD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3000"/>
            </a:b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IMPULSIVIDAD EN ADOLESCENTES  GENERA CONSECUENCIAS MÁS SERIAS</a:t>
            </a:r>
            <a:endParaRPr b="0" lang="en-US" sz="2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13840" y="2239920"/>
            <a:ext cx="4038840" cy="3116160"/>
          </a:xfrm>
          <a:prstGeom prst="rect">
            <a:avLst/>
          </a:prstGeom>
          <a:noFill/>
          <a:ln w="255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Síntomas DSM IV d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Impulsividad </a:t>
            </a:r>
            <a:r>
              <a:rPr b="0" lang="es-CL" sz="19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Respuestas precipitad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puede esperar turno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, no  respeta límit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071680" y="2214720"/>
            <a:ext cx="3537000" cy="311760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Síntomas comunes en </a:t>
            </a:r>
            <a:r>
              <a:rPr b="0" lang="es-CL" sz="1900" spc="-1" strike="noStrike">
                <a:solidFill>
                  <a:srgbClr val="0f6fc6"/>
                </a:solidFill>
                <a:latin typeface="Century Schoolbook"/>
              </a:rPr>
              <a:t>adolescentes</a:t>
            </a: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 - adultos </a:t>
            </a:r>
            <a:r>
              <a:rPr b="0" lang="es-CL" sz="19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Schoolbook"/>
              </a:rPr>
              <a:t>Irritabilidad, ligero de genio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Cambios impulsivos de estudios - trabaj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Accidentes por conducir muy rápid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Consumo de cigarro y café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66760" y="6019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ight Arrow 6"/>
          <p:cNvSpPr/>
          <p:nvPr/>
        </p:nvSpPr>
        <p:spPr>
          <a:xfrm>
            <a:off x="4500720" y="32860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NATENCIÓN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2700"/>
            </a:br>
            <a:br>
              <a:rPr sz="2700"/>
            </a:b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ENERALMENTE NO SE QUEJAN DE INATENCIÓN , YA QUE LA HAN COMPENSADO PARCIALMENTE</a:t>
            </a:r>
            <a:endParaRPr b="0" lang="en-US" sz="1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85480" y="2201400"/>
            <a:ext cx="3609720" cy="3799080"/>
          </a:xfrm>
          <a:prstGeom prst="rect">
            <a:avLst/>
          </a:prstGeom>
          <a:noFill/>
          <a:ln w="12600">
            <a:solidFill>
              <a:srgbClr val="009ae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íntomas DSM IV de inatención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ificultad para mantener la atención en una activ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escuch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sigue instru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puede organizar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capta lo importa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erde, extravía sus cos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sigue rutina dia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929120" y="2214360"/>
            <a:ext cx="3471840" cy="378612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en el </a:t>
            </a:r>
            <a:r>
              <a:rPr b="0" lang="es-CL" sz="2000" spc="-1" strike="noStrike">
                <a:solidFill>
                  <a:srgbClr val="0f6fc6"/>
                </a:solidFill>
                <a:latin typeface="Century Schoolbook"/>
              </a:rPr>
              <a:t>adolescente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-adulto </a:t>
            </a:r>
            <a:r>
              <a:rPr b="0" lang="es-CL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Dificultad para atención sostenida en estudios, trabaj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e olvida fácilmente de situaciones, “volado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ncentración pob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Mala organización de su tiemp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Dificultad en terminar sus tare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Pierde , extravía sus cos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66760" y="63244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</a:t>
            </a:r>
            <a:r>
              <a:rPr b="0" i="1" lang="es-CL" sz="1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ight Arrow 6"/>
          <p:cNvSpPr/>
          <p:nvPr/>
        </p:nvSpPr>
        <p:spPr>
          <a:xfrm>
            <a:off x="4286160" y="32148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3840" y="476280"/>
            <a:ext cx="8001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TDAH: DISCAPACIDAD EN EL CICLO VITAL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33160" y="1916280"/>
            <a:ext cx="412092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rés familiar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casa relaciones con pares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cialización insufi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cidentes y lesiones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uma precozmente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800600" y="1915920"/>
            <a:ext cx="419112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Conducta delictiva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y bajo logro académico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de trabajo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sociales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parental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42920" y="5857920"/>
            <a:ext cx="7704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 Brown RT anad Pacini JH. J. of Learning Disabilities 1998:22(9)501-5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Slombowski C, et al. J Abnormal Psychology 1995:23 (3) 303-3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3. Barkly RA. ADHD. A Handbook for Diagnosis and Tretment. 2nd Edition 199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19520" y="1828800"/>
            <a:ext cx="259056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imitaciones acadé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819520" y="5410080"/>
            <a:ext cx="2819160" cy="368280"/>
          </a:xfrm>
          <a:prstGeom prst="rect">
            <a:avLst/>
          </a:prstGeom>
          <a:solidFill>
            <a:srgbClr val="edf3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abaco y abuso su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400800" y="3581280"/>
            <a:ext cx="20574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 autoe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28600" y="3581280"/>
            <a:ext cx="2438280" cy="36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icultade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38080" y="4572000"/>
            <a:ext cx="2133720" cy="36828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ccidentes trán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867280" y="2514600"/>
            <a:ext cx="19814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lacion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143000" y="2441520"/>
            <a:ext cx="2209680" cy="368280"/>
          </a:xfrm>
          <a:prstGeom prst="rect">
            <a:avLst/>
          </a:prstGeom>
          <a:solidFill>
            <a:srgbClr val="edf3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638680" y="4648320"/>
            <a:ext cx="1905120" cy="368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ñ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1"/>
          <p:cNvSpPr/>
          <p:nvPr/>
        </p:nvSpPr>
        <p:spPr>
          <a:xfrm>
            <a:off x="457200" y="1295280"/>
            <a:ext cx="7924680" cy="5257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"/>
          <p:cNvSpPr/>
          <p:nvPr/>
        </p:nvSpPr>
        <p:spPr>
          <a:xfrm>
            <a:off x="8305920" y="3352680"/>
            <a:ext cx="75960" cy="381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761760" y="4952880"/>
            <a:ext cx="75960" cy="1526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4"/>
          <p:cNvSpPr/>
          <p:nvPr/>
        </p:nvSpPr>
        <p:spPr>
          <a:xfrm>
            <a:off x="4114800" y="1295280"/>
            <a:ext cx="3049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 rot="19828200">
            <a:off x="533880" y="1599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UL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 rot="1639800">
            <a:off x="6018840" y="144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7"/>
          <p:cNvSpPr/>
          <p:nvPr/>
        </p:nvSpPr>
        <p:spPr>
          <a:xfrm rot="20517000">
            <a:off x="5260320" y="61531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OLES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9680" y="70920"/>
            <a:ext cx="8001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TDAH: DISCAPACIDAD EN EL CICLO VITAL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TDAH: RESUME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75" name="4 Diagrama" descr=""/>
          <p:cNvPicPr/>
          <p:nvPr/>
        </p:nvPicPr>
        <p:blipFill>
          <a:blip r:embed="rId1"/>
          <a:stretch/>
        </p:blipFill>
        <p:spPr>
          <a:xfrm>
            <a:off x="401760" y="1865160"/>
            <a:ext cx="8083440" cy="4383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2428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9dd9"/>
                </a:solidFill>
                <a:latin typeface="Century Schoolbook"/>
              </a:rPr>
              <a:t>TDA/HI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Curso y pronóst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Comorbil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Diagnóstico diferenci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Evaluación méd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9" name="Picture 2" descr="http://www.karatetradicional.cl/wordpress/wp-content/uploads/2006/05/03.jpg"/>
          <p:cNvPicPr/>
          <p:nvPr/>
        </p:nvPicPr>
        <p:blipFill>
          <a:blip r:embed="rId1"/>
          <a:stretch/>
        </p:blipFill>
        <p:spPr>
          <a:xfrm>
            <a:off x="4587840" y="142920"/>
            <a:ext cx="4346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NIÑOS SIN TRATAMIENTO FAVORECEN APARICIÓN DE</a:t>
            </a:r>
            <a:r>
              <a:rPr b="1" lang="es-ES" sz="3000" spc="-1" strike="noStrike">
                <a:solidFill>
                  <a:srgbClr val="04617b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3960720" y="6405480"/>
            <a:ext cx="491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500" spc="-1" strike="noStrike">
                <a:solidFill>
                  <a:srgbClr val="0f6fc6"/>
                </a:solidFill>
                <a:latin typeface="Arial"/>
              </a:rPr>
              <a:t>1</a:t>
            </a: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.Adapted from American Psychiatric Association. DSM-IV TR. 2000</a:t>
            </a:r>
            <a:r>
              <a:rPr b="0" i="1" lang="es-CL" sz="1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371160" y="902160"/>
            <a:ext cx="8366760" cy="5134320"/>
            <a:chOff x="371160" y="902160"/>
            <a:chExt cx="8366760" cy="5134320"/>
          </a:xfrm>
        </p:grpSpPr>
        <p:sp>
          <p:nvSpPr>
            <p:cNvPr id="583" name="AutoShape 5"/>
            <p:cNvSpPr/>
            <p:nvPr/>
          </p:nvSpPr>
          <p:spPr>
            <a:xfrm rot="16053000">
              <a:off x="2340720" y="-435600"/>
              <a:ext cx="4577040" cy="8028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 rot="16053000">
              <a:off x="2190960" y="-653760"/>
              <a:ext cx="4577040" cy="8028720"/>
            </a:xfrm>
            <a:prstGeom prst="flowChartExtra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7"/>
            <p:cNvSpPr/>
            <p:nvPr/>
          </p:nvSpPr>
          <p:spPr>
            <a:xfrm>
              <a:off x="1136160" y="3246120"/>
              <a:ext cx="824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1885680" y="3246120"/>
              <a:ext cx="15004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isrup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9"/>
            <p:cNvSpPr/>
            <p:nvPr/>
          </p:nvSpPr>
          <p:spPr>
            <a:xfrm>
              <a:off x="3386160" y="2664720"/>
              <a:ext cx="1425240" cy="15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posicion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af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etras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5036760" y="2009880"/>
              <a:ext cx="172440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aj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abilida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amb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1"/>
            <p:cNvSpPr/>
            <p:nvPr/>
          </p:nvSpPr>
          <p:spPr>
            <a:xfrm>
              <a:off x="6986880" y="1646640"/>
              <a:ext cx="1350360" cy="30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er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co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bus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u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 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Áni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lata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otiv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Rectangle 13"/>
          <p:cNvSpPr/>
          <p:nvPr/>
        </p:nvSpPr>
        <p:spPr>
          <a:xfrm>
            <a:off x="214200" y="540540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3735360" y="535788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5450040" y="535788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7215120" y="5357880"/>
            <a:ext cx="1067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10-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COMORBILIDAD Y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morbilidad en TDAH es la regla más que la excepción: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87% de TDA tiene al menos una condición comórbi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67% de TDA, tiene al menos dos comorbilidad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77% de TDAH en adultos alcanza  criterios para condición comórbida. 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OD y T. conductual (hasta 5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Aprendizaje (25 - 6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Ansiosos (20-25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del Ánimo (15-2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Bipolar (hasta un 16% TDAH con maní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ICS y Sd Tourette´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3276720" y="5257800"/>
            <a:ext cx="5371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21420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1. Bierderman, et al. Am J Psychiatry 1991:148:564-5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2. Biederman, et al. Am J Psychiatry 1993:150(12):1798-17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COMORBILIDAD COMPLICA DIAGNÓSTICO Y TRATAMIENTO DE NIÑOS CON TDAH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601" name="Object 2"/>
          <p:cNvGraphicFramePr/>
          <p:nvPr/>
        </p:nvGraphicFramePr>
        <p:xfrm>
          <a:off x="1447920" y="668160"/>
          <a:ext cx="6845040" cy="55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68160"/>
                    <a:ext cx="684504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4"/>
          <p:cNvSpPr/>
          <p:nvPr/>
        </p:nvSpPr>
        <p:spPr>
          <a:xfrm>
            <a:off x="228600" y="1752480"/>
            <a:ext cx="201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rastor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siosos/depre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533520" y="4038480"/>
            <a:ext cx="201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rastor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condu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1752480" y="5257800"/>
            <a:ext cx="201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6400800" y="4876920"/>
            <a:ext cx="201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 y Trasto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posicionista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6324480" y="1905120"/>
            <a:ext cx="201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p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9"/>
          <p:cNvSpPr/>
          <p:nvPr/>
        </p:nvSpPr>
        <p:spPr>
          <a:xfrm>
            <a:off x="2367000" y="2166840"/>
            <a:ext cx="1405080" cy="2714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"/>
          <p:cNvSpPr/>
          <p:nvPr/>
        </p:nvSpPr>
        <p:spPr>
          <a:xfrm flipV="1">
            <a:off x="2478240" y="4081320"/>
            <a:ext cx="1141200" cy="33840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 flipV="1">
            <a:off x="3286080" y="4724280"/>
            <a:ext cx="790560" cy="6098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 flipH="1" flipV="1">
            <a:off x="6146280" y="4385880"/>
            <a:ext cx="1054440" cy="3380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6287760" y="2395440"/>
            <a:ext cx="11415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4"/>
          <p:cNvSpPr/>
          <p:nvPr/>
        </p:nvSpPr>
        <p:spPr>
          <a:xfrm>
            <a:off x="266760" y="6392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Jensen P, et al. Arch Gen Psychiatry 1999;56:1073-1086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7380360" y="31417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dd9"/>
                </a:solidFill>
                <a:latin typeface="Times New Roman"/>
              </a:rPr>
              <a:t>N= 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video 1 TDHA.wmv" descr=""/>
          <p:cNvPicPr/>
          <p:nvPr/>
        </p:nvPicPr>
        <p:blipFill>
          <a:blip r:embed="rId1"/>
          <a:stretch/>
        </p:blipFill>
        <p:spPr>
          <a:xfrm>
            <a:off x="166680" y="142920"/>
            <a:ext cx="8740800" cy="65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Object 2"/>
          <p:cNvGraphicFramePr/>
          <p:nvPr/>
        </p:nvGraphicFramePr>
        <p:xfrm>
          <a:off x="266760" y="1285920"/>
          <a:ext cx="8215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285920"/>
                    <a:ext cx="8215200" cy="468792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44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EVALENCIA DE COMORBILIDAD EN NIÑOS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266760" y="6172200"/>
            <a:ext cx="8610480" cy="4572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ccffff"/>
                </a:solidFill>
                <a:latin typeface="Arial"/>
              </a:rPr>
              <a:t>Wolraich et al., J Dev Behav Pediatr 1998;19:162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6948360" y="2681280"/>
            <a:ext cx="18716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=4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DIFERENCI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i="1" lang="es-ES" sz="2800" spc="-1" strike="noStrike">
                <a:solidFill>
                  <a:srgbClr val="000000"/>
                </a:solidFill>
                <a:latin typeface="Century Schoolbook"/>
              </a:rPr>
              <a:t>No todo lo que parece TDAH es TDAH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cartar primero que los síntomas sean “normales para la edad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blemas sociales o ambient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roblemas de aprendizaje y RM (test de WISC-R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Schoolbook"/>
              </a:rPr>
              <a:t>Coeficiente intelectual bajo, problemas de aprendizaje verbal y no verbal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DIFERENCI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actividad norm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específicos del aprendiza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blemas de rendimiento escolar inespecíf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de conducta y T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dos depresivos y episodios manía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entury Schoolbook"/>
              </a:rPr>
              <a:t>Trastorno bip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dos ans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adapta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somnia diurna prima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sensor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GD, aut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EVALUACIÓN MÉDICA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Anamnesi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amen Clínico: mental, neurológico, cognitiv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Relaciones familiar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forme escolar, test de Conners, SNAP IV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ámenes Especiales. Neurocognitiv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entury Schoolbook"/>
              </a:rPr>
              <a:t>Psicométrico, psicopedagógico, pruebas específic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studio neurológico, genético, metabólico cuando correspon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8" name="Picture 2" descr="http://www.tinet.cat/~cmbc/crcbaixcamp2/medico5_.gif"/>
          <p:cNvPicPr/>
          <p:nvPr/>
        </p:nvPicPr>
        <p:blipFill>
          <a:blip r:embed="rId1"/>
          <a:stretch/>
        </p:blipFill>
        <p:spPr>
          <a:xfrm>
            <a:off x="4853160" y="1928880"/>
            <a:ext cx="3652560" cy="3286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DIAGNÓSTIC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oceso Complej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nálisis Multisistémico y Evolu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Famili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ormulación Diagnó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tegoría Diagnó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2" name="Picture 2" descr="http://1.bp.blogspot.com/_46RuRMDTess/SAY9w7bdUaI/AAAAAAAABEA/xS29SubiIjI/s400/Diagnostico.png"/>
          <p:cNvPicPr/>
          <p:nvPr/>
        </p:nvPicPr>
        <p:blipFill>
          <a:blip r:embed="rId1"/>
          <a:stretch/>
        </p:blipFill>
        <p:spPr>
          <a:xfrm>
            <a:off x="4379760" y="2162160"/>
            <a:ext cx="4002120" cy="2981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28520" y="4892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9dd9"/>
                </a:solidFill>
                <a:latin typeface="Century Schoolbook"/>
              </a:rPr>
              <a:t>TRATAMIENTO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35" name="Content Placeholder 10" descr="rital"/>
          <p:cNvPicPr/>
          <p:nvPr/>
        </p:nvPicPr>
        <p:blipFill>
          <a:blip r:embed="rId1"/>
          <a:stretch/>
        </p:blipFill>
        <p:spPr>
          <a:xfrm>
            <a:off x="2857680" y="214200"/>
            <a:ext cx="6143400" cy="614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¿POR QUÉ TRATAR EL TDA-HA/I?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84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una enfermedad crónica, de alta prevalenc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fecta al niño en muchas áreas de su desarrollo: funciones neurocognitivas y estructuración socioemocion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xisten consecuencias individuales, familiares y sociales de no trat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quiere de estrategias de intervención a largo plazo, multimodal y flexi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OBJETIVOS DEL TRATAMIENTO TD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Reducción de los síntomas nucleares del T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Detección y tratamiento de la comorbil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Prevención o reducción del Trastorno de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Promoción del aprendizaje académico y soci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Mejoría del ajuste emocional y de autoesti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Alivio del sufrimiento famili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1" name="Picture 2" descr="http://usuarios.lycos.es/jerapsi/psicologo%201%20(movil).gif"/>
          <p:cNvPicPr/>
          <p:nvPr/>
        </p:nvPicPr>
        <p:blipFill>
          <a:blip r:embed="rId1"/>
          <a:stretch/>
        </p:blipFill>
        <p:spPr>
          <a:xfrm>
            <a:off x="4643280" y="188136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ESTRATEGIAS DE INTERVENCIÓN MULTIMOD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armacológ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sico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el ni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la famil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el coleg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5" name="Picture 4" descr="MCj04154860000[1]"/>
          <p:cNvPicPr/>
          <p:nvPr/>
        </p:nvPicPr>
        <p:blipFill>
          <a:blip r:embed="rId1"/>
          <a:stretch/>
        </p:blipFill>
        <p:spPr>
          <a:xfrm>
            <a:off x="357120" y="3929040"/>
            <a:ext cx="3168720" cy="2608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http://quintoprim.files.wordpress.com/2008/06/padres.jpg"/>
          <p:cNvPicPr/>
          <p:nvPr/>
        </p:nvPicPr>
        <p:blipFill>
          <a:blip r:embed="rId2"/>
          <a:stretch/>
        </p:blipFill>
        <p:spPr>
          <a:xfrm>
            <a:off x="3714840" y="3857760"/>
            <a:ext cx="2455920" cy="2806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http://derecho.laguia2000.com/wp-content/uploads/2008/06/derecho-de-familia.jpg"/>
          <p:cNvPicPr/>
          <p:nvPr/>
        </p:nvPicPr>
        <p:blipFill>
          <a:blip r:embed="rId3"/>
          <a:stretch/>
        </p:blipFill>
        <p:spPr>
          <a:xfrm>
            <a:off x="6500880" y="3214800"/>
            <a:ext cx="2143080" cy="23619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http://www.gentiuno.com/articulos/articulo1285/imagenes/dosydo3.gif"/>
          <p:cNvPicPr/>
          <p:nvPr/>
        </p:nvPicPr>
        <p:blipFill>
          <a:blip r:embed="rId4"/>
          <a:stretch/>
        </p:blipFill>
        <p:spPr>
          <a:xfrm>
            <a:off x="4572000" y="1285920"/>
            <a:ext cx="24271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INTERVENCIONES PSICOSOCI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676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calizadas en el niñ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terapia individual para la comorbilid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autocontrol de impulsos y manejo de la rab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destrezas soci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poyo en estructuración actividades y habilidades cognitiv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164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calizadas en la famil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99520" indent="-299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educ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manejo conductual y ejercicio funciones normativas del rol par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valuación y tratamiento de psicopatología y disfunción famili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erapia familiar en resolución de problemas y destrezas de comunic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CONCEPTO DE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unción cognitiva superior primordial para las conductas propositivas en ser humano (Fxs ejecutiv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rientación de la actividad psíquica hacia algo que se experimen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tuaciones externas: sensaciones,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tuaciones internas. Pensamientos, sentimient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acultad de selección mental por la cual se puede localizar, examinar y responder a un objeto significat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tregar inform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señar técnicas de manejo conductu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rmas de apoyo académico al niñ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mentar autoest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6" name="Picture 2" descr="http://bligoo.com/media/users/2/103193/images/public/13310/10pataleta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3214800"/>
            <a:ext cx="3214800" cy="2914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http://4.bp.blogspot.com/_CikI3HAz9dA/R9sgPms4IqI/AAAAAAAAACs/dDsuboEw-Dk/s200/aprendizaje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09960" y="3286080"/>
            <a:ext cx="2886120" cy="28576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http://www.solucionespedagogicas.cl/images/dificitatencional.jpg"/>
          <p:cNvPicPr/>
          <p:nvPr/>
        </p:nvPicPr>
        <p:blipFill>
          <a:blip r:embed="rId5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dd9"/>
                </a:solidFill>
                <a:latin typeface="Century Schoolbook"/>
              </a:rPr>
              <a:t>Entregar Inform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ducar acerca del proble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Desmitific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clarar carácter no intencio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Favorecer relación positiva con el niñ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269960" y="1600200"/>
            <a:ext cx="408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9dd9"/>
                </a:solidFill>
                <a:latin typeface="Century Schoolbook"/>
              </a:rPr>
              <a:t>Enseñar técnicas de manejo conduct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Uso reforzamiento positiv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Plantear metas y premios a CORTO PLAZO (no responden a largo plazo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ructuración del dí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Ignorar conductas negativas leves; llamar la aten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ancionar SIN perder control; Sancionar eficientemente privándolos de privilegios o cosas que les guste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609480" y="712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http://1.bp.blogspot.com/__bJSIidkEj8/SW1lkWvcunI/AAAAAAAAAHI/r-LR7uyBVKM/s400/toddler-reading.jpg"/>
          <p:cNvPicPr/>
          <p:nvPr/>
        </p:nvPicPr>
        <p:blipFill>
          <a:blip r:embed="rId1"/>
          <a:stretch/>
        </p:blipFill>
        <p:spPr>
          <a:xfrm>
            <a:off x="1143000" y="4857840"/>
            <a:ext cx="1835280" cy="1571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dd9"/>
                </a:solidFill>
                <a:latin typeface="Century Schoolbook"/>
              </a:rPr>
              <a:t>Apoyo académico al niñ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Requieren de apoyo para cumplir tareas y estud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vitar tiempos prolongados de estud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ubdividir actividades que requieren mayor tiemp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antener contacto cercano con profesor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412880" y="1600200"/>
            <a:ext cx="4016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9dd9"/>
                </a:solidFill>
                <a:latin typeface="Century Schoolbook"/>
              </a:rPr>
              <a:t>Fomentar autoesti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rregir lo important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anción firme, pero calmadamente, sin insultos. Explicar motiv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No ser agresivos, mantener afectuosida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Felicitarlos ante los logro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imularlo a participar de actividades en las que es bue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mpartir tiempo de juego y no sólo el que implique responsabilida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609480" y="712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JENNIFERCITA0"/>
          <p:cNvPicPr/>
          <p:nvPr/>
        </p:nvPicPr>
        <p:blipFill>
          <a:blip r:embed="rId1"/>
          <a:stretch/>
        </p:blipFill>
        <p:spPr>
          <a:xfrm>
            <a:off x="1571760" y="5072040"/>
            <a:ext cx="1495440" cy="15001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INTERVENCIONES PSICOSOCI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2840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dd9"/>
                </a:solidFill>
                <a:latin typeface="Century Schoolbook"/>
              </a:rPr>
              <a:t>Focalizadas en el colegio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lase estructurada, bajo número de alumnos, sentarlo adelan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alendario estructurado, reglas claras y reforzadas en cla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tención a los éxitos más que los fracas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Uso de incentivos y recompensas tang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1640" y="2071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Manejo de contingencias y reporte diario de la profeso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Uso adecuado de medidas disciplinari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decuación curricular para cada ni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apacitación de los profesores en técnicas de manej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mento de relaciones positivas con pa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4" name="Picture 4" descr="MCBD19980_0000[1]"/>
          <p:cNvPicPr/>
          <p:nvPr/>
        </p:nvPicPr>
        <p:blipFill>
          <a:blip r:embed="rId1"/>
          <a:stretch/>
        </p:blipFill>
        <p:spPr>
          <a:xfrm>
            <a:off x="6242040" y="23760"/>
            <a:ext cx="2560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NTERVENCIÓN A NIVEL EDUCACION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214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Mejorar rendimiento académic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formar al profesor de características del SDAH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entarse en 1era fil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ontrol personalizado de progres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cortar tiempos de trabaj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Metas a corto plaz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poyo psicopedagógic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270320" y="1243080"/>
            <a:ext cx="41594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Disminuir problemas conductual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Junto a profesor aplicar técnicas de manejo, que incluye refuerzos (+) y sanciones eficient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Mejorar la integración con par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signarles pequeñas funciones o responsabilidad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grarlo a grupos con otros niñ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Manejar eficientemente la agresividad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8" name="Picture 4" descr="ni%C3%B1os+en+sala+de+clases"/>
          <p:cNvPicPr/>
          <p:nvPr/>
        </p:nvPicPr>
        <p:blipFill>
          <a:blip r:embed="rId1"/>
          <a:stretch/>
        </p:blipFill>
        <p:spPr>
          <a:xfrm>
            <a:off x="857160" y="4786200"/>
            <a:ext cx="2276640" cy="1714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643880" y="0"/>
            <a:ext cx="11430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TRATAMIENTO FARMACOLÓGICO TDA-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estimul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nfetam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Metilfenida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emol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No Psicoestimul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tomoxet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Clonid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ntidepresivos (ADTc y bupropió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Nuevos: Modafinil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2" name="Picture 2" descr="http://2.bp.blogspot.com/_baEk8LlmxaA/SdthEjJmisI/AAAAAAAAAOw/bQOZ5akw8jc/s400/Ninos_condenados_ser_perfectos.jpg"/>
          <p:cNvPicPr/>
          <p:nvPr/>
        </p:nvPicPr>
        <p:blipFill>
          <a:blip r:embed="rId1"/>
          <a:stretch/>
        </p:blipFill>
        <p:spPr>
          <a:xfrm>
            <a:off x="5429160" y="1643040"/>
            <a:ext cx="280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14200" y="1357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on los agentes que se utilizan con mayor frecuencia para mejorar la capacidad de atención y concentr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ecanismo de ac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7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liberación de catecolaminas (NA y DOPA) desde los terminales presinápticos, de modo que hay más disponible para su utilización</a:t>
            </a: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5" name="Imagen 3" descr=""/>
          <p:cNvPicPr/>
          <p:nvPr/>
        </p:nvPicPr>
        <p:blipFill>
          <a:blip r:embed="rId1"/>
          <a:stretch/>
        </p:blipFill>
        <p:spPr>
          <a:xfrm>
            <a:off x="4257720" y="1428840"/>
            <a:ext cx="4457520" cy="4357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72240" y="0"/>
            <a:ext cx="12146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9968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imera línea del tratamiento del S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e han demostrado efectivos hasta en un 70% de los pacient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centran sus efectos en tres áre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ríada sintomática: atención, impulsividad e hiperact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laciones interpersonales o estilos de interac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prendizaje académico y rendimien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ejoría conductual 77% 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v/s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cebo 39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3 a 30 % no responden a psicoestimulantes o incluso empeora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8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OTRAS FORMULACION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115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etilfenid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R – R: Duración 3-8 hrs (variable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A: liberación bimodal: 50% inmediata y 50% retardad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uración: 8 h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ncerta: Liberación a través de Pº osmótic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Bolo inicial y luego ascendente (similar a 3v/dí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uración: 12 h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xisten varios laboratorios que lo fabri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italin (L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radix (SR 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ebapu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itroc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FT: en Chile solo d-af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 EFECTOS SECUNDARI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mayoría son leves, de corta duración y reversibles con ajuste de dosis o horari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Gran variabilidad individual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parecen 4-6 hrs después de la ingestión y desaparecen a las dos seman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efectos adversos más comunes so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norexia o trastornos del apetito (80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rastornos del sueño (3-85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Baja de peso (10-15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28880" y="1428840"/>
            <a:ext cx="38718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fectos adversos menos comunes incluye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levación FC y Pº Arterial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Cefale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TICS: 15-30%. Temporal, excepto niños con tics crónicos y Sd de Tourett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fecto rebote (1/3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Psicosis paranoide (adultos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buso: solo Anfetami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u ocurrencia es similar con MTF y d-ANF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on más comunes en niños pre-escolar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6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500960" y="0"/>
            <a:ext cx="1285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CONCEPTO DE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37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Century Schoolbook"/>
              </a:rPr>
              <a:t>TIPOS ATENC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tensiva. Voli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stenida.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lectiva. Focal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trolada. Dirección. Orient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Century Schoolbook"/>
              </a:rPr>
              <a:t>CONCENTRA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tención orientada en forma permanente hacia una situación determin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situación pasa a ser destacada en el campo de la con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FERENCIAS EN RESPUESTA FARMACOLÓGIC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dd9"/>
                </a:solidFill>
                <a:latin typeface="Century Schoolbook"/>
              </a:rPr>
              <a:t>SDA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umento atención focal y baja H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muestra toleranci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hay fenómeno sensibil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dd9"/>
                </a:solidFill>
                <a:latin typeface="Century Schoolbook"/>
              </a:rPr>
              <a:t>Sanos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 (abusador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estimulados y aumento act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uestran tolerancia para obtener mismo ef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ay sensibilización, pudiendo causar psic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O PSICOESTIMULANT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71320" y="1285920"/>
            <a:ext cx="4857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tomoxetina: 2da line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hibidor de la recaptura NA altamente selectiv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uprop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D que inhibe recaptura de NA y D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nidin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D tricícl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odafinil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2" name="Picture 2" descr="http://2.bp.blogspot.com/_baEk8LlmxaA/SdthEjJmisI/AAAAAAAAAOw/bQOZ5akw8jc/s400/Ninos_condenados_ser_perfectos.jpg"/>
          <p:cNvPicPr/>
          <p:nvPr/>
        </p:nvPicPr>
        <p:blipFill>
          <a:blip r:embed="rId1"/>
          <a:stretch/>
        </p:blipFill>
        <p:spPr>
          <a:xfrm>
            <a:off x="5200560" y="214200"/>
            <a:ext cx="3443400" cy="4684680"/>
          </a:xfrm>
          <a:prstGeom prst="rect">
            <a:avLst/>
          </a:prstGeom>
          <a:ln w="0">
            <a:noFill/>
          </a:ln>
        </p:spPr>
      </p:pic>
      <p:sp>
        <p:nvSpPr>
          <p:cNvPr id="703" name="TextBox 4"/>
          <p:cNvSpPr/>
          <p:nvPr/>
        </p:nvSpPr>
        <p:spPr>
          <a:xfrm>
            <a:off x="928800" y="5514840"/>
            <a:ext cx="6500880" cy="119124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claramente demostrado su efecto superior a placebo en síntomas S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tá clara diferencia o superioridad frente a MTF o anfeta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O OLVIDAR…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alizar rigurosa psicoeducación a los pad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ratamiento del SDA es siempre multisistemico y multimod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Informar acerca de mitos y realidades del tratamiento farmacológic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Decisión debe ser consensuada con los pad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6" name="Picture 2" descr="http://pediatraencasa.files.wordpress.com/2008/03/vacunacion.jpg"/>
          <p:cNvPicPr/>
          <p:nvPr/>
        </p:nvPicPr>
        <p:blipFill>
          <a:blip r:embed="rId1"/>
          <a:stretch/>
        </p:blipFill>
        <p:spPr>
          <a:xfrm>
            <a:off x="4592520" y="1428840"/>
            <a:ext cx="3589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5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drea, 12 años. Hija única y vive sola con su madre. Asiste a colegio muy exigente (con mucho esfuerzo de su madre) desde 1ero bás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onsulta debido a dificultades de concentración, debe leer muchas veces un párrafo para entenderlo. En la casa estudia mucho. Madre dice que también olvida frecuentemente instrucciones que ella le de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iempre ha sido as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olegio no refiere dificultades, dicen que Andrea es querida por profesores y compañeros. No tiene dificultades de rendimiento. Mantiene promedios alrededor del 6.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56760" y="1599840"/>
            <a:ext cx="81536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Santiago, 15 años. Historia larga de derivaciones a neurólogos y  psiquiatra por supuesta hipequinesia y deficit atencional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Madre recuerda que se indican varios fármacos los cuales ella deja de dar por efectos advers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Actualmente nuevamente derivado por el colegio. Tiene dos cambios previos, uno tras expulsión por problemas conductuales y otro por “repitencia”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Es descrito como adolescente de díficil manejo, oposicionista, desafiante, agresivo frente a provoc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Padres tiene dificultades en instauración de normas, limites. Hace la cimarra,  no respeta horas de lleagada en la noche y madre tiene fuerte sospecha de consumo de drogas. Nuevamente en riesgo de repetir…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3000240" y="71280"/>
            <a:ext cx="5438880" cy="585792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757240" y="4892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9dd9"/>
                </a:solidFill>
                <a:latin typeface="Century Schoolbook"/>
              </a:rPr>
              <a:t>PREGUNTAS?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DISFUNCIONES DE LA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Baja concentr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stractibil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ríodos cortos de aten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ilos impulsivos de respue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rsever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sfunción ejecutiv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Falta de planificación y organización de la conduc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xclusión de estímulos ir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tención sostenid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hibición de acción impuls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lección y monitoreo de respuestas apropiad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ATENCIÓN Y DESARROLL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Menores de 5 años 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Atención ligada al estímulo. La atención es capturada por los aspectos sobresalientes de un estímulo novedo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Entre 5 y 7 años 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trolada por procesos lógicos inter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Mayores de 7 años: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berían saber cómo y dónde atender. Control y dirección de la conducta de aten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TRASTORNO POR DÉFICIT DE ATENCIÓN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0" lang="es-ES_tradnl" sz="2400" spc="-1" strike="noStrike">
                <a:solidFill>
                  <a:srgbClr val="009dd9"/>
                </a:solidFill>
                <a:latin typeface="Century Schoolbook"/>
              </a:rPr>
              <a:t>Trastorno por Déficit Atencional (TDAH)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s de alta prevalencia en la población de niños, adolescentes y adultos, es heterogéneo en su etiología, tiene una alta comorbilidad y puede afectar el desarrollo de las funciones neurocognitivas y la estructuración psicoemocion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racterizado por la presencia de síntomas de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desaten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generalmente asociados a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hiperactividad e impulsividad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tanto en su conducta como en la toma de decisiones, lo que genera dificultades relacionales en el hogar y coleg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53:43Z</dcterms:created>
  <dc:creator>Marcela</dc:creator>
  <dc:description/>
  <dc:language>en-US</dc:language>
  <cp:lastModifiedBy>Marcela</cp:lastModifiedBy>
  <dcterms:modified xsi:type="dcterms:W3CDTF">2010-08-25T16:33:51Z</dcterms:modified>
  <cp:revision>57</cp:revision>
  <dc:subject/>
  <dc:title>SINDROME DEFICIT DE ATENCION EN NIÑOS Y ADOLESCENTES</dc:title>
</cp:coreProperties>
</file>