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41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29.jpeg" ContentType="image/jpeg"/>
  <Override PartName="/ppt/media/image9.jpeg" ContentType="image/jpeg"/>
  <Override PartName="/ppt/media/image40.png" ContentType="image/png"/>
  <Override PartName="/ppt/media/image30.jpeg" ContentType="image/jpeg"/>
  <Override PartName="/ppt/media/image31.png" ContentType="image/png"/>
  <Override PartName="/ppt/media/image35.png" ContentType="image/png"/>
  <Override PartName="/ppt/media/image32.jpeg" ContentType="image/jpeg"/>
  <Override PartName="/ppt/media/image36.png" ContentType="image/png"/>
  <Override PartName="/ppt/media/image38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3.wmf" ContentType="image/x-wmf"/>
  <Override PartName="/ppt/media/image27.gif" ContentType="image/gif"/>
  <Override PartName="/ppt/media/image6.wmf" ContentType="image/x-wmf"/>
  <Override PartName="/ppt/media/image25.png" ContentType="image/png"/>
  <Override PartName="/ppt/media/image19.jpeg" ContentType="image/jpeg"/>
  <Override PartName="/ppt/media/image5.wmf" ContentType="image/x-wmf"/>
  <Override PartName="/ppt/media/image37.jpeg" ContentType="image/jpeg"/>
  <Override PartName="/ppt/media/image28.wmf" ContentType="image/x-wmf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3C71-444A-4999-8E3A-D2758E6BBD1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56E1-1024-4CAC-A007-91E9BE0A135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1F21-6F0F-47A4-B3FC-AB4A8E8F701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8240" cy="341316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MS Sans Serif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A2E9-C787-4CF7-9CDA-20B211101F9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B618-2A7F-4BA1-869B-6C7F9452BB6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refrontal cortex, a significant number of norepinephrine (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ers exist that are indiscriminant in their reuptake of both N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amine (DA). The blockade of the NE transporter creates an equival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stream increase of both NE and DA in the prefrontal corte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tera does not increase DA levels in the nucleus accumbens, wh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 explain its lack of association with stimulant or euphoriant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tera does not increase DA levels in the striatum, which may expl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lack of association with motor activities, such as 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a discussed above were derived from animal studies. Effects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not 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ET) scans show that patients with ADHD had lower levels of dopamine transporters in the nucleus accumbens, a part of the brain's reward center, than control su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29B2-0CCD-4319-87DE-9AEBFB0C53C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Exposición prenatal a acetilcolina produce una persistente disminución de la actividad colinergica y serotoninergica, con secuelas en el aprendizaje y la audición, que no se expresan en el nacimiento sino mas adela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1460-3029-4327-9414-2B1CC762EF1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BBF4-0798-425E-B95C-F6225FF2869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C7F6-E060-40B2-9F59-9244C99B5E7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5E09-09E6-4493-8600-87EDDD29381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469E-C189-46C5-A3EA-E93E40C9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CCD5-EE61-4A87-9DA6-39DB7102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97AE-5D2B-4227-9B3A-22C96016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671-1ACC-40F0-A230-EA48CE63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225A-748D-4623-ACEE-8AA560E7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F858-4481-4DB8-8033-A6D5AFB1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E3A5-E65E-43AC-B212-33C9C471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9ABF-69C8-498D-960D-F517496C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1E33-D86E-487D-A48C-2709172E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3A6D-0081-4499-ADCA-A4C44198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7BAB-6F4C-4C10-97FE-5BB56684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804-FA10-4D27-B779-9A0DA2A1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DC8B-CD68-4E40-B767-1C9E0167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2D00-20A3-4758-A46D-B8C76C80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1D0A-6428-4D83-B02D-D51CC438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AF14-555C-4B9F-A759-929CE3FC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49F4-6926-451D-877A-F1EC0C4C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97104-514F-48D6-813B-2EA94100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93230-3E3B-4629-BFA9-A5C6A255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4A125-1FA0-437F-93B4-9B7FD472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2B53D-A8D1-457C-8E3B-5D16E0D7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EBAC4-8BEA-4088-B2DF-EE91872B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3CB-347D-4701-84D2-245F7098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712FF-67FA-45FE-AA77-2EB6F48E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A48749-D50B-48A6-8BBF-8CBD226C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28B4D-FBFC-4114-8307-FBB7A7FB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7777F-8841-4206-A58A-EEFE2EFE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76EDF-A4D4-4160-980A-1502C2EF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4F32D-6E71-4512-841E-30DD2984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295A9-2D36-4F4D-A979-C250CCB3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5C6F2-D685-43E9-977F-1ACF09E1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21F53-51E5-4B63-8F88-D1D899DC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A92A5-00D8-4A96-8580-B486703E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72C9-3DA9-42A1-83A4-588B4603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6DA9D-86A9-47A5-AF91-B08D8D0B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3EBA7-6BE5-4EDB-8DEB-452DF17E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5D61B-6A9F-4A9C-9865-D0F21C7D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CC6DB-170D-4E64-8620-B692FCBD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14E94-7F7C-4DCD-8071-2C735462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DDFB6-3044-42EF-B0D4-F784B6C6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C6631-1178-4CF4-850B-A4177151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5DB34-D280-4E62-BE2C-C2E22062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3B891-01A5-474B-AF0D-32F80716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37A678-2217-417E-952F-23648B6A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BF1C-FCCA-4733-9E4F-AE1FE96B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36AE40-8534-4DC5-A4EB-663980DB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751D2-B44B-4A2E-B9C2-1E282AB1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C301B6-FD87-4915-AE02-BCAB6647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F28E9-8DB8-4368-AEC3-4097F116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1919F-4546-49CD-B80F-65AB3D5C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555B0A-5EF9-4287-87F9-B5169181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D8A09F-587C-4219-9FA5-2C21D644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FAA4B-6984-476E-A567-0AAE17E3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613318-7CC9-4AEC-8E12-00016170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64CDA-5ACA-4CB5-90E9-6D04FABE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0BA-4E6C-44EC-92EB-372C6A2B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6B359A-8ED9-42DF-93BB-6C1CAFE1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3765A4-19FD-4854-A354-AA0CAAB0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A09E39-729B-4213-A26B-6529B249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6AA7DB-30FB-49EE-A65D-42AB4A44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A63C30-050E-460A-9F6E-C0B99968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D30322-E45F-492D-95F2-C12BE81F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7A0B70-53B0-4182-88DA-05C70CF7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208EB6-A8ED-403F-80FD-3570A025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0AA552-B90A-41A2-A749-0C18CC2E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E2834C-2FC3-496A-B7E7-DA5CED5B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DCD-6E8A-44B2-ACC4-53763B72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9D2CB2-D5D1-4963-BE23-03F5685F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B1D0D0-3C4D-4F57-B67D-8E653483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6D97B9-9C16-4D44-AFA3-6905FAA6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759DA5-C84D-4FC8-9BB9-E11B14C0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AEEFF0-96BB-408D-9D4F-F0ED4DD3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54A514-F5D4-4800-AB54-8FC09942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EC6184-880E-4450-AE57-B1789597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CEB72B-2B6C-49E6-B79E-F13AE909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37286D-2CF9-4248-99F1-3B84DDA2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B4E3EA-8C6A-42E9-87A5-EBCC8571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BE7-30AB-4DFE-885F-5869612D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2C083A-C8A7-4EA2-B6CA-DFEA1CB4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D08A80-80CD-4155-8843-462F7532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2E5D75-5811-474D-B4B6-CDE92DC4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ABF2B5-EDBF-483A-87D2-1450861E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4284D8-4023-4AAE-A570-78258EF3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B6834-DC33-4DA1-A657-5121AAD7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7EE9E-3483-4605-8819-6A2E3865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C0D5C-6D40-4CEB-896B-950472C7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BE1C3-A226-4B46-969A-F896848A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8D206-E36F-4450-86CC-817DD78A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A80-76F6-4F62-966A-F683F994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0BF8B-5A87-4FEB-A3EC-8C507B60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16880-1D84-4A8E-BE68-C14A7278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69B19-4DB4-49B1-9547-E9A57165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DAF02-4A68-47CB-B941-988F8845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C6504-4ABF-41E7-B794-043D407D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155C1-15D4-4CE7-87D4-21DF36EC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242D3-7A65-4DB5-A0FE-9C42C133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D663-BDDF-400B-9401-AA0331C68E2B}" type="slidenum">
              <a:rPr b="1" lang="es-MX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7899-C0A7-4AB6-97ED-02BD33CF8410}" type="slidenum">
              <a:rPr b="1" lang="es-MX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8A53-C2A8-4D5A-8DC7-CCD1BEDA8CF3}" type="slidenum">
              <a:rPr b="1" lang="es-MX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bf5f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bf5f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5845-5EA8-4974-B1B3-E77911059F00}" type="slidenum">
              <a:rPr b="1" lang="es-MX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2FF1-5D64-40AC-B502-76489B2ABDCB}" type="slidenum">
              <a:rPr b="1" lang="es-MX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F9AE-2247-4C2A-9A96-A898BA8D6DCC}" type="slidenum">
              <a:rPr b="1" lang="es-MX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7F38-F135-48AA-858E-F8FEEC231347}" type="slidenum">
              <a:rPr b="1" lang="es-MX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D42D-4340-4FA8-BF87-53D017D173A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32.jpeg"/><Relationship Id="rId3" Type="http://schemas.openxmlformats.org/officeDocument/2006/relationships/slide" Target="slide52.xml"/><Relationship Id="rId4" Type="http://schemas.openxmlformats.org/officeDocument/2006/relationships/image" Target="../media/image33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356760" y="5143320"/>
            <a:ext cx="30006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f6fc6"/>
                </a:solidFill>
                <a:latin typeface="Century Schoolbook"/>
              </a:rPr>
              <a:t>Dra. Marcela Abufhele M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f6fc6"/>
                </a:solidFill>
                <a:latin typeface="Century Schoolbook"/>
              </a:rPr>
              <a:t>Psiquiatra de Niños y Adolescente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f6fc6"/>
                </a:solidFill>
                <a:latin typeface="Century Schoolbook"/>
              </a:rPr>
              <a:t>Clínica Psiquiátrica Universitaria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f6fc6"/>
                </a:solidFill>
                <a:latin typeface="Century Schoolbook"/>
              </a:rPr>
              <a:t>Universidad de Chile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42560" y="712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9dd9"/>
                </a:solidFill>
                <a:latin typeface="Century Schoolbook"/>
              </a:rPr>
              <a:t>SINDROME DEFICIT DE ATENCION EN NIÑOS Y ADOLESCENTES</a:t>
            </a:r>
            <a:endParaRPr b="0" lang="en-US" sz="36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407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3357720" y="1643040"/>
            <a:ext cx="46432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9dd9"/>
                </a:solidFill>
                <a:latin typeface="Century Schoolbook"/>
              </a:rPr>
              <a:t>CRITERIOS DIAGNOSTICOS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rastorno que, junto al desorden oposicionista y trastorno de conducta, está agrupado bajo la categoría de </a:t>
            </a:r>
            <a:r>
              <a:rPr b="0" lang="es-ES" sz="2400" spc="-1" strike="noStrike">
                <a:solidFill>
                  <a:srgbClr val="009dd9"/>
                </a:solidFill>
                <a:latin typeface="Century Schoolbook"/>
              </a:rPr>
              <a:t>trastornos por déficit de atención y comportamiento perturbado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, según el DSM I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Seis o más síntomas de Desaten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Seis o más síntomas de hiperactividad impulsivida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Síntomas en dos o más contex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icio Precoz antes de los 7 añ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Discapacidad en áreas de desarroll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otro trastorno psiquiátrico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3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5" descr=""/>
          <p:cNvPicPr/>
          <p:nvPr/>
        </p:nvPicPr>
        <p:blipFill>
          <a:blip r:embed="rId1"/>
          <a:stretch/>
        </p:blipFill>
        <p:spPr>
          <a:xfrm>
            <a:off x="1217520" y="0"/>
            <a:ext cx="66373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240" y="712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9dd9"/>
                </a:solidFill>
                <a:latin typeface="Century Schoolbook"/>
              </a:rPr>
              <a:t>SUBTIPOS CLÍNICOS TDAH</a:t>
            </a:r>
            <a:endParaRPr b="0" lang="en-US" sz="35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33520" y="114300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dd9"/>
                </a:solidFill>
                <a:latin typeface="Century Schoolbook"/>
              </a:rPr>
              <a:t>Con predominio de inatenció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ácilmente distrácti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Sin excesiva hiperactividad ni impulsividad en conduct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dd9"/>
                </a:solidFill>
                <a:latin typeface="Century Schoolbook"/>
              </a:rPr>
              <a:t>Con predominio de Hiperactividad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dd9"/>
                </a:solidFill>
                <a:latin typeface="Century Schoolbook"/>
              </a:rPr>
              <a:t>e Impulsivida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Extremadamente hiperactivo e impulsiv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Inatención leve o ausent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En general en niños menor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dd9"/>
                </a:solidFill>
                <a:latin typeface="Century Schoolbook"/>
              </a:rPr>
              <a:t>Tipo Combinad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Subtipo más frecuent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Presenta 3 signos centrales del trastorno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37" name="Object 4"/>
          <p:cNvGraphicFramePr/>
          <p:nvPr/>
        </p:nvGraphicFramePr>
        <p:xfrm>
          <a:off x="4071960" y="1163520"/>
          <a:ext cx="4929120" cy="42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1960" y="1163520"/>
                    <a:ext cx="49291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Text Box 5"/>
          <p:cNvSpPr/>
          <p:nvPr/>
        </p:nvSpPr>
        <p:spPr>
          <a:xfrm>
            <a:off x="4067280" y="6381720"/>
            <a:ext cx="479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9dd9"/>
                </a:solidFill>
                <a:latin typeface="Times New Roman"/>
              </a:rPr>
              <a:t>Adaptado de Asociación Psiquiátrica Americana DSM IV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http://www.solucionespedagogicas.cl/images/dificitatencional.jpg"/>
          <p:cNvPicPr/>
          <p:nvPr/>
        </p:nvPicPr>
        <p:blipFill>
          <a:blip r:embed="rId3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7120" y="414000"/>
            <a:ext cx="77169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9dd9"/>
                </a:solidFill>
                <a:latin typeface="Century Schoolbook"/>
              </a:rPr>
              <a:t>SUB-TIPOS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442" name="3 Diagrama" descr=""/>
          <p:cNvPicPr/>
          <p:nvPr/>
        </p:nvPicPr>
        <p:blipFill>
          <a:blip r:embed="rId1"/>
          <a:stretch/>
        </p:blipFill>
        <p:spPr>
          <a:xfrm>
            <a:off x="353880" y="1195560"/>
            <a:ext cx="7704360" cy="49860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VIÑETA 1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599840"/>
            <a:ext cx="81532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Vicente, preescolar de 4 años. La Madre lo trae a consultar derivado del jardín por severa inquietud motora, no realiza actividades en la sala o las inicia y luego sale corriendo, corre y salta constantemente. Golpea a compañero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Madre dice que en la casa es igual, es mas inquieto de  lo normal, no se queda dormido nunca, interrumpe y ha tenido múltiples accidentes doméstic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Además “es voluntarioso y manipulador con la madre”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Si no se le da en el gusto, hace pataletas y siempre consigue lo que quier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6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dd9"/>
                </a:solidFill>
                <a:latin typeface="Century Schoolbook"/>
              </a:rPr>
              <a:t>PRESENTACIÓN CLÍNICA DEL TDAH </a:t>
            </a:r>
            <a:br>
              <a:rPr sz="3200"/>
            </a:br>
            <a:r>
              <a:rPr b="0" lang="es-ES" sz="3200" spc="-1" strike="noStrike">
                <a:solidFill>
                  <a:srgbClr val="009dd9"/>
                </a:solidFill>
                <a:latin typeface="Century Schoolbook"/>
              </a:rPr>
              <a:t>EN PRE-ESCOLARES</a:t>
            </a:r>
            <a:r>
              <a:rPr b="1" lang="es-ES" sz="3200" spc="-1" strike="noStrike">
                <a:solidFill>
                  <a:srgbClr val="009dd9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0" y="164304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Inquietud motor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Agresividad (hacia otros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Desparrama las cosa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Curiosidad insaciabl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Temerario  - Pone en peligro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a sí mismo o a otro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Bajos niveles  de persistencia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Juegos rudos, a menudo destructivo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Demandantes, ruidosos, argumentativo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Interrump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Pataletas frecuente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75% corresponde al subtipo hiperactivo impuls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571680" y="6100920"/>
            <a:ext cx="7643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DuPaul GJ, et al. J Am Acad Child Adolesc Psychiatry 2001; 40:508-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Attention Dedicit Hyperactivity Disorder in Preschol Children  Laurence et. Al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Child Adolesc Psychiatric Clin N Am 17 (2008) 347-3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"/>
          <p:cNvPicPr/>
          <p:nvPr/>
        </p:nvPicPr>
        <p:blipFill>
          <a:blip r:embed="rId2"/>
          <a:stretch/>
        </p:blipFill>
        <p:spPr>
          <a:xfrm>
            <a:off x="214200" y="1785960"/>
            <a:ext cx="3954600" cy="41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VIÑETA 2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599840"/>
            <a:ext cx="81532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Francisca, escolar de 10 años. Cursa 5to básico. Madre consulta porque le preocupa que este año las notas de su hija han bajado considerablemente, hasta el punto de tener 2 asignaturas rojas. Hasta el año pasado rendimiento regular a malo (x: 5.0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Madre y Fca concuerdan en que no hay otra sintomatología concomitante y que no ha cambiado el patrón de estudio, el cual es my intenso, hasta el punto que Fca prácticamente pasa todo su tiempo fuera del colegio realizando resúmenes y estudiand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s descrita como una niña muy respetuosa, nunca ha tenido problemas conductuales, más bien retraíd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CI normal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4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20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dd9"/>
                </a:solidFill>
                <a:latin typeface="Century Schoolbook"/>
              </a:rPr>
              <a:t>PRESENTACIÓN CLÍNICA DEL TDAH EN ESCOLARES</a:t>
            </a:r>
            <a:r>
              <a:rPr b="1" lang="es-ES" sz="3200" spc="-1" strike="noStrike">
                <a:solidFill>
                  <a:srgbClr val="009dd9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286160" y="1428840"/>
            <a:ext cx="4486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Se distrae fácilment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Tareas domésticas poco organizadas, descuidado, errores, a menudo incompletas  o pérdida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Calificaciones académicas baja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Amonestaciones frecuentes en el colegi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Interrumpe e invade a los otro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Autoestima baj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Derrocha agre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Dificultad en relaciones con pares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No espera su turno en juego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A menudo fuera de sí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Percepción de inmadurez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No colabora en tareas doméstica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266760" y="63295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Greenhill LL. J. Clin Psychiatry 1998;59 (Suppl7):31-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psicom"/>
          <p:cNvPicPr/>
          <p:nvPr/>
        </p:nvPicPr>
        <p:blipFill>
          <a:blip r:embed="rId2"/>
          <a:stretch/>
        </p:blipFill>
        <p:spPr>
          <a:xfrm>
            <a:off x="142920" y="2071800"/>
            <a:ext cx="3943440" cy="30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VIÑETA 3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scolar de 9 años. Traido a consultar por obligación del colegio, tras amenaza de cancelación de matrícul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Informe del colegio describe severas dificultades conductuales “desde siempre”. Es oposicionista y provocador con profesores. Además tiene rendimiento regular a malo en ramos como matemáticas y lenguaje y bueno en educación fisica. Conners abreviado de 27 punto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Madre reconoce inquietud motora y dificultades en su manejo, pero tiende a culpar al colegio de no saber manejarlo planteando que ella no está de acuerdo con medic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79292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dd9"/>
                </a:solidFill>
                <a:latin typeface="Century Schoolbook"/>
              </a:rPr>
              <a:t>TDAH: MULTISISTÉMICO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357120" y="1071720"/>
          <a:ext cx="8001000" cy="4857480"/>
        </p:xfrm>
        <a:graphic>
          <a:graphicData uri="http://schemas.openxmlformats.org/drawingml/2006/table">
            <a:tbl>
              <a:tblPr/>
              <a:tblGrid>
                <a:gridCol w="1765440"/>
                <a:gridCol w="220680"/>
                <a:gridCol w="1544400"/>
                <a:gridCol w="1397160"/>
                <a:gridCol w="1469880"/>
                <a:gridCol w="1603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rast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mi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scu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Hiperactiv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terfiere c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as rutina: horas de comidas y dorm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 para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ve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lesta a 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ros ni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tros ni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 lo invit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 event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 si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chaz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ierde l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utoest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mpulsivid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structivo, fácilmente frustr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puesta inadecu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 espera su turno, hace tra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 mete 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obl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3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nate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acer las tareas es 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esadill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ierde co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 retrasa c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a t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sco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s niñ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portan qu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 sigue instruc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 los jueg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iensa de s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ismo que 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s intelig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sp>
        <p:nvSpPr>
          <p:cNvPr id="464" name="Rectangle 3"/>
          <p:cNvSpPr/>
          <p:nvPr/>
        </p:nvSpPr>
        <p:spPr>
          <a:xfrm>
            <a:off x="214200" y="6072120"/>
            <a:ext cx="814392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6fc6"/>
                </a:solidFill>
                <a:latin typeface="Arial Narrow"/>
              </a:rPr>
              <a:t>Barkley RA, et al. J Atten Disord 1996;1:41-54; Bird HR, et al. Int J Methods Psychiatr Res 1993;3:167-76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6fc6"/>
                </a:solidFill>
                <a:latin typeface="Arial Narrow"/>
              </a:rPr>
              <a:t>Greenhill LL, et al. J Am Acad Child Adolesc Psychiatry 2001;40:180-7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6fc6"/>
                </a:solidFill>
                <a:latin typeface="Arial Narrow"/>
              </a:rPr>
              <a:t>Murphy K, et al. Attention deficit hyperactivity disorder adults: comorbidities and adaptive impairments. Compr Psychiatry 1996;37:393-40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6fc6"/>
                </a:solidFill>
                <a:latin typeface="Arial Narrow"/>
              </a:rPr>
              <a:t>Hodges K, et al. J Child Fam Stud 1996;5:445-67; Szatmari P, et al. J Child Psychol Psychiatry 1989;30:205-17</a:t>
            </a:r>
            <a:r>
              <a:rPr b="1" lang="en-US" sz="1600" spc="-1" strike="noStrike">
                <a:solidFill>
                  <a:srgbClr val="0f6fc6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786800" y="0"/>
            <a:ext cx="1000080" cy="1077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9dd9"/>
                </a:solidFill>
                <a:latin typeface="Century Schoolbook"/>
              </a:rPr>
              <a:t>INTRODUCCIÓN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409" name="3 Diagrama" descr=""/>
          <p:cNvPicPr/>
          <p:nvPr/>
        </p:nvPicPr>
        <p:blipFill>
          <a:blip r:embed="rId1"/>
          <a:stretch/>
        </p:blipFill>
        <p:spPr>
          <a:xfrm>
            <a:off x="360360" y="1878120"/>
            <a:ext cx="7740720" cy="4413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240" y="70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f6fc6"/>
                </a:solidFill>
                <a:latin typeface="Century Schoolbook"/>
              </a:rPr>
              <a:t>PRESENTACIÓN CLÍNICA DEL TDAH EN ADOLESCENTES </a:t>
            </a:r>
            <a:endParaRPr b="0" lang="en-US" sz="32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428640" y="13712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Sentido de  inquietud interna más que hiperativida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Trabajo escolar desorganizad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Falla en el trabajo autónom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Baja autoestim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Relaciones con pares pobr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Incapacidad para postergar gratificació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Discapacidades de aprendizaje especifica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8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9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1"/>
          <p:cNvSpPr/>
          <p:nvPr/>
        </p:nvSpPr>
        <p:spPr>
          <a:xfrm>
            <a:off x="457200" y="419112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ductas generalmente no se modifica con compensaciones o casti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involucra en conductas riesgosa (velocidad, sexo sin protección, abuso de sustanc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cuido aparente de su propia seguridad (lesiones o accide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icultades o confrontación  con auto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2"/>
          <p:cNvSpPr/>
          <p:nvPr/>
        </p:nvSpPr>
        <p:spPr>
          <a:xfrm>
            <a:off x="1357200" y="6329520"/>
            <a:ext cx="732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Greenhill LL. J. Clin Psychiatry 1998;59 (Suppl 7):31-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4" descr="http://anonadatos.files.wordpress.com/2008/09/estudiar_g2.jpg"/>
          <p:cNvPicPr/>
          <p:nvPr/>
        </p:nvPicPr>
        <p:blipFill>
          <a:blip r:embed="rId1"/>
          <a:stretch/>
        </p:blipFill>
        <p:spPr>
          <a:xfrm>
            <a:off x="428760" y="1643040"/>
            <a:ext cx="2960640" cy="22208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500960" y="0"/>
            <a:ext cx="1285920" cy="13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268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9dd9"/>
                </a:solidFill>
                <a:latin typeface="Century Schoolbook"/>
              </a:rPr>
              <a:t>PREVALENCIA DEL SDAH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56760" y="1357200"/>
            <a:ext cx="81536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blación Esco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3% – 9.5%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Promedio 5.23%</a:t>
            </a: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CL" sz="1100" spc="-1" strike="noStrike">
                <a:solidFill>
                  <a:srgbClr val="000000"/>
                </a:solidFill>
                <a:latin typeface="Century Schoolbook"/>
              </a:rPr>
              <a:t>Barkley (1997,1998)</a:t>
            </a:r>
            <a:r>
              <a:rPr b="0" lang="es-CL" sz="1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CL" sz="1000" spc="-1" strike="noStrike">
                <a:solidFill>
                  <a:srgbClr val="000000"/>
                </a:solidFill>
                <a:latin typeface="Century Schoolbook"/>
              </a:rPr>
              <a:t>Surgeant 2000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iferencias Geográficas y cultur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Chile 6%  </a:t>
            </a:r>
            <a:r>
              <a:rPr b="0" lang="es-CL" sz="1400" spc="-1" strike="noStrike">
                <a:solidFill>
                  <a:srgbClr val="000000"/>
                </a:solidFill>
                <a:latin typeface="Century Schoolbook"/>
              </a:rPr>
              <a:t>De la Barra(1998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blación Consultante 17.5%                </a:t>
            </a:r>
            <a:r>
              <a:rPr b="0" lang="es-CL" sz="1200" spc="-1" strike="noStrike">
                <a:solidFill>
                  <a:srgbClr val="000000"/>
                </a:solidFill>
                <a:latin typeface="Century Schoolbook"/>
              </a:rPr>
              <a:t>Almonte (1998)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resentación en ambos sexos. Relación </a:t>
            </a:r>
            <a:r>
              <a:rPr b="0" i="1" lang="es-ES_tradnl" sz="2500" spc="-1" strike="noStrike">
                <a:solidFill>
                  <a:srgbClr val="000000"/>
                </a:solidFill>
                <a:latin typeface="Century Schoolbook"/>
              </a:rPr>
              <a:t>H :  M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colares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4:1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adultos  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2: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s mujeres menos agresividad y comorbilidad conductu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0" name="4 Rectángulo"/>
          <p:cNvSpPr/>
          <p:nvPr/>
        </p:nvSpPr>
        <p:spPr>
          <a:xfrm>
            <a:off x="2085840" y="6400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f6fc6"/>
                </a:solidFill>
                <a:latin typeface="Century Schoolbook"/>
              </a:rPr>
              <a:t>Child Adolesc Psychiatric Clin N Am 17 (2008) 254-2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746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9dd9"/>
                </a:solidFill>
                <a:latin typeface="Century Schoolbook"/>
              </a:rPr>
              <a:t>ETIOPATOGENIA:</a:t>
            </a:r>
            <a:br>
              <a:rPr sz="2700"/>
            </a:br>
            <a:r>
              <a:rPr b="0" lang="es-MX" sz="2700" spc="-1" strike="noStrike">
                <a:solidFill>
                  <a:srgbClr val="009dd9"/>
                </a:solidFill>
                <a:latin typeface="Century Schoolbook"/>
              </a:rPr>
              <a:t>FACTORES IMPLICADOS  EN EL S.D.A</a:t>
            </a: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483" name="8 Marcador de contenido" descr=""/>
          <p:cNvPicPr/>
          <p:nvPr/>
        </p:nvPicPr>
        <p:blipFill>
          <a:blip r:embed="rId1"/>
          <a:stretch/>
        </p:blipFill>
        <p:spPr>
          <a:xfrm>
            <a:off x="554040" y="1639800"/>
            <a:ext cx="7248600" cy="42800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FACTORES FAMILIARES Y GENÉTICOS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486" name="3 Diagrama" descr=""/>
          <p:cNvPicPr/>
          <p:nvPr/>
        </p:nvPicPr>
        <p:blipFill>
          <a:blip r:embed="rId1"/>
          <a:stretch/>
        </p:blipFill>
        <p:spPr>
          <a:xfrm>
            <a:off x="554040" y="1627200"/>
            <a:ext cx="7656480" cy="42372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572240" y="0"/>
            <a:ext cx="1214640" cy="13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42800" y="142848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ltiplicidad de genes  de variados efec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550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entury Schoolbook"/>
              </a:rPr>
              <a:t>Genes candidat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80000"/>
              </a:lnSpc>
              <a:spcBef>
                <a:spcPts val="451"/>
              </a:spcBef>
              <a:buClr>
                <a:srgbClr val="aacce9"/>
              </a:buClr>
              <a:buSzPct val="68000"/>
              <a:buFont typeface="Century Schoolboo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GEN del transportador de dopamina DAT1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80000"/>
              </a:lnSpc>
              <a:spcBef>
                <a:spcPts val="451"/>
              </a:spcBef>
              <a:buClr>
                <a:srgbClr val="aacce9"/>
              </a:buClr>
              <a:buSzPct val="68000"/>
              <a:buFont typeface="Century Schoolboo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GEN DOPAMINA 4 (DRD4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80000"/>
              </a:lnSpc>
              <a:spcBef>
                <a:spcPts val="451"/>
              </a:spcBef>
              <a:buClr>
                <a:srgbClr val="aacce9"/>
              </a:buClr>
              <a:buSzPct val="68000"/>
              <a:buFont typeface="Century Schoolboo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DRD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80000"/>
              </a:lnSpc>
              <a:spcBef>
                <a:spcPts val="451"/>
              </a:spcBef>
              <a:buClr>
                <a:srgbClr val="aacce9"/>
              </a:buClr>
              <a:buSzPct val="68000"/>
              <a:buFont typeface="Century Schoolboo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Dopamina Beta hidroxilas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80000"/>
              </a:lnSpc>
              <a:spcBef>
                <a:spcPts val="451"/>
              </a:spcBef>
              <a:buClr>
                <a:srgbClr val="aacce9"/>
              </a:buClr>
              <a:buSzPct val="68000"/>
              <a:buFont typeface="Century Schoolboo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Receptor D2, D catecol O metiltransferas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80000"/>
              </a:lnSpc>
              <a:spcBef>
                <a:spcPts val="451"/>
              </a:spcBef>
              <a:buClr>
                <a:srgbClr val="aacce9"/>
              </a:buClr>
              <a:buSzPct val="68000"/>
              <a:buFont typeface="Century Schoolboo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Receptores noradrenérgic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lnSpc>
                <a:spcPct val="80000"/>
              </a:lnSpc>
              <a:spcBef>
                <a:spcPts val="451"/>
              </a:spcBef>
              <a:buClr>
                <a:srgbClr val="aacce9"/>
              </a:buClr>
              <a:buSzPct val="68000"/>
              <a:buFont typeface="Century Schoolbook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Receptores serotoninérgic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80000"/>
              </a:lnSpc>
              <a:spcBef>
                <a:spcPts val="550"/>
              </a:spcBef>
              <a:buClr>
                <a:srgbClr val="009dd9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entury Schoolbook"/>
              </a:rPr>
              <a:t>GENES EN LA NEUROTRANSMISION DOPAMINERGIC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Estudios en gemelos                   heredabilidad 70%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Heredabilidad de vulnerabilidad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5 Rectángulo"/>
          <p:cNvSpPr/>
          <p:nvPr/>
        </p:nvSpPr>
        <p:spPr>
          <a:xfrm>
            <a:off x="1104840" y="6429240"/>
            <a:ext cx="7467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f6fc6"/>
                </a:solidFill>
                <a:latin typeface="Century Schoolbook"/>
              </a:rPr>
              <a:t>Faraone et al. Biol Psychiatry 2005; 57(11):1313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6 Flecha derecha"/>
          <p:cNvSpPr/>
          <p:nvPr/>
        </p:nvSpPr>
        <p:spPr>
          <a:xfrm>
            <a:off x="3429000" y="5143680"/>
            <a:ext cx="673200" cy="33156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FACTORES FAMILIARES Y GENÉTICOS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Object 2"/>
          <p:cNvGraphicFramePr/>
          <p:nvPr/>
        </p:nvGraphicFramePr>
        <p:xfrm>
          <a:off x="6323040" y="3243240"/>
          <a:ext cx="233676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3040" y="3243240"/>
                    <a:ext cx="233676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00160" y="631800"/>
            <a:ext cx="6829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dd9"/>
                </a:solidFill>
                <a:latin typeface="Century Schoolbook"/>
              </a:rPr>
              <a:t>NEUROTRANSMISORES INVOLUCRADOS EN EL TDAH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57120" y="1252080"/>
            <a:ext cx="7772400" cy="9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s regiones ricas en noradrenalina y dopamina estan consistentemente implicad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349200" y="2487600"/>
            <a:ext cx="1682640" cy="652320"/>
          </a:xfrm>
          <a:prstGeom prst="rect">
            <a:avLst/>
          </a:prstGeom>
          <a:noFill/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6fc6"/>
                </a:solidFill>
                <a:latin typeface="Arial Narrow"/>
              </a:rPr>
              <a:t>Sist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6fc6"/>
                </a:solidFill>
                <a:latin typeface="Arial Narrow"/>
              </a:rPr>
              <a:t>Aten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2014560" y="2487600"/>
            <a:ext cx="2146320" cy="635040"/>
          </a:xfrm>
          <a:prstGeom prst="rect">
            <a:avLst/>
          </a:prstGeom>
          <a:noFill/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6fc6"/>
                </a:solidFill>
                <a:latin typeface="Arial Narrow"/>
              </a:rPr>
              <a:t>Neurotransmisor</a:t>
            </a:r>
            <a:br>
              <a:rPr sz="1600"/>
            </a:br>
            <a:r>
              <a:rPr b="1" lang="en-US" sz="1600" spc="-1" strike="noStrike">
                <a:solidFill>
                  <a:srgbClr val="0f6fc6"/>
                </a:solidFill>
                <a:latin typeface="Arial Narrow"/>
              </a:rPr>
              <a:t>Impli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4143240" y="2487600"/>
            <a:ext cx="1798920" cy="635040"/>
          </a:xfrm>
          <a:prstGeom prst="rect">
            <a:avLst/>
          </a:prstGeom>
          <a:noFill/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6fc6"/>
                </a:solidFill>
                <a:latin typeface="Arial Narrow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349200" y="3122640"/>
            <a:ext cx="1684440" cy="1595520"/>
          </a:xfrm>
          <a:prstGeom prst="rect">
            <a:avLst/>
          </a:prstGeom>
          <a:noFill/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oster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2000160" y="3143160"/>
            <a:ext cx="2146320" cy="1595520"/>
          </a:xfrm>
          <a:prstGeom prst="rect">
            <a:avLst/>
          </a:prstGeom>
          <a:noFill/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oradrenal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4143240" y="3122640"/>
            <a:ext cx="1798920" cy="1595520"/>
          </a:xfrm>
          <a:prstGeom prst="rect">
            <a:avLst/>
          </a:prstGeom>
          <a:noFill/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sconexión con el estím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ambio de foco a un nuevo estím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estar atención al nuevo estím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11"/>
          <p:cNvSpPr/>
          <p:nvPr/>
        </p:nvSpPr>
        <p:spPr>
          <a:xfrm>
            <a:off x="7180200" y="3530520"/>
            <a:ext cx="128520" cy="12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2"/>
          <p:cNvSpPr/>
          <p:nvPr/>
        </p:nvSpPr>
        <p:spPr>
          <a:xfrm>
            <a:off x="7361280" y="4316400"/>
            <a:ext cx="196920" cy="20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3"/>
          <p:cNvSpPr/>
          <p:nvPr/>
        </p:nvSpPr>
        <p:spPr>
          <a:xfrm>
            <a:off x="7264440" y="3656160"/>
            <a:ext cx="108000" cy="7286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5"/>
          <p:cNvSpPr/>
          <p:nvPr/>
        </p:nvSpPr>
        <p:spPr>
          <a:xfrm>
            <a:off x="642960" y="6183360"/>
            <a:ext cx="80722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6fc6"/>
                </a:solidFill>
                <a:latin typeface="Arial Narrow"/>
              </a:rPr>
              <a:t>Pliszka SR, McCracken IT, Maas JW. Catecholamines in Attention Deficit Hyperactivity Disorder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6fc6"/>
                </a:solidFill>
                <a:latin typeface="Arial Narrow"/>
              </a:rPr>
              <a:t>Current Perspectives. J Am Acad Child Adolesc Psychiatry. 1996;35(3):264-272; Mefford and Potter et. al Medical Hypotheses, 1989; Robbins &amp; Everitt,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6"/>
          <p:cNvSpPr/>
          <p:nvPr/>
        </p:nvSpPr>
        <p:spPr>
          <a:xfrm>
            <a:off x="7140600" y="4383000"/>
            <a:ext cx="241200" cy="414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17"/>
          <p:cNvGrpSpPr/>
          <p:nvPr/>
        </p:nvGrpSpPr>
        <p:grpSpPr>
          <a:xfrm>
            <a:off x="349200" y="3422520"/>
            <a:ext cx="7815240" cy="2305080"/>
            <a:chOff x="349200" y="3422520"/>
            <a:chExt cx="7815240" cy="2305080"/>
          </a:xfrm>
        </p:grpSpPr>
        <p:sp>
          <p:nvSpPr>
            <p:cNvPr id="509" name="Oval 18"/>
            <p:cNvSpPr/>
            <p:nvPr/>
          </p:nvSpPr>
          <p:spPr>
            <a:xfrm>
              <a:off x="7361280" y="4316400"/>
              <a:ext cx="196920" cy="206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7264440" y="3656160"/>
              <a:ext cx="108000" cy="7286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20"/>
            <p:cNvSpPr/>
            <p:nvPr/>
          </p:nvSpPr>
          <p:spPr>
            <a:xfrm>
              <a:off x="349200" y="4718160"/>
              <a:ext cx="1684440" cy="1009440"/>
            </a:xfrm>
            <a:prstGeom prst="rect">
              <a:avLst/>
            </a:prstGeom>
            <a:noFill/>
            <a:ln w="1260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Anter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21"/>
            <p:cNvSpPr/>
            <p:nvPr/>
          </p:nvSpPr>
          <p:spPr>
            <a:xfrm>
              <a:off x="2014560" y="4718160"/>
              <a:ext cx="2146320" cy="1009440"/>
            </a:xfrm>
            <a:prstGeom prst="rect">
              <a:avLst/>
            </a:prstGeom>
            <a:noFill/>
            <a:ln w="1260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Noradrenalina y Dopam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22"/>
            <p:cNvSpPr/>
            <p:nvPr/>
          </p:nvSpPr>
          <p:spPr>
            <a:xfrm>
              <a:off x="4143240" y="4718160"/>
              <a:ext cx="1798920" cy="1009440"/>
            </a:xfrm>
            <a:prstGeom prst="rect">
              <a:avLst/>
            </a:prstGeom>
            <a:noFill/>
            <a:ln w="1260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marL="235080" indent="-235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Análisis de da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5080" indent="-235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reparación para la respues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Group 24"/>
            <p:cNvGrpSpPr/>
            <p:nvPr/>
          </p:nvGrpSpPr>
          <p:grpSpPr>
            <a:xfrm>
              <a:off x="7264440" y="3422520"/>
              <a:ext cx="900000" cy="1100160"/>
              <a:chOff x="7264440" y="3422520"/>
              <a:chExt cx="900000" cy="1100160"/>
            </a:xfrm>
          </p:grpSpPr>
          <p:sp>
            <p:nvSpPr>
              <p:cNvPr id="515" name="Oval 25"/>
              <p:cNvSpPr/>
              <p:nvPr/>
            </p:nvSpPr>
            <p:spPr>
              <a:xfrm>
                <a:off x="7655040" y="3422520"/>
                <a:ext cx="126720" cy="123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6"/>
              <p:cNvSpPr/>
              <p:nvPr/>
            </p:nvSpPr>
            <p:spPr>
              <a:xfrm>
                <a:off x="7923240" y="3436920"/>
                <a:ext cx="241200" cy="311040"/>
              </a:xfrm>
              <a:prstGeom prst="pie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27"/>
              <p:cNvSpPr/>
              <p:nvPr/>
            </p:nvSpPr>
            <p:spPr>
              <a:xfrm>
                <a:off x="7361280" y="4316400"/>
                <a:ext cx="196920" cy="206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28"/>
              <p:cNvSpPr/>
              <p:nvPr/>
            </p:nvSpPr>
            <p:spPr>
              <a:xfrm>
                <a:off x="7264440" y="3656160"/>
                <a:ext cx="108000" cy="728640"/>
              </a:xfrm>
              <a:prstGeom prst="pie">
                <a:avLst/>
              </a:pr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29"/>
              <p:cNvSpPr/>
              <p:nvPr/>
            </p:nvSpPr>
            <p:spPr>
              <a:xfrm>
                <a:off x="7297560" y="3483000"/>
                <a:ext cx="357480" cy="344520"/>
              </a:xfrm>
              <a:prstGeom prst="pie">
                <a:avLst/>
              </a:pr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0"/>
              <p:cNvSpPr/>
              <p:nvPr/>
            </p:nvSpPr>
            <p:spPr>
              <a:xfrm>
                <a:off x="7473960" y="3627360"/>
                <a:ext cx="488880" cy="100080"/>
              </a:xfrm>
              <a:prstGeom prst="pie">
                <a:avLst/>
              </a:pr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21" name="Picture 2" descr="http://www.solucionespedagogicas.cl/images/dificitatencional.jpg"/>
          <p:cNvPicPr/>
          <p:nvPr/>
        </p:nvPicPr>
        <p:blipFill>
          <a:blip r:embed="rId3"/>
          <a:stretch/>
        </p:blipFill>
        <p:spPr>
          <a:xfrm>
            <a:off x="7429680" y="0"/>
            <a:ext cx="1357200" cy="14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NEUROBIOLOGIA</a:t>
            </a:r>
            <a:r>
              <a:rPr b="0" lang="es-MX" sz="3000" spc="-1" strike="noStrike">
                <a:solidFill>
                  <a:srgbClr val="ffcc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ROL DE LA CORTEZA FRO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Disfunción frontal: Hipoperfusión frontal MRI funcional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Déficit en capacidad de inhibición conductual y autocontrol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Déficit en memoria de trabaj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Ganglios bas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Cerebel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3 Rectángulo"/>
          <p:cNvSpPr/>
          <p:nvPr/>
        </p:nvSpPr>
        <p:spPr>
          <a:xfrm>
            <a:off x="1150920" y="6442200"/>
            <a:ext cx="7467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f6fc6"/>
                </a:solidFill>
                <a:latin typeface="Century Schoolbook"/>
              </a:rPr>
              <a:t>Faraone et al. Biol Psychiatry 2005; 57(11):1313-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  <p:pic>
        <p:nvPicPr>
          <p:cNvPr id="526" name="2 Imagen" descr="ADHD-DAT-300.jpg"/>
          <p:cNvPicPr/>
          <p:nvPr/>
        </p:nvPicPr>
        <p:blipFill>
          <a:blip r:embed="rId2"/>
          <a:stretch/>
        </p:blipFill>
        <p:spPr>
          <a:xfrm>
            <a:off x="2428920" y="3429000"/>
            <a:ext cx="514188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NEUROBIOLOGIA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528" name="3 Diagrama" descr=""/>
          <p:cNvPicPr/>
          <p:nvPr/>
        </p:nvPicPr>
        <p:blipFill>
          <a:blip r:embed="rId1"/>
          <a:stretch/>
        </p:blipFill>
        <p:spPr>
          <a:xfrm>
            <a:off x="738360" y="1768320"/>
            <a:ext cx="6851520" cy="4151520"/>
          </a:xfrm>
          <a:prstGeom prst="rect">
            <a:avLst/>
          </a:prstGeom>
          <a:ln w="0">
            <a:noFill/>
          </a:ln>
        </p:spPr>
      </p:pic>
      <p:sp>
        <p:nvSpPr>
          <p:cNvPr id="529" name="4 Rectángulo"/>
          <p:cNvSpPr/>
          <p:nvPr/>
        </p:nvSpPr>
        <p:spPr>
          <a:xfrm>
            <a:off x="838080" y="6477120"/>
            <a:ext cx="7467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f6fc6"/>
                </a:solidFill>
                <a:latin typeface="Century Schoolbook"/>
              </a:rPr>
              <a:t>Faraone et al. Biol Psychiatry 2005; 57(11):1313-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746748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ALTERACIONES PERINATALES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7758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Schoolbook"/>
              </a:rPr>
              <a:t>EXPOSICIÓN A SUSTANCIAS EN ÚTERO (tabaco, OH, drogas, metale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Problemas de aprendizaj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Problemas de atención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Rol de la acetilcolina en el desarrollo cerebral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Schoolbook"/>
              </a:rPr>
              <a:t>Hipoxia perinatal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Schoolbook"/>
              </a:rPr>
              <a:t>Bajo peso al nacer (menor a 1000 grs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Schoolbook"/>
              </a:rPr>
              <a:t>Uso de corticoides:  alteración del eje HHA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3" name="9 Rectángulo"/>
          <p:cNvSpPr/>
          <p:nvPr/>
        </p:nvSpPr>
        <p:spPr>
          <a:xfrm>
            <a:off x="3214800" y="6477120"/>
            <a:ext cx="5638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f6fc6"/>
                </a:solidFill>
                <a:latin typeface="Century Schoolbook"/>
              </a:rPr>
              <a:t>Kieling et al. </a:t>
            </a:r>
            <a:r>
              <a:rPr b="0" lang="es-CL" sz="1400" spc="-1" strike="noStrike">
                <a:solidFill>
                  <a:srgbClr val="0f6fc6"/>
                </a:solidFill>
                <a:latin typeface="Century Schoolbook"/>
              </a:rPr>
              <a:t> Child Adolesc Psychiatric Clin N Am 17(2008) 285-3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http://www.cooperativa.cl/prontus_nots/site/artic/20090327/imag/FOTO_0120090327143908.jpg"/>
          <p:cNvPicPr/>
          <p:nvPr/>
        </p:nvPicPr>
        <p:blipFill>
          <a:blip r:embed="rId2"/>
          <a:stretch/>
        </p:blipFill>
        <p:spPr>
          <a:xfrm>
            <a:off x="3786120" y="4500720"/>
            <a:ext cx="333396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74674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9dd9"/>
                </a:solidFill>
                <a:latin typeface="Century Schoolbook"/>
              </a:rPr>
              <a:t>FORMAS ADQUIRIDAS  DEL SDA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900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20% TEC SEVEROS: INATENCIÓN, IMPULSIV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TEC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regiones frontales y prefronta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Impacto en la sustancia blanc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Edema: hipoperfusión  núcleo caudado y striatum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Century Schoolbook"/>
              </a:rPr>
              <a:t>Secuelas de infecciones graves SNC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9dd9"/>
                </a:solidFill>
                <a:latin typeface="Century Schoolbook"/>
              </a:rPr>
              <a:t>FACTORES PSICOSOCIALES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25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Century Schoolbook"/>
              </a:rPr>
              <a:t>Severidad del SDA relacionado con estresores familiares y adversidad psicosocial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Century Schoolbook"/>
              </a:rPr>
              <a:t>Severidad asociada a comorbilidad</a:t>
            </a: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38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9dd9"/>
                </a:solidFill>
                <a:latin typeface="Century Schoolbook"/>
              </a:rPr>
              <a:t>INTRODUCCIÓN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412" name="4 Diagrama" descr=""/>
          <p:cNvPicPr/>
          <p:nvPr/>
        </p:nvPicPr>
        <p:blipFill>
          <a:blip r:embed="rId1"/>
          <a:stretch/>
        </p:blipFill>
        <p:spPr>
          <a:xfrm>
            <a:off x="487440" y="2023920"/>
            <a:ext cx="7381800" cy="4181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5960" y="428400"/>
            <a:ext cx="89154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HIPERACTIVIDAD:</a:t>
            </a:r>
            <a:br>
              <a:rPr sz="3000"/>
            </a:b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PROGRESIÓN DE LOS SÍNTOMAS HACIA LA ADULTEZ</a:t>
            </a:r>
            <a:br>
              <a:rPr sz="3000"/>
            </a:br>
            <a:br>
              <a:rPr sz="2700"/>
            </a:b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INQUIETUD SIN RUMBO SE CONVIERTE EN INQUIETUD CON PROPÓSITO</a:t>
            </a:r>
            <a:endParaRPr b="0" lang="en-US" sz="22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28240" y="2428920"/>
            <a:ext cx="3809880" cy="2819520"/>
          </a:xfrm>
          <a:prstGeom prst="rect">
            <a:avLst/>
          </a:prstGeom>
          <a:noFill/>
          <a:ln w="12600">
            <a:solidFill>
              <a:srgbClr val="0060d0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Síntomas DSM IV de Hiperactividad </a:t>
            </a:r>
            <a:r>
              <a:rPr b="0" lang="es-CL" sz="2000" spc="-1" strike="noStrike" baseline="30000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Habla en forma excesiv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Inquietud  psicomoto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Juego intranquil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Motor sin rumb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876920" y="2428920"/>
            <a:ext cx="3962160" cy="2819520"/>
          </a:xfrm>
          <a:prstGeom prst="rect">
            <a:avLst/>
          </a:prstGeom>
          <a:noFill/>
          <a:ln w="12600">
            <a:solidFill>
              <a:srgbClr val="0f6fc6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Síntomas comunes en el </a:t>
            </a:r>
            <a:r>
              <a:rPr b="0" lang="es-CL" sz="2000" spc="-1" strike="noStrike">
                <a:solidFill>
                  <a:srgbClr val="0f6fc6"/>
                </a:solidFill>
                <a:latin typeface="Century Schoolbook"/>
              </a:rPr>
              <a:t>adolescente</a:t>
            </a: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 - adulto </a:t>
            </a:r>
            <a:r>
              <a:rPr b="0" lang="es-CL" sz="20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Habla en forma excesiv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Inquietud interio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Abrumad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Elige trabajos activ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266760" y="618156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1.Adapted from American Psychiatric Association. DSM-IV TR.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2. Weiss M, et al. ADHD in Adulthood: a guide to current theory, diagnosis and beatment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ight Arrow 6"/>
          <p:cNvSpPr/>
          <p:nvPr/>
        </p:nvSpPr>
        <p:spPr>
          <a:xfrm>
            <a:off x="4214880" y="32860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4200" y="109080"/>
            <a:ext cx="8344080" cy="1676520"/>
          </a:xfrm>
          <a:prstGeom prst="rect">
            <a:avLst/>
          </a:prstGeom>
          <a:noFill/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IMPULSIVIDAD</a:t>
            </a:r>
            <a:br>
              <a:rPr sz="3000"/>
            </a:b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PROGRESIÓN DE LOS SÍNTOMAS HACIA LA ADULTEZ</a:t>
            </a:r>
            <a:br>
              <a:rPr sz="3000"/>
            </a:b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IMPULSIVIDAD EN ADOLESCENTES  GENERA CONSECUENCIAS MÁS SERIAS</a:t>
            </a:r>
            <a:endParaRPr b="0" lang="en-US" sz="22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213840" y="2239920"/>
            <a:ext cx="4038840" cy="3116160"/>
          </a:xfrm>
          <a:prstGeom prst="rect">
            <a:avLst/>
          </a:prstGeom>
          <a:noFill/>
          <a:ln w="255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Schoolbook"/>
              </a:rPr>
              <a:t>Síntomas DSM IV d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CL" sz="1900" spc="-1" strike="noStrike">
                <a:solidFill>
                  <a:srgbClr val="000000"/>
                </a:solidFill>
                <a:latin typeface="Century Schoolbook"/>
              </a:rPr>
              <a:t>Impulsividad </a:t>
            </a:r>
            <a:r>
              <a:rPr b="0" lang="es-CL" sz="1900" spc="-1" strike="noStrike" baseline="30000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Respuestas precipitada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No puede esperar turno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Interrumpe, no  respeta límite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071680" y="2214720"/>
            <a:ext cx="3537000" cy="3117600"/>
          </a:xfrm>
          <a:prstGeom prst="rect">
            <a:avLst/>
          </a:prstGeom>
          <a:noFill/>
          <a:ln w="12600">
            <a:solidFill>
              <a:srgbClr val="0f6fc6"/>
            </a:solidFill>
            <a:miter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Schoolbook"/>
              </a:rPr>
              <a:t>Síntomas comunes en </a:t>
            </a:r>
            <a:r>
              <a:rPr b="0" lang="es-CL" sz="1900" spc="-1" strike="noStrike">
                <a:solidFill>
                  <a:srgbClr val="0f6fc6"/>
                </a:solidFill>
                <a:latin typeface="Century Schoolbook"/>
              </a:rPr>
              <a:t>adolescentes</a:t>
            </a:r>
            <a:r>
              <a:rPr b="0" lang="es-CL" sz="1900" spc="-1" strike="noStrike">
                <a:solidFill>
                  <a:srgbClr val="000000"/>
                </a:solidFill>
                <a:latin typeface="Century Schoolbook"/>
              </a:rPr>
              <a:t> - adultos </a:t>
            </a:r>
            <a:r>
              <a:rPr b="0" lang="es-CL" sz="19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Schoolbook"/>
              </a:rPr>
              <a:t>Irritabilidad, ligero de genio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Schoolbook"/>
              </a:rPr>
              <a:t>Cambios impulsivos de estudios - trabaj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Schoolbook"/>
              </a:rPr>
              <a:t>Accidentes por conducir muy rápid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Schoolbook"/>
              </a:rPr>
              <a:t>Consumo de cigarro y café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266760" y="601992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1.Adapted from American Psychiatric Association. DSM-IV TR.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2. Weiss M, et al. ADHD in Adulthood: a guide to current theory, diagnosis and beatment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ight Arrow 6"/>
          <p:cNvSpPr/>
          <p:nvPr/>
        </p:nvSpPr>
        <p:spPr>
          <a:xfrm>
            <a:off x="4500720" y="32860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INATENCIÓN</a:t>
            </a:r>
            <a:br>
              <a:rPr sz="3000"/>
            </a:b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PROGRESIÓN DE LOS SÍNTOMAS HACIA LA ADULTEZ</a:t>
            </a:r>
            <a:br>
              <a:rPr sz="2700"/>
            </a:br>
            <a:br>
              <a:rPr sz="2700"/>
            </a:b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GENERALMENTE NO SE QUEJAN DE INATENCIÓN , YA QUE LA HAN COMPENSADO PARCIALMENTE</a:t>
            </a:r>
            <a:endParaRPr b="0" lang="en-US" sz="18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285480" y="2201400"/>
            <a:ext cx="3609720" cy="3799080"/>
          </a:xfrm>
          <a:prstGeom prst="rect">
            <a:avLst/>
          </a:prstGeom>
          <a:noFill/>
          <a:ln w="12600">
            <a:solidFill>
              <a:srgbClr val="009ae7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Síntomas DSM IV de inatención</a:t>
            </a: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000" spc="-1" strike="noStrike" baseline="30000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Dificultad para mantener la atención en una activida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No escuch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No sigue instruccion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No puede organizars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No capta lo importan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Pierde, extravía sus cos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No sigue rutina diari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929120" y="2214360"/>
            <a:ext cx="3471840" cy="3786120"/>
          </a:xfrm>
          <a:prstGeom prst="rect">
            <a:avLst/>
          </a:prstGeom>
          <a:noFill/>
          <a:ln w="12600">
            <a:solidFill>
              <a:srgbClr val="0f6fc6"/>
            </a:solidFill>
            <a:miter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Síntomas en el </a:t>
            </a:r>
            <a:r>
              <a:rPr b="0" lang="es-CL" sz="2000" spc="-1" strike="noStrike">
                <a:solidFill>
                  <a:srgbClr val="0f6fc6"/>
                </a:solidFill>
                <a:latin typeface="Century Schoolbook"/>
              </a:rPr>
              <a:t>adolescente</a:t>
            </a: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-adulto </a:t>
            </a:r>
            <a:r>
              <a:rPr b="0" lang="es-CL" sz="12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Dificultad para atención sostenida en estudios, trabaj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Se olvida fácilmente de situaciones, “volado”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Concentración pobr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Mala organización de su tiemp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Dificultad en terminar sus tare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Pierde , extravía sus cos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266760" y="632448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f6fc6"/>
                </a:solidFill>
                <a:latin typeface="Times New Roman"/>
              </a:rPr>
              <a:t>1.Adapted from American Psychiatric Association. DSM-IV TR.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f6fc6"/>
                </a:solidFill>
                <a:latin typeface="Times New Roman"/>
              </a:rPr>
              <a:t>2. Weiss M, et al. ADHD in Adulthood: a guide to current theory, diagnosis and beatment, 1999</a:t>
            </a:r>
            <a:r>
              <a:rPr b="0" i="1" lang="es-CL" sz="14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ight Arrow 6"/>
          <p:cNvSpPr/>
          <p:nvPr/>
        </p:nvSpPr>
        <p:spPr>
          <a:xfrm>
            <a:off x="4286160" y="32148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3840" y="476280"/>
            <a:ext cx="80010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9dd9"/>
                </a:solidFill>
                <a:latin typeface="Century Schoolbook"/>
              </a:rPr>
              <a:t>TDAH: DISCAPACIDAD EN EL CICLO VITAL</a:t>
            </a: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.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33160" y="1916280"/>
            <a:ext cx="412092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rés familiar </a:t>
            </a:r>
            <a:r>
              <a:rPr b="0" lang="es-ES" sz="2400" spc="-1" strike="noStrike" baseline="38000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casa relaciones con pares</a:t>
            </a:r>
            <a:r>
              <a:rPr b="0" lang="es-ES" sz="2400" spc="-1" strike="noStrike" baseline="38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ocialización insufi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ccidentes y lesiones </a:t>
            </a:r>
            <a:r>
              <a:rPr b="0" lang="es-ES" sz="2400" spc="-1" strike="noStrike" baseline="38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uma precozmente </a:t>
            </a:r>
            <a:r>
              <a:rPr b="0" lang="es-ES" sz="2400" spc="-1" strike="noStrike" baseline="38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buso de susta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800600" y="1915920"/>
            <a:ext cx="419112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entury Schoolbook"/>
              </a:rPr>
              <a:t>Conducta delictiva </a:t>
            </a:r>
            <a:r>
              <a:rPr b="0" lang="es-ES" sz="2300" spc="-1" strike="noStrike" baseline="38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entury Schoolbook"/>
              </a:rPr>
              <a:t>Dificultades y bajo logro académico </a:t>
            </a:r>
            <a:r>
              <a:rPr b="0" lang="es-ES" sz="2300" spc="-1" strike="noStrike" baseline="38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entury Schoolbook"/>
              </a:rPr>
              <a:t>Dificultades de trabajo </a:t>
            </a:r>
            <a:r>
              <a:rPr b="0" lang="es-ES" sz="2300" spc="-1" strike="noStrike" baseline="38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entury Schoolbook"/>
              </a:rPr>
              <a:t>Dificultades sociales </a:t>
            </a:r>
            <a:r>
              <a:rPr b="0" lang="es-ES" sz="2300" spc="-1" strike="noStrike" baseline="38000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entury Schoolbook"/>
              </a:rPr>
              <a:t>Dificultades parentales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300" spc="-1" strike="noStrike" baseline="38000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142920" y="5857920"/>
            <a:ext cx="7704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1. Brown RT anad Pacini JH. J. of Learning Disabilities 1998:22(9)501-5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2. Slombowski C, et al. J Abnormal Psychology 1995:23 (3) 303-3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f6fc6"/>
                </a:solidFill>
                <a:latin typeface="Times New Roman"/>
              </a:rPr>
              <a:t>3. Barkly RA. ADHD. A Handbook for Diagnosis and Tretment. 2nd Edition 199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3"/>
          <p:cNvSpPr/>
          <p:nvPr/>
        </p:nvSpPr>
        <p:spPr>
          <a:xfrm>
            <a:off x="2819520" y="1828800"/>
            <a:ext cx="259056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imitaciones acadé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2819520" y="5410080"/>
            <a:ext cx="2819160" cy="368280"/>
          </a:xfrm>
          <a:prstGeom prst="rect">
            <a:avLst/>
          </a:prstGeom>
          <a:solidFill>
            <a:srgbClr val="edf3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Tabaco y abuso susta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6400800" y="3581280"/>
            <a:ext cx="20574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 autoes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228600" y="3581280"/>
            <a:ext cx="2438280" cy="36828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icultades leg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838080" y="4572000"/>
            <a:ext cx="2133720" cy="36828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ccidentes tráns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5867280" y="2514600"/>
            <a:ext cx="19814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elaciones hum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1143000" y="2441520"/>
            <a:ext cx="2209680" cy="368280"/>
          </a:xfrm>
          <a:prstGeom prst="rect">
            <a:avLst/>
          </a:prstGeom>
          <a:solidFill>
            <a:srgbClr val="edf3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5638680" y="4648320"/>
            <a:ext cx="1905120" cy="368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ño fí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1"/>
          <p:cNvSpPr/>
          <p:nvPr/>
        </p:nvSpPr>
        <p:spPr>
          <a:xfrm>
            <a:off x="457200" y="1295280"/>
            <a:ext cx="7924680" cy="52578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2"/>
          <p:cNvSpPr/>
          <p:nvPr/>
        </p:nvSpPr>
        <p:spPr>
          <a:xfrm>
            <a:off x="8305920" y="3352680"/>
            <a:ext cx="75960" cy="381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3"/>
          <p:cNvSpPr/>
          <p:nvPr/>
        </p:nvSpPr>
        <p:spPr>
          <a:xfrm flipH="1" flipV="1">
            <a:off x="761760" y="4952880"/>
            <a:ext cx="75960" cy="1526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4"/>
          <p:cNvSpPr/>
          <p:nvPr/>
        </p:nvSpPr>
        <p:spPr>
          <a:xfrm>
            <a:off x="4114800" y="1295280"/>
            <a:ext cx="30492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5"/>
          <p:cNvSpPr/>
          <p:nvPr/>
        </p:nvSpPr>
        <p:spPr>
          <a:xfrm rot="19828200">
            <a:off x="533880" y="15998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DUL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6"/>
          <p:cNvSpPr/>
          <p:nvPr/>
        </p:nvSpPr>
        <p:spPr>
          <a:xfrm rot="1639800">
            <a:off x="6018840" y="1447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7"/>
          <p:cNvSpPr/>
          <p:nvPr/>
        </p:nvSpPr>
        <p:spPr>
          <a:xfrm rot="20517000">
            <a:off x="5260320" y="61531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DOLESC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9680" y="70920"/>
            <a:ext cx="800100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9dd9"/>
                </a:solidFill>
                <a:latin typeface="Century Schoolbook"/>
              </a:rPr>
              <a:t>TDAH: DISCAPACIDAD EN EL CICLO VITAL</a:t>
            </a: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.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439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DIAGNÓSTICO TDAH: RESUMEN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575" name="4 Diagrama" descr=""/>
          <p:cNvPicPr/>
          <p:nvPr/>
        </p:nvPicPr>
        <p:blipFill>
          <a:blip r:embed="rId1"/>
          <a:stretch/>
        </p:blipFill>
        <p:spPr>
          <a:xfrm>
            <a:off x="401760" y="1865160"/>
            <a:ext cx="8083440" cy="43833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242856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9dd9"/>
                </a:solidFill>
                <a:latin typeface="Century Schoolbook"/>
              </a:rPr>
              <a:t>TDA/HI</a:t>
            </a:r>
            <a:endParaRPr b="0" lang="en-US" sz="44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f6fc6"/>
                </a:solidFill>
                <a:latin typeface="Century Schoolbook"/>
              </a:rPr>
              <a:t>Curso y pronóstic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f6fc6"/>
                </a:solidFill>
                <a:latin typeface="Century Schoolbook"/>
              </a:rPr>
              <a:t>Comorbilida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f6fc6"/>
                </a:solidFill>
                <a:latin typeface="Century Schoolbook"/>
              </a:rPr>
              <a:t>Diagnóstico diferencia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f6fc6"/>
                </a:solidFill>
                <a:latin typeface="Century Schoolbook"/>
              </a:rPr>
              <a:t>Evaluación médic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79" name="Picture 2" descr="http://www.karatetradicional.cl/wordpress/wp-content/uploads/2006/05/03.jpg"/>
          <p:cNvPicPr/>
          <p:nvPr/>
        </p:nvPicPr>
        <p:blipFill>
          <a:blip r:embed="rId1"/>
          <a:stretch/>
        </p:blipFill>
        <p:spPr>
          <a:xfrm>
            <a:off x="4587840" y="142920"/>
            <a:ext cx="4346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89154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NIÑOS SIN TRATAMIENTO FAVORECEN APARICIÓN DE</a:t>
            </a:r>
            <a:r>
              <a:rPr b="1" lang="es-ES" sz="3000" spc="-1" strike="noStrike">
                <a:solidFill>
                  <a:srgbClr val="04617b"/>
                </a:solidFill>
                <a:latin typeface="Century Schoolbook"/>
              </a:rPr>
              <a:t>: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3960720" y="6405480"/>
            <a:ext cx="4916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500" spc="-1" strike="noStrike">
                <a:solidFill>
                  <a:srgbClr val="0f6fc6"/>
                </a:solidFill>
                <a:latin typeface="Arial"/>
              </a:rPr>
              <a:t>1</a:t>
            </a:r>
            <a:r>
              <a:rPr b="0" i="1" lang="es-CL" sz="1200" spc="-1" strike="noStrike">
                <a:solidFill>
                  <a:srgbClr val="0f6fc6"/>
                </a:solidFill>
                <a:latin typeface="Arial"/>
              </a:rPr>
              <a:t>.Adapted from American Psychiatric Association. DSM-IV TR. 2000</a:t>
            </a:r>
            <a:r>
              <a:rPr b="0" i="1" lang="es-CL" sz="1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4"/>
          <p:cNvGrpSpPr/>
          <p:nvPr/>
        </p:nvGrpSpPr>
        <p:grpSpPr>
          <a:xfrm>
            <a:off x="371160" y="902160"/>
            <a:ext cx="8366760" cy="5134320"/>
            <a:chOff x="371160" y="902160"/>
            <a:chExt cx="8366760" cy="5134320"/>
          </a:xfrm>
        </p:grpSpPr>
        <p:sp>
          <p:nvSpPr>
            <p:cNvPr id="583" name="AutoShape 5"/>
            <p:cNvSpPr/>
            <p:nvPr/>
          </p:nvSpPr>
          <p:spPr>
            <a:xfrm rot="16053000">
              <a:off x="2340720" y="-435600"/>
              <a:ext cx="4577040" cy="802836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utoShape 6"/>
            <p:cNvSpPr/>
            <p:nvPr/>
          </p:nvSpPr>
          <p:spPr>
            <a:xfrm rot="16053000">
              <a:off x="2190960" y="-653760"/>
              <a:ext cx="4577040" cy="8028720"/>
            </a:xfrm>
            <a:prstGeom prst="flowChartExtract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7"/>
            <p:cNvSpPr/>
            <p:nvPr/>
          </p:nvSpPr>
          <p:spPr>
            <a:xfrm>
              <a:off x="1136160" y="3246120"/>
              <a:ext cx="8244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o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AD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8"/>
            <p:cNvSpPr/>
            <p:nvPr/>
          </p:nvSpPr>
          <p:spPr>
            <a:xfrm>
              <a:off x="1885680" y="3246120"/>
              <a:ext cx="150048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nduct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isrupt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9"/>
            <p:cNvSpPr/>
            <p:nvPr/>
          </p:nvSpPr>
          <p:spPr>
            <a:xfrm>
              <a:off x="3386160" y="2664720"/>
              <a:ext cx="1425240" cy="15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rastor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Oposicionis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safia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Retras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prendiza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0"/>
            <p:cNvSpPr/>
            <p:nvPr/>
          </p:nvSpPr>
          <p:spPr>
            <a:xfrm>
              <a:off x="5036760" y="2009880"/>
              <a:ext cx="172440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Baj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utoest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Habilidad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ocial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 ma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a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nduct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ambia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1"/>
            <p:cNvSpPr/>
            <p:nvPr/>
          </p:nvSpPr>
          <p:spPr>
            <a:xfrm>
              <a:off x="6986880" y="1646640"/>
              <a:ext cx="1350360" cy="30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serció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scol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buso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usta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rastorno 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Ánim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rastorno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nduc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lata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Motiv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. Aprendiza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mplej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Rectangle 13"/>
          <p:cNvSpPr/>
          <p:nvPr/>
        </p:nvSpPr>
        <p:spPr>
          <a:xfrm>
            <a:off x="214200" y="5405400"/>
            <a:ext cx="8366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4"/>
          <p:cNvSpPr/>
          <p:nvPr/>
        </p:nvSpPr>
        <p:spPr>
          <a:xfrm>
            <a:off x="3735360" y="5357880"/>
            <a:ext cx="8366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5"/>
          <p:cNvSpPr/>
          <p:nvPr/>
        </p:nvSpPr>
        <p:spPr>
          <a:xfrm>
            <a:off x="5450040" y="5357880"/>
            <a:ext cx="8366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6"/>
          <p:cNvSpPr/>
          <p:nvPr/>
        </p:nvSpPr>
        <p:spPr>
          <a:xfrm>
            <a:off x="7215120" y="5357880"/>
            <a:ext cx="1067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10-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COMORBILIDAD Y TDAH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Comorbilidad en TDAH es la regla más que la excepción: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87% de TDA tiene al menos una condición comórbid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67% de TDA, tiene al menos dos comorbilidade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77% de TDAH en adultos alcanza  criterios para condición comórbida. 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73240">
              <a:lnSpc>
                <a:spcPct val="12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TOD y T. conductual (hasta 50%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58920" indent="-273240">
              <a:lnSpc>
                <a:spcPct val="12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T. Aprendizaje (25 - 60%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58920" indent="-273240">
              <a:lnSpc>
                <a:spcPct val="12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T. Ansiosos (20-25%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58920" indent="-273240">
              <a:lnSpc>
                <a:spcPct val="12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T. del Ánimo (15-20%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58920" indent="-273240">
              <a:lnSpc>
                <a:spcPct val="12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T. Bipolar (hasta un 16% TDAH con maní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58920" indent="-273240">
              <a:lnSpc>
                <a:spcPct val="12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R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58920" indent="-273240">
              <a:lnSpc>
                <a:spcPct val="12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TICS y Sd Tourette´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58920" indent="-27324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3276720" y="5257800"/>
            <a:ext cx="53719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21420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f6fc6"/>
                </a:solidFill>
                <a:latin typeface="Arial"/>
              </a:rPr>
              <a:t>1. Bierderman, et al. Am J Psychiatry 1991:148:564-5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f6fc6"/>
                </a:solidFill>
                <a:latin typeface="Arial"/>
              </a:rPr>
              <a:t>2. Biederman, et al. Am J Psychiatry 1993:150(12):1798-17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dd9"/>
                </a:solidFill>
                <a:latin typeface="Century Schoolbook"/>
              </a:rPr>
              <a:t>COMORBILIDAD COMPLICA DIAGNÓSTICO Y TRATAMIENTO DE NIÑOS CON TDAH</a:t>
            </a:r>
            <a:endParaRPr b="0" lang="en-US" sz="3200" spc="-1" strike="noStrike">
              <a:solidFill>
                <a:srgbClr val="04617b"/>
              </a:solidFill>
              <a:latin typeface="Century Schoolbook"/>
            </a:endParaRPr>
          </a:p>
        </p:txBody>
      </p:sp>
      <p:graphicFrame>
        <p:nvGraphicFramePr>
          <p:cNvPr id="601" name="Object 2"/>
          <p:cNvGraphicFramePr/>
          <p:nvPr/>
        </p:nvGraphicFramePr>
        <p:xfrm>
          <a:off x="1447920" y="668160"/>
          <a:ext cx="6845040" cy="55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68160"/>
                    <a:ext cx="6845040" cy="55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Rectangle 4"/>
          <p:cNvSpPr/>
          <p:nvPr/>
        </p:nvSpPr>
        <p:spPr>
          <a:xfrm>
            <a:off x="228600" y="1752480"/>
            <a:ext cx="2019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DAH y Trastorn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siosos/depres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533520" y="4038480"/>
            <a:ext cx="2019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DAH y Trastorn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condu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1752480" y="5257800"/>
            <a:ext cx="201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DAH y 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6400800" y="4876920"/>
            <a:ext cx="2019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DAH  y Trastor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posicionista desafi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6324480" y="1905120"/>
            <a:ext cx="201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DAH p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9"/>
          <p:cNvSpPr/>
          <p:nvPr/>
        </p:nvSpPr>
        <p:spPr>
          <a:xfrm>
            <a:off x="2367000" y="2166840"/>
            <a:ext cx="1405080" cy="271440"/>
          </a:xfrm>
          <a:prstGeom prst="line">
            <a:avLst/>
          </a:prstGeom>
          <a:ln w="57240">
            <a:solidFill>
              <a:srgbClr val="e2d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0"/>
          <p:cNvSpPr/>
          <p:nvPr/>
        </p:nvSpPr>
        <p:spPr>
          <a:xfrm flipV="1">
            <a:off x="2478240" y="4081320"/>
            <a:ext cx="1141200" cy="338400"/>
          </a:xfrm>
          <a:prstGeom prst="line">
            <a:avLst/>
          </a:prstGeom>
          <a:ln w="57240">
            <a:solidFill>
              <a:srgbClr val="e2d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1"/>
          <p:cNvSpPr/>
          <p:nvPr/>
        </p:nvSpPr>
        <p:spPr>
          <a:xfrm flipV="1">
            <a:off x="3286080" y="4724280"/>
            <a:ext cx="790560" cy="609840"/>
          </a:xfrm>
          <a:prstGeom prst="line">
            <a:avLst/>
          </a:prstGeom>
          <a:ln w="57240">
            <a:solidFill>
              <a:srgbClr val="e2d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2"/>
          <p:cNvSpPr/>
          <p:nvPr/>
        </p:nvSpPr>
        <p:spPr>
          <a:xfrm flipH="1" flipV="1">
            <a:off x="6146280" y="4385880"/>
            <a:ext cx="1054440" cy="338040"/>
          </a:xfrm>
          <a:prstGeom prst="line">
            <a:avLst/>
          </a:prstGeom>
          <a:ln w="57240">
            <a:solidFill>
              <a:srgbClr val="e2d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3"/>
          <p:cNvSpPr/>
          <p:nvPr/>
        </p:nvSpPr>
        <p:spPr>
          <a:xfrm flipH="1">
            <a:off x="6287760" y="2395440"/>
            <a:ext cx="1141560" cy="27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4"/>
          <p:cNvSpPr/>
          <p:nvPr/>
        </p:nvSpPr>
        <p:spPr>
          <a:xfrm>
            <a:off x="266760" y="63928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Jensen P, et al. Arch Gen Psychiatry 1999;56:1073-1086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"/>
          <p:cNvSpPr/>
          <p:nvPr/>
        </p:nvSpPr>
        <p:spPr>
          <a:xfrm>
            <a:off x="7380360" y="314172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dd9"/>
                </a:solidFill>
                <a:latin typeface="Times New Roman"/>
              </a:rPr>
              <a:t>N= 5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video 1 TDHA.wmv" descr=""/>
          <p:cNvPicPr/>
          <p:nvPr/>
        </p:nvPicPr>
        <p:blipFill>
          <a:blip r:embed="rId1"/>
          <a:stretch/>
        </p:blipFill>
        <p:spPr>
          <a:xfrm>
            <a:off x="166680" y="142920"/>
            <a:ext cx="8740800" cy="655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5" name="Object 2"/>
          <p:cNvGraphicFramePr/>
          <p:nvPr/>
        </p:nvGraphicFramePr>
        <p:xfrm>
          <a:off x="266760" y="1285920"/>
          <a:ext cx="82152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285920"/>
                    <a:ext cx="8215200" cy="4687920"/>
                  </a:xfrm>
                  <a:prstGeom prst="rect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3440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PREVALENCIA DE COMORBILIDAD EN NIÑOS TDAH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266760" y="6172200"/>
            <a:ext cx="8610480" cy="4572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ccffff"/>
                </a:solidFill>
                <a:latin typeface="Arial"/>
              </a:rPr>
              <a:t>Wolraich et al., J Dev Behav Pediatr 1998;19:162-1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6948360" y="2681280"/>
            <a:ext cx="18716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=4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65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DIAGNÓSTICO DIFERENCIAL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i="1" lang="es-ES" sz="2800" spc="-1" strike="noStrike">
                <a:solidFill>
                  <a:srgbClr val="000000"/>
                </a:solidFill>
                <a:latin typeface="Century Schoolbook"/>
              </a:rPr>
              <a:t>No todo lo que parece TDAH es TDAH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escartar primero que los síntomas sean “normales para la edad”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blemas sociales o ambient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roblemas de aprendizaje y RM (test de WISC-R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entury Schoolbook"/>
              </a:rPr>
              <a:t>Coeficiente intelectual bajo, problemas de aprendizaje verbal y no verbal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22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691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DIAGNÓSTICO DIFERENCIAL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746748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iperactividad norm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. específicos del aprendiza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blemas de rendimiento escolar inespecíf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. de conducta y T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ados depresivos y episodios manía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entury Schoolbook"/>
              </a:rPr>
              <a:t>Trastorno bipo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ados ans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. adapta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ipersomnia diurna primar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éficit sensori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GD, aut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25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9dd9"/>
                </a:solidFill>
                <a:latin typeface="Century Schoolbook"/>
              </a:rPr>
              <a:t>EVALUACIÓN MÉDICA 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Anamnesi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Examen Clínico: mental, neurológico, cognitiv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Relaciones familiar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Informe escolar, test de Conners, SNAP IV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Exámenes Especiales. Neurocognitivo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entury Schoolbook"/>
              </a:rPr>
              <a:t>Psicométrico, psicopedagógico, pruebas específica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Estudio neurológico, genético, metabólico cuando correspond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28" name="Picture 2" descr="http://www.tinet.cat/~cmbc/crcbaixcamp2/medico5_.gif"/>
          <p:cNvPicPr/>
          <p:nvPr/>
        </p:nvPicPr>
        <p:blipFill>
          <a:blip r:embed="rId1"/>
          <a:stretch/>
        </p:blipFill>
        <p:spPr>
          <a:xfrm>
            <a:off x="4853160" y="1928880"/>
            <a:ext cx="3652560" cy="3286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9dd9"/>
                </a:solidFill>
                <a:latin typeface="Century Schoolbook"/>
              </a:rPr>
              <a:t>DIAGNÓSTICO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roceso Complej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Análisis Multisistémico y Evolutiv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-Individu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-Famili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-Soci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Formulación Diagnóst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tegoría Diagnóst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32" name="Picture 2" descr="http://1.bp.blogspot.com/_46RuRMDTess/SAY9w7bdUaI/AAAAAAAABEA/xS29SubiIjI/s400/Diagnostico.png"/>
          <p:cNvPicPr/>
          <p:nvPr/>
        </p:nvPicPr>
        <p:blipFill>
          <a:blip r:embed="rId1"/>
          <a:stretch/>
        </p:blipFill>
        <p:spPr>
          <a:xfrm>
            <a:off x="4379760" y="2162160"/>
            <a:ext cx="4002120" cy="2981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28520" y="48924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9dd9"/>
                </a:solidFill>
                <a:latin typeface="Century Schoolbook"/>
              </a:rPr>
              <a:t>TRATAMIENTO 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635" name="Content Placeholder 10" descr="rital"/>
          <p:cNvPicPr/>
          <p:nvPr/>
        </p:nvPicPr>
        <p:blipFill>
          <a:blip r:embed="rId1"/>
          <a:stretch/>
        </p:blipFill>
        <p:spPr>
          <a:xfrm>
            <a:off x="2857680" y="214200"/>
            <a:ext cx="6143400" cy="6143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¿POR QUÉ TRATAR EL TDA-HA/I?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21384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s una enfermedad crónica, de alta prevalenci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Afecta al niño en muchas áreas de su desarrollo: funciones neurocognitivas y estructuración socioemocion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xisten consecuencias individuales, familiares y sociales de no trat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Requiere de estrategias de intervención a largo plazo, multimodal y flexibl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38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OBJETIVOS DEL TRATAMIENTO TDA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Schoolbook"/>
              </a:rPr>
              <a:t>Reducción de los síntomas nucleares del TD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Schoolbook"/>
              </a:rPr>
              <a:t>Detección y tratamiento de la comorbilida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Schoolbook"/>
              </a:rPr>
              <a:t>Prevención o reducción del Trastorno de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Schoolbook"/>
              </a:rPr>
              <a:t>Promoción del aprendizaje académico y social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Schoolbook"/>
              </a:rPr>
              <a:t>Mejoría del ajuste emocional y de autoestim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Schoolbook"/>
              </a:rPr>
              <a:t>Alivio del sufrimiento familiar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41" name="Picture 2" descr="http://usuarios.lycos.es/jerapsi/psicologo%201%20(movil).gif"/>
          <p:cNvPicPr/>
          <p:nvPr/>
        </p:nvPicPr>
        <p:blipFill>
          <a:blip r:embed="rId1"/>
          <a:stretch/>
        </p:blipFill>
        <p:spPr>
          <a:xfrm>
            <a:off x="4643280" y="1881360"/>
            <a:ext cx="3333960" cy="3333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ESTRATEGIAS DE INTERVENCIÓN MULTIMODAL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Farmacológi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sicosoci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Focalizadas en el niñ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Focalizadas en la famili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Focalizadas en el colegi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45" name="Picture 4" descr="MCj04154860000[1]"/>
          <p:cNvPicPr/>
          <p:nvPr/>
        </p:nvPicPr>
        <p:blipFill>
          <a:blip r:embed="rId1"/>
          <a:stretch/>
        </p:blipFill>
        <p:spPr>
          <a:xfrm>
            <a:off x="357120" y="3929040"/>
            <a:ext cx="3168720" cy="26082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2" descr="http://quintoprim.files.wordpress.com/2008/06/padres.jpg"/>
          <p:cNvPicPr/>
          <p:nvPr/>
        </p:nvPicPr>
        <p:blipFill>
          <a:blip r:embed="rId2"/>
          <a:stretch/>
        </p:blipFill>
        <p:spPr>
          <a:xfrm>
            <a:off x="3714840" y="3857760"/>
            <a:ext cx="2455920" cy="28065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http://derecho.laguia2000.com/wp-content/uploads/2008/06/derecho-de-familia.jpg"/>
          <p:cNvPicPr/>
          <p:nvPr/>
        </p:nvPicPr>
        <p:blipFill>
          <a:blip r:embed="rId3"/>
          <a:stretch/>
        </p:blipFill>
        <p:spPr>
          <a:xfrm>
            <a:off x="6500880" y="3214800"/>
            <a:ext cx="2143080" cy="23619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9" descr="http://www.gentiuno.com/articulos/articulo1285/imagenes/dosydo3.gif"/>
          <p:cNvPicPr/>
          <p:nvPr/>
        </p:nvPicPr>
        <p:blipFill>
          <a:blip r:embed="rId4"/>
          <a:stretch/>
        </p:blipFill>
        <p:spPr>
          <a:xfrm>
            <a:off x="4572000" y="1285920"/>
            <a:ext cx="24271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INTERVENCIONES PSICOSOCIALES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5676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Focalizadas en el niñ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Psicoterapia individual para la comorbilida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Entrenamiento en autocontrol de impulsos y manejo de la rabi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Entrenamiento en destrezas socia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Apoyo en estructuración actividades y habilidades cognitiv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164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Focalizadas en la famil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99520" indent="-299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Psicoeduca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Entrenamiento en manejo conductual y ejercicio funciones normativas del rol par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Evaluación y tratamiento de psicopatología y disfunción familia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200" indent="-25632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Terapia familiar en resolución de problemas y destrezas de comunica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52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35712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9dd9"/>
                </a:solidFill>
                <a:latin typeface="Century Schoolbook"/>
              </a:rPr>
              <a:t>CONCEPTO DE ATENCIÓN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500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Función cognitiva superior primordial para las conductas propositivas en ser humano (Fxs ejecutiva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rientación de la actividad psíquica hacia algo que se experimen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ituaciones externas: sensaciones,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ituaciones internas. Pensamientos, sentimiento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Facultad de selección mental por la cual se puede localizar, examinar y responder a un objeto significativ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4617b"/>
                </a:solidFill>
                <a:latin typeface="Century Schoolbook"/>
              </a:rPr>
              <a:t> </a:t>
            </a: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PSICOEDUCACIÓN  A LOS PADRES 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Entregar información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Enseñar técnicas de manejo conductual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ormas de apoyo académico al niñ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omentar autoesti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56" name="Picture 2" descr="http://bligoo.com/media/users/2/103193/images/public/13310/10pataleta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2960" y="3214800"/>
            <a:ext cx="3214800" cy="29145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4" descr="http://4.bp.blogspot.com/_CikI3HAz9dA/R9sgPms4IqI/AAAAAAAAACs/dDsuboEw-Dk/s200/aprendizaje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809960" y="3286080"/>
            <a:ext cx="2886120" cy="285768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http://www.solucionespedagogicas.cl/images/dificitatencional.jpg"/>
          <p:cNvPicPr/>
          <p:nvPr/>
        </p:nvPicPr>
        <p:blipFill>
          <a:blip r:embed="rId5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4617b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9dd9"/>
                </a:solidFill>
                <a:latin typeface="Century Schoolbook"/>
              </a:rPr>
              <a:t>Entregar Informació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ducar acerca del problem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Desmitifica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Aclarar carácter no intencion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Favorecer relación positiva con el niñ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269960" y="1600200"/>
            <a:ext cx="408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9dd9"/>
                </a:solidFill>
                <a:latin typeface="Century Schoolbook"/>
              </a:rPr>
              <a:t>Enseñar técnicas de manejo conductu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Uso reforzamiento positivo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Plantear metas y premios a CORTO PLAZO (no responden a largo plazo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structuración del dí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Ignorar conductas negativas leves; llamar la atenció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ancionar SIN perder control; Sancionar eficientemente privándolos de privilegios o cosas que les guste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Rectangle 2"/>
          <p:cNvSpPr/>
          <p:nvPr/>
        </p:nvSpPr>
        <p:spPr>
          <a:xfrm>
            <a:off x="609480" y="7128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4617b"/>
                </a:solidFill>
                <a:latin typeface="Century Schoolbook"/>
              </a:rPr>
              <a:t> </a:t>
            </a: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PSICOEDUCACIÓN  A LOS PADRES 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2" descr="http://1.bp.blogspot.com/__bJSIidkEj8/SW1lkWvcunI/AAAAAAAAAHI/r-LR7uyBVKM/s400/toddler-reading.jpg"/>
          <p:cNvPicPr/>
          <p:nvPr/>
        </p:nvPicPr>
        <p:blipFill>
          <a:blip r:embed="rId1"/>
          <a:stretch/>
        </p:blipFill>
        <p:spPr>
          <a:xfrm>
            <a:off x="1143000" y="4857840"/>
            <a:ext cx="1835280" cy="15714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9dd9"/>
                </a:solidFill>
                <a:latin typeface="Century Schoolbook"/>
              </a:rPr>
              <a:t>Apoyo académico al niñ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Requieren de apoyo para cumplir tareas y estudi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vitar tiempos prolongados de estudi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ubdividir actividades que requieren mayor tiemp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Mantener contacto cercano con profesor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412880" y="1600200"/>
            <a:ext cx="4016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9dd9"/>
                </a:solidFill>
                <a:latin typeface="Century Schoolbook"/>
              </a:rPr>
              <a:t>Fomentar autoestim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Corregir lo importante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anción firme, pero calmadamente, sin insultos. Explicar motiv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No ser agresivos, mantener afectuosidad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Felicitarlos ante los logro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stimularlo a participar de actividades en las que es buen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Compartir tiempo de juego y no sólo el que implique responsabilida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8" name="Rectangle 2"/>
          <p:cNvSpPr/>
          <p:nvPr/>
        </p:nvSpPr>
        <p:spPr>
          <a:xfrm>
            <a:off x="609480" y="7128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4617b"/>
                </a:solidFill>
                <a:latin typeface="Century Schoolbook"/>
              </a:rPr>
              <a:t> </a:t>
            </a: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PSICOEDUCACIÓN  A LOS PADRES I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5" descr="JENNIFERCITA0"/>
          <p:cNvPicPr/>
          <p:nvPr/>
        </p:nvPicPr>
        <p:blipFill>
          <a:blip r:embed="rId1"/>
          <a:stretch/>
        </p:blipFill>
        <p:spPr>
          <a:xfrm>
            <a:off x="1571760" y="5072040"/>
            <a:ext cx="1495440" cy="150012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INTERVENCIONES PSICOSOCIALES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2840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dd9"/>
                </a:solidFill>
                <a:latin typeface="Century Schoolbook"/>
              </a:rPr>
              <a:t>Focalizadas en el colegio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Clase estructurada, bajo número de alumnos, sentarlo adelant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Calendario estructurado, reglas claras y reforzadas en clas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Atención a los éxitos más que los fracaso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Uso de incentivos y recompensas tang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1640" y="20718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Manejo de contingencias y reporte diario de la profesor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Uso adecuado de medidas disciplinari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Adecuación curricular para cada niñ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Capacitación de los profesores en técnicas de manej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Fomento de relaciones positivas con par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74" name="Picture 4" descr="MCBD19980_0000[1]"/>
          <p:cNvPicPr/>
          <p:nvPr/>
        </p:nvPicPr>
        <p:blipFill>
          <a:blip r:embed="rId1"/>
          <a:stretch/>
        </p:blipFill>
        <p:spPr>
          <a:xfrm>
            <a:off x="6242040" y="23760"/>
            <a:ext cx="25606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70920"/>
            <a:ext cx="74674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INTERVENCIÓN A NIVEL EDUCACIONAL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214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9dd9"/>
                </a:solidFill>
                <a:latin typeface="Century Schoolbook"/>
              </a:rPr>
              <a:t>Mejorar rendimiento académic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Informar al profesor de características del SDAH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Sentarse en 1era fila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Control personalizado de progreso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Acortar tiempos de trabajo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Metas a corto plazo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Apoyo psicopedagógico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270320" y="1243080"/>
            <a:ext cx="41594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9dd9"/>
                </a:solidFill>
                <a:latin typeface="Century Schoolbook"/>
              </a:rPr>
              <a:t>Disminuir problemas conductuale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Junto a profesor aplicar técnicas de manejo, que incluye refuerzos (+) y sanciones eficiente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9dd9"/>
                </a:solidFill>
                <a:latin typeface="Century Schoolbook"/>
              </a:rPr>
              <a:t>Mejorar la integración con pare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Asignarles pequeñas funciones o responsabilidade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Integrarlo a grupos con otros niño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Manejar eficientemente la agresividad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78" name="Picture 4" descr="ni%C3%B1os+en+sala+de+clases"/>
          <p:cNvPicPr/>
          <p:nvPr/>
        </p:nvPicPr>
        <p:blipFill>
          <a:blip r:embed="rId1"/>
          <a:stretch/>
        </p:blipFill>
        <p:spPr>
          <a:xfrm>
            <a:off x="857160" y="4786200"/>
            <a:ext cx="2276640" cy="17146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643880" y="0"/>
            <a:ext cx="1143000" cy="12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TRATAMIENTO FARMACOLÓGICO TDA-H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Psicoestimulant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1307b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Anfetami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1307b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Metilfenidat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1307b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Pemoli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No Psicoestimulant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1307b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Atomoxeti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1307b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Clonidi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1307b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Antidepresivos (ADTc y bupropión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1307b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Nuevos: Modafinil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82" name="Picture 2" descr="http://2.bp.blogspot.com/_baEk8LlmxaA/SdthEjJmisI/AAAAAAAAAOw/bQOZ5akw8jc/s400/Ninos_condenados_ser_perfectos.jpg"/>
          <p:cNvPicPr/>
          <p:nvPr/>
        </p:nvPicPr>
        <p:blipFill>
          <a:blip r:embed="rId1"/>
          <a:stretch/>
        </p:blipFill>
        <p:spPr>
          <a:xfrm>
            <a:off x="5429160" y="1643040"/>
            <a:ext cx="2800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PSICOESTIMULANTES: 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214200" y="1357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on los agentes que se utilizan con mayor frecuencia para mejorar la capacidad de atención y concentració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Mecanismo de ac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575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liberación de catecolaminas (NA y DOPA) desde los terminales presinápticos, de modo que hay más disponible para su utilización</a:t>
            </a:r>
            <a:r>
              <a:rPr b="0" lang="es-ES" sz="23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85" name="Imagen 3" descr=""/>
          <p:cNvPicPr/>
          <p:nvPr/>
        </p:nvPicPr>
        <p:blipFill>
          <a:blip r:embed="rId1"/>
          <a:stretch/>
        </p:blipFill>
        <p:spPr>
          <a:xfrm>
            <a:off x="4257720" y="1428840"/>
            <a:ext cx="4457520" cy="43574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" descr="http://www.solucionespedagogicas.cl/images/dificitatencional.jpg"/>
          <p:cNvPicPr/>
          <p:nvPr/>
        </p:nvPicPr>
        <p:blipFill>
          <a:blip r:embed="rId2"/>
          <a:stretch/>
        </p:blipFill>
        <p:spPr>
          <a:xfrm>
            <a:off x="7572240" y="0"/>
            <a:ext cx="121464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499680" y="1413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rimera línea del tratamiento del S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Se han demostrado efectivos hasta en un 70% de los paciente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centran sus efectos en tres área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Tríada sintomática: atención, impulsividad e hiperactivida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Relaciones interpersonales o estilos de interacción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Aprendizaje académico y rendimiento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ejoría conductual 77% </a:t>
            </a: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v/s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lacebo 39%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3 a 30 % no responden a psicoestimulantes o incluso empeora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42840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PSICOESTIMULANTES: 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689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OTRAS FORMULACIONES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81154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etilfenida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45880">
              <a:spcBef>
                <a:spcPts val="524"/>
              </a:spcBef>
              <a:buClr>
                <a:srgbClr val="0f6fc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SR – R: Duración 3-8 hrs (variable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45880">
              <a:spcBef>
                <a:spcPts val="524"/>
              </a:spcBef>
              <a:buClr>
                <a:srgbClr val="0f6fc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LA: liberación bimodal: 50% inmediata y 50% retardad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246240">
              <a:spcBef>
                <a:spcPts val="451"/>
              </a:spcBef>
              <a:buClr>
                <a:srgbClr val="0f6fc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Duración: 8 hr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45880">
              <a:spcBef>
                <a:spcPts val="524"/>
              </a:spcBef>
              <a:buClr>
                <a:srgbClr val="0f6fc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oncerta: Liberación a través de Pº osmótic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246240">
              <a:spcBef>
                <a:spcPts val="451"/>
              </a:spcBef>
              <a:buClr>
                <a:srgbClr val="0f6fc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Bolo inicial y luego ascendente (similar a 3v/día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246240">
              <a:spcBef>
                <a:spcPts val="451"/>
              </a:spcBef>
              <a:buClr>
                <a:srgbClr val="0f6fc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Duración: 12 hr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xisten varios laboratorios que lo fabric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246240">
              <a:spcBef>
                <a:spcPts val="451"/>
              </a:spcBef>
              <a:buClr>
                <a:srgbClr val="0f6fc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Ritalin (LA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246240">
              <a:spcBef>
                <a:spcPts val="451"/>
              </a:spcBef>
              <a:buClr>
                <a:srgbClr val="0f6fc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Aradix (SR 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246240">
              <a:spcBef>
                <a:spcPts val="451"/>
              </a:spcBef>
              <a:buClr>
                <a:srgbClr val="0f6fc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Nebapu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246240">
              <a:spcBef>
                <a:spcPts val="451"/>
              </a:spcBef>
              <a:buClr>
                <a:srgbClr val="0f6fc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Ritroc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FT: en Chile solo d-af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92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PSICOESTIMULANTES:  EFECTOS SECUNDARIOS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mayoría son leves, de corta duración y reversibles con ajuste de dosis o horario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Gran variabilidad individual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Aparecen 4-6 hrs después de la ingestión y desaparecen a las dos semana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efectos adversos más comunes so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Anorexia o trastornos del apetito (80%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Trastornos del sueño (3-85%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Baja de peso (10-15%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628880" y="1428840"/>
            <a:ext cx="38718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fectos adversos menos comunes incluye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Elevación FC y Pº Arterial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Cefalea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TICS: 15-30%. Temporal, excepto niños con tics crónicos y Sd de Tourette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Efecto rebote (1/3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entury Schoolbook"/>
              </a:rPr>
              <a:t>Psicosis paranoide (adultos)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Abuso: solo Anfetamin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Su ocurrencia es similar con MTF y d-ANF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Schoolbook"/>
              </a:rPr>
              <a:t>Son más comunes en niños pre-escolare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96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500960" y="0"/>
            <a:ext cx="128592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9dd9"/>
                </a:solidFill>
                <a:latin typeface="Century Schoolbook"/>
              </a:rPr>
              <a:t>CONCEPTO DE ATENCIÓN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600200"/>
            <a:ext cx="3757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dd9"/>
                </a:solidFill>
                <a:latin typeface="Century Schoolbook"/>
              </a:rPr>
              <a:t>TIPOS ATENC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tensiva. Voli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stenida.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lectiva. Focaliz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trolada. Dirección. Orientació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dd9"/>
                </a:solidFill>
                <a:latin typeface="Century Schoolbook"/>
              </a:rPr>
              <a:t>CONCENTRA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tención orientada en forma permanente hacia una situación determin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situación pasa a ser destacada en el campo de la con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9dd9"/>
                </a:solidFill>
                <a:latin typeface="Century Schoolbook"/>
              </a:rPr>
              <a:t>DIFERENCIAS EN RESPUESTA FARMACOLÓGICA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dd9"/>
                </a:solidFill>
                <a:latin typeface="Century Schoolbook"/>
              </a:rPr>
              <a:t>SDA</a:t>
            </a:r>
            <a:r>
              <a:rPr b="0" lang="es-ES" sz="2400" spc="-1" strike="noStrike">
                <a:solidFill>
                  <a:srgbClr val="009dd9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umento atención focal y baja H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o muestra toleranci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o hay fenómeno sensibiliz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dd9"/>
                </a:solidFill>
                <a:latin typeface="Century Schoolbook"/>
              </a:rPr>
              <a:t>Sanos</a:t>
            </a:r>
            <a:r>
              <a:rPr b="0" lang="es-ES" sz="2400" spc="-1" strike="noStrike">
                <a:solidFill>
                  <a:srgbClr val="009dd9"/>
                </a:solidFill>
                <a:latin typeface="Century Schoolbook"/>
              </a:rPr>
              <a:t> (abusador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iperestimulados y aumento activ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uestran tolerancia para obtener mismo efec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ay sensibilización, pudiendo causar psic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NO PSICOESTIMULANTES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571320" y="1285920"/>
            <a:ext cx="48574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Atomoxetina: 2da line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Inhibidor de la recaptura NA altamente selectiv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uprop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AD que inhibe recaptura de NA y DOP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Clonidin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AD tricícl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Modafinil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02" name="Picture 2" descr="http://2.bp.blogspot.com/_baEk8LlmxaA/SdthEjJmisI/AAAAAAAAAOw/bQOZ5akw8jc/s400/Ninos_condenados_ser_perfectos.jpg"/>
          <p:cNvPicPr/>
          <p:nvPr/>
        </p:nvPicPr>
        <p:blipFill>
          <a:blip r:embed="rId1"/>
          <a:stretch/>
        </p:blipFill>
        <p:spPr>
          <a:xfrm>
            <a:off x="5200560" y="214200"/>
            <a:ext cx="3443400" cy="4684680"/>
          </a:xfrm>
          <a:prstGeom prst="rect">
            <a:avLst/>
          </a:prstGeom>
          <a:ln w="0">
            <a:noFill/>
          </a:ln>
        </p:spPr>
      </p:pic>
      <p:sp>
        <p:nvSpPr>
          <p:cNvPr id="703" name="TextBox 4"/>
          <p:cNvSpPr/>
          <p:nvPr/>
        </p:nvSpPr>
        <p:spPr>
          <a:xfrm>
            <a:off x="928800" y="5514840"/>
            <a:ext cx="6500880" cy="1191240"/>
          </a:xfrm>
          <a:prstGeom prst="rect">
            <a:avLst/>
          </a:prstGeom>
          <a:noFill/>
          <a:ln w="284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á claramente demostrado su efecto superior a placebo en síntomas S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está clara diferencia o superioridad frente a MTF o anfetam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NO OLVIDAR…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Realizar rigurosa psicoeducación a los padr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Tratamiento del SDA es siempre multisistemico y multimod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Informar acerca de mitos y realidades del tratamiento farmacológic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Decisión debe ser consensuada con los padre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06" name="Picture 2" descr="http://pediatraencasa.files.wordpress.com/2008/03/vacunacion.jpg"/>
          <p:cNvPicPr/>
          <p:nvPr/>
        </p:nvPicPr>
        <p:blipFill>
          <a:blip r:embed="rId1"/>
          <a:stretch/>
        </p:blipFill>
        <p:spPr>
          <a:xfrm>
            <a:off x="4592520" y="1428840"/>
            <a:ext cx="35895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VIÑETA 5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Andrea, 12 años. Hija única y vive sola con su madre. Asiste a colegio muy exigente (con mucho esfuerzo de su madre) desde 1ero bás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Consulta debido a dificultades de concentración, debe leer muchas veces un párrafo para entenderlo. En la casa estudia mucho. Madre dice que también olvida frecuentemente instrucciones que ella le dej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Siempre ha sido as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Colegio no refiere dificultades, dicen que Andrea es querida por profesores y compañeros. No tiene dificultades de rendimiento. Mantiene promedios alrededor del 6.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09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VIÑETA 4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356760" y="1599840"/>
            <a:ext cx="81536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entury Schoolbook"/>
              </a:rPr>
              <a:t>Santiago, 15 años. Historia larga de derivaciones a neurólogos y  psiquiatra por supuesta hipequinesia y deficit atencional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entury Schoolbook"/>
              </a:rPr>
              <a:t>Madre recuerda que se indican varios fármacos los cuales ella deja de dar por efectos adverso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entury Schoolbook"/>
              </a:rPr>
              <a:t>Actualmente nuevamente derivado por el colegio. Tiene dos cambios previos, uno tras expulsión por problemas conductuales y otro por “repitencia”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entury Schoolbook"/>
              </a:rPr>
              <a:t>Es descrito como adolescente de díficil manejo, oposicionista, desafiante, agresivo frente a provocació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entury Schoolbook"/>
              </a:rPr>
              <a:t>Padres tiene dificultades en instauración de normas, limites. Hace la cimarra,  no respeta horas de lleagada en la noche y madre tiene fuerte sospecha de consumo de drogas. Nuevamente en riesgo de repetir…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12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3000240" y="71280"/>
            <a:ext cx="5438880" cy="585792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757240" y="48924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9dd9"/>
                </a:solidFill>
                <a:latin typeface="Century Schoolbook"/>
              </a:rPr>
              <a:t>PREGUNTAS?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13840"/>
            <a:ext cx="74674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9dd9"/>
                </a:solidFill>
                <a:latin typeface="Century Schoolbook"/>
              </a:rPr>
              <a:t>DISFUNCIONES DE LA ATENCIÓN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Baja concentr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istractibil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ríodos cortos de aten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ilos impulsivos de respues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rsever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isfunción ejecutiv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Falta de planificación y organización de la conduct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Exclusión de estímulos irrelevant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tención sostenida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hibición de acción impuls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Selección y monitoreo de respuestas apropiada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4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9dd9"/>
                </a:solidFill>
                <a:latin typeface="Century Schoolbook"/>
              </a:rPr>
              <a:t>ATENCIÓN Y DESARROLLO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entury Schoolbook"/>
              </a:rPr>
              <a:t>Menores de 5 años :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Atención ligada al estímulo. La atención es capturada por los aspectos sobresalientes de un estímulo novedos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entury Schoolbook"/>
              </a:rPr>
              <a:t>Entre 5 y 7 años :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trolada por procesos lógicos intern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entury Schoolbook"/>
              </a:rPr>
              <a:t>Mayores de 7 años: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berían saber cómo y dónde atender. Control y dirección de la conducta de aten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9dd9"/>
                </a:solidFill>
                <a:latin typeface="Century Schoolbook"/>
              </a:rPr>
              <a:t>TRASTORNO POR DÉFICIT DE ATENCIÓN 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l </a:t>
            </a:r>
            <a:r>
              <a:rPr b="0" lang="es-ES_tradnl" sz="2400" spc="-1" strike="noStrike">
                <a:solidFill>
                  <a:srgbClr val="009dd9"/>
                </a:solidFill>
                <a:latin typeface="Century Schoolbook"/>
              </a:rPr>
              <a:t>Trastorno por Déficit Atencional (TDAH)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s de alta prevalencia en la población de niños, adolescentes y adultos, es heterogéneo en su etiología, tiene una alta comorbilidad y puede afectar el desarrollo de las funciones neurocognitivas y la estructuración psicoemocional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aracterizado por la presencia de síntomas de </a:t>
            </a:r>
            <a:r>
              <a:rPr b="0" lang="es-ES" sz="2400" spc="-1" strike="noStrike">
                <a:solidFill>
                  <a:srgbClr val="009dd9"/>
                </a:solidFill>
                <a:latin typeface="Century Schoolbook"/>
              </a:rPr>
              <a:t>desaten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, generalmente asociados a </a:t>
            </a:r>
            <a:r>
              <a:rPr b="0" lang="es-ES" sz="2400" spc="-1" strike="noStrike">
                <a:solidFill>
                  <a:srgbClr val="009dd9"/>
                </a:solidFill>
                <a:latin typeface="Century Schoolbook"/>
              </a:rPr>
              <a:t>hiperactividad e impulsividad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, tanto en su conducta como en la toma de decisiones, lo que genera dificultades relacionales en el hogar y coleg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0" name="Picture 2" descr="http://www.solucionespedagogicas.cl/images/dificitatencional.jpg"/>
          <p:cNvPicPr/>
          <p:nvPr/>
        </p:nvPicPr>
        <p:blipFill>
          <a:blip r:embed="rId1"/>
          <a:stretch/>
        </p:blipFill>
        <p:spPr>
          <a:xfrm>
            <a:off x="7286760" y="0"/>
            <a:ext cx="15001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20:53:43Z</dcterms:created>
  <dc:creator>Marcela</dc:creator>
  <dc:description/>
  <dc:language>en-US</dc:language>
  <cp:lastModifiedBy>Marcela</cp:lastModifiedBy>
  <dcterms:modified xsi:type="dcterms:W3CDTF">2010-08-25T16:33:51Z</dcterms:modified>
  <cp:revision>57</cp:revision>
  <dc:subject/>
  <dc:title>SINDROME DEFICIT DE ATENCION EN NIÑOS Y ADOLESCENTES</dc:title>
</cp:coreProperties>
</file>