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F0A7-727D-4AF9-9D64-7CB5F38C14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6E59-CE0E-430C-B2E1-7147371C78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83F-312D-46DF-95B9-053DFD7545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Daño, asociado a elevada ansiedad, labilidad emocional, desinhibición social y agresiv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corteza orbitofr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5BB-24EE-4D57-A757-E921DFA3F5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nput sensorial ingresa a las vías superiores a través del TÁLAMO ANTERIOR anterior hacia el NÚCLEO LATERAL DE LA AMÍGDALA y de ahí al NÚCLEO CENTRAL DE LA AMÍGDALA. Este último, es el nodo desde donde se disemina la información y se coordina la respuesta autonómica y conductual al estímulo que originó la respuesta ansio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eferencias del núcleo central de la amígala se dirigen a múltiples sit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BRAQUIAL…………………………………………..produce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recuencia respir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LATERAL DEL HIPÓTALAMO…………………………..activa el SN SIMPÁTICO y causa el arousal aut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CUS CERULEUS………………………………………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NA y contribuye a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, FC y resp cond al m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VENTRICULAR DEL HIPOTÁLAMO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adrenocortico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GIÓN GRIS PERIACUEDUCTAL…………………………………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resp cond accesorias (freezing postural y cond defensiva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E2B-0B57-46A3-824C-4D913A64CA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DNF (factor neurotrifico derivado del crebro) participa en la apoptosis y en la diferenciación neuronal. Además modula las interconecciones neuronales. Estimula la expresión de rp NMDA, el que a su vez determina cb en la fuerzas de las conexiones neuronales, regulando la plasticidad sinaptica a través de la potenciación a largo plazo (LPT) y la depresió a largo palzo (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378F-19CD-4FB9-BA19-AB6C949F20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6501-92C4-472F-9790-95F083ADF9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D247-FD64-492C-9E71-E25E111FF4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bajo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Interaccione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Fam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ventos mund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Catástrofe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sociado a un síntoma s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AA2-8CDB-4A44-8BA5-171E4E40FC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iños: 2,9%-4,6% (Anderson 19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3,6%-7,3%(Bowen 1990, Kash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Mujeres: hombres 6:1 (Nutt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146-57CD-4D57-B7BD-B179D409AE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enzar con dosis muy bajas y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↑ gradualmen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Sertralina 1-2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Fluoxetina 0,3-1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aroxetina 0,2-0,5 mgr./Kgr/d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nzodiacepin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Mínimos efectos cola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No se ha estudiado tolerancia ni depend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Reacciones paradójicas: desinhibición condu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Dosis iniciale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rincipalmente clonazepam 0,01-0,03 mgr./Kgr./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9AA2-AB0B-47D9-B92D-C0AD3FD328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A84-2141-456A-B41B-8F00A8006C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2A24-CA8D-4235-B861-F3148DD890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ctantes: miedo a ruidos fuertes, imprevist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tr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Preescolares: miedo a criaturas imaginar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scuridad y ansiedad de separación norm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scolares: miedo a daño físico y ev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preocupación con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colar, competencia social y problemas de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B561-047C-4698-8715-B6B125077A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7A8-A372-497F-B091-6B79F2E6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EEE-128E-471A-A780-A4F8CF2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6B2-4435-4A5C-AFBD-F4CC0BA8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FA5-AC26-46B5-AB5D-35CE3184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A4F5-DA2A-4B6A-856D-653C1B23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35C-F62B-44C9-A20D-75D7290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83E-283B-4418-B9FA-CE7BC0D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3582-EAED-4DDF-B1C1-5D10FB7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F63-722F-40C4-95DE-1FF4080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C94-1CCD-436C-9136-C1EEFBCC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0221-BACF-4679-A3D2-2A36EDF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797-F95B-4F6B-8A6E-B2B114E2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3CF-E128-4483-AF53-8B11778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4AA6-5635-4232-9C72-0C94E02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5E9-AFB5-44E4-9612-F9C4029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A037-948E-4937-88B3-E347A163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837-6BB4-498F-96CF-214C71C0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F94-DDCB-4F44-AD8C-895F6ED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110-5B79-45F3-B82B-851E39AD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6B6-8129-4D8B-90F2-6C7F644E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7DD-AAB8-4639-B493-04D20D3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6CD-8197-4BFC-975C-2BC03451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9F5-6605-4E2A-ACEF-28A5718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542-DF83-472B-967E-72ABC61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8B0C-D1D5-4C4F-819A-F1B3E803017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ABE-BFB2-4D89-9324-759BAAF78C7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300" spc="-1" strike="noStrike">
                <a:solidFill>
                  <a:srgbClr val="006633"/>
                </a:solidFill>
                <a:latin typeface="Garamond"/>
              </a:rPr>
              <a:t>Trastornos Ansioso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1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a. María José  V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siquiatría Infanto-juve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Garamond"/>
              </a:rPr>
              <a:t>Factores de Vulnerabilidad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hibido: caracterizado por espontánea evitación a los objetos, personas y situaciones desconocidas                               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activ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(Kagan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traimiento conductual frente a situaciones nue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rededor del 15 % de la población tiene éste 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828720" y="3573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p240603-2"/>
          <p:cNvPicPr/>
          <p:nvPr/>
        </p:nvPicPr>
        <p:blipFill>
          <a:blip r:embed="rId1"/>
          <a:stretch/>
        </p:blipFill>
        <p:spPr>
          <a:xfrm>
            <a:off x="5186520" y="1484280"/>
            <a:ext cx="3060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195640" y="2637000"/>
            <a:ext cx="4321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11280" y="213372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6877080" y="206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708360" y="2708280"/>
            <a:ext cx="144000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8000" y="4406760"/>
            <a:ext cx="29001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alerta al peli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emocional de los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amiento al mi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403280" y="3357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29280" y="4127400"/>
            <a:ext cx="290052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a el impacto de la vivencia al te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 modulador de las emociones neg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 en la extinción del condicionamiento a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7596360" y="328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2195640" y="3500280"/>
            <a:ext cx="3744720" cy="1873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539640" y="278136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651640" y="530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76720" y="4437000"/>
            <a:ext cx="143964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03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32000" y="765000"/>
            <a:ext cx="5759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activación frente al temor que la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de temperamento inhibido presentan activación bilateral de la amígdala frente a rostr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balance A  -  COF: En fobias específicas, fob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derecha: Parte de un sistema, dinámico  de detección de estímulos emocionales    Desordenes Ansi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izquierda: Evaluar estímulos continuos y su valoración emocional    Desordenes de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94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64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6633"/>
                </a:solidFill>
                <a:latin typeface="Garamond"/>
              </a:rPr>
              <a:t>Amígdala y vías de neurotransmisión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3564000" y="3429000"/>
            <a:ext cx="2232000" cy="129528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Times New Roman"/>
              </a:rPr>
              <a:t>Amí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835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44364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45007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 rot="3040200">
            <a:off x="36540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19480" y="1484280"/>
            <a:ext cx="12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2092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2205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42920" y="272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3357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340000" y="342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308720" y="249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7524720" y="31417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596360" y="396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0920" y="579924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rencias (in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hibid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0" y="58053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ferencias (out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535120" y="33051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610360" y="3232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140360" y="623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* es un output indirecto a través del locus c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6633"/>
                </a:solidFill>
                <a:latin typeface="Garamond"/>
              </a:rPr>
              <a:t>Amígdala y sus conexiones aferentes y eferente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3" descr="Neuroanatomía del Pánico"/>
          <p:cNvPicPr/>
          <p:nvPr/>
        </p:nvPicPr>
        <p:blipFill>
          <a:blip r:embed="rId1"/>
          <a:stretch/>
        </p:blipFill>
        <p:spPr>
          <a:xfrm>
            <a:off x="684360" y="1603440"/>
            <a:ext cx="7200720" cy="420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059280" y="595008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orman J et al. Am J Psychiatry 2000; 157: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istema neurobiológico de respuesta al estré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Eje HHA y CR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stress estimula tanto al eje HHA como al SNS, además estos 2 sistemas se estimulan el uno al otro, con un continuo hasta la adulte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ronico de Cortisol produce efectos deletere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yen la expresión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D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a la inducción de LTP y facilita la inducción de LTD (reduce conexiones sinápticas)          ↓ neuroplasti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trofia del hipocampo (Robert sapol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nto con el aumento de catecolaminas: ↑ perdida neuronal, retraso mielinización, altera poda neuronal, ↓ neurogen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4854600" y="4429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4000" y="333360"/>
            <a:ext cx="237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dis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300720" y="33336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03640" y="1484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43280" y="558972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to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resivo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s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81160" y="1484280"/>
            <a:ext cx="8467560" cy="1458000"/>
            <a:chOff x="281160" y="1484280"/>
            <a:chExt cx="8467560" cy="1458000"/>
          </a:xfrm>
        </p:grpSpPr>
        <p:sp>
          <p:nvSpPr>
            <p:cNvPr id="163" name="Text Box 7"/>
            <p:cNvSpPr/>
            <p:nvPr/>
          </p:nvSpPr>
          <p:spPr>
            <a:xfrm>
              <a:off x="6135840" y="1628640"/>
              <a:ext cx="261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toxicidad y alteración de 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genesis en 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hipo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281160" y="1484280"/>
              <a:ext cx="212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C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je H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ctividad 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9"/>
          <p:cNvSpPr/>
          <p:nvPr/>
        </p:nvSpPr>
        <p:spPr>
          <a:xfrm>
            <a:off x="3995640" y="242100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76360" y="299736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ner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est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995640" y="371628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1480" y="4287960"/>
            <a:ext cx="31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adapt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rendimiento psicoso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620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5364000" y="98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2771640" y="98100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23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184320" y="2276640"/>
            <a:ext cx="8708760" cy="2604240"/>
            <a:chOff x="184320" y="2276640"/>
            <a:chExt cx="8708760" cy="2604240"/>
          </a:xfrm>
        </p:grpSpPr>
        <p:sp>
          <p:nvSpPr>
            <p:cNvPr id="174" name="Rectangle 18"/>
            <p:cNvSpPr/>
            <p:nvPr/>
          </p:nvSpPr>
          <p:spPr>
            <a:xfrm>
              <a:off x="6156360" y="3789360"/>
              <a:ext cx="2736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lter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184320" y="3567240"/>
              <a:ext cx="231732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5 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Citok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p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lteración eje H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2050920" y="2276640"/>
              <a:ext cx="136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5508720" y="2276640"/>
              <a:ext cx="93636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1908000" y="4941720"/>
            <a:ext cx="4464000" cy="503280"/>
            <a:chOff x="1908000" y="4941720"/>
            <a:chExt cx="4464000" cy="503280"/>
          </a:xfrm>
        </p:grpSpPr>
        <p:sp>
          <p:nvSpPr>
            <p:cNvPr id="179" name="AutoShape 23"/>
            <p:cNvSpPr/>
            <p:nvPr/>
          </p:nvSpPr>
          <p:spPr>
            <a:xfrm>
              <a:off x="3995640" y="501336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1908000" y="5013360"/>
              <a:ext cx="935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H="1">
              <a:off x="5866920" y="4941720"/>
              <a:ext cx="50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aramond"/>
              </a:rPr>
              <a:t>Trastornos Ansiosos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Disminución de sitios  de recaptación de dopamin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relación a contro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Elevada concentración de CRF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on una hiperactividad del eje HPA y sistema nervioso autóno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Hipercotisolismo induce fenómeno de Kindling en la amígdal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perpetuando conducta hacia estímulos de amena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xiste una estrecha </a:t>
            </a: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conexión entre CRF y circuito noradrenérg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en el Locus Ceruleus incrementa reacción al st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disminuye  liberación de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otonina disminuye liberación de NE, inhibiendo la amígdala, LC y la Stria Terminalis, disminuyendo la ansi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ipótesis: En los cuadros ansiosos está disminuida la acción inhibitoria de la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POR ANSIEDAD GENERALIZAD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Picture 4" descr="foto ansiedad1"/>
          <p:cNvPicPr/>
          <p:nvPr/>
        </p:nvPicPr>
        <p:blipFill>
          <a:blip r:embed="rId1"/>
          <a:stretch/>
        </p:blipFill>
        <p:spPr>
          <a:xfrm>
            <a:off x="4822920" y="325764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Preocupación excesiv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que aparece en múltiples contextos en ausencia de una alteración orgánica que explique los síntomas, con una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incapacidad de controlar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l grado de preocupación, alterando el desarrollo normal del niño o adolescente y generando deterioro social o acadé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niños se preocupan por 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rupo heterogéneo de patologí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de alta frecuencia: prevalencia global 5 al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s síntomas básicos son los temores y preocup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eocupaciones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ecuada conducta pa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ventos futuros, pun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siones a temas de adul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ventos mundiales y catástrofes natur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sociado  a un síntoma somá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08400" y="63752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AG: sintomat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trolar las preocupaciones, para relajarse, para disfru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feccionistas, búsqueda de aprobación, sobreadaptados, autocríticos, y sensibles a las críticas exter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ocupaciones más típicas son el rendimiento y competencia escolar y deportiva, seguridad propia y de la familia, catástrofes naturales y eventos fut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centrarse y procesar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iva estructuración de la v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975040" y="625644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, Nutter 2006, Wagne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Ansiedad y preocupación excesiv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expectación aprensiva) sobre una amplia gama de acontecimientos o actividades ( como el rendimiento escolar) , que  se prolongan por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ás de 6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 individuo le resulta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difícil control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ste estado de constante preocup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 y preocupación se asocian a tres de los sgtes. síntomas . EN NIÑOS SE REQUIERE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quietud e impa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-fatigabilidad fac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-dificultad para concentrarse o tener la mente en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-irritabi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-tensión muscu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-alteraciones del sueñ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entro de la ansiedad y de la preocupación no se limita a a síntomas de un trastorno del eje 1: ej presentar una crisis de Pánico ( Trastorno de Pánico), pasarlo mal en publico( Fobia Social), contraer una enfermedad (TOC), estar lejos de los seres queridos ( AS),engordar (AN), no aparecen en transcurso de un T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, la preocupación o los síntomas físicos provocan malestar clínicamente significativo a deterioro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se deben a efectos de sustancias o enfermedad medic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ños: 2,7 a 4,6 % (Anderson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olescentes: 3,6 a 7,3%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%(Bowen 1990, Kashani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ujeres: hombres 6:1 (Nutter 200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cientes con TAG tienden a ser de mayor edad y pertenecen a grupos de mayor nivel socioeconó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familiares: alto grado de expectativas de los padres, padres hipercríticos, insistencia en el rendimiento o permisividad exces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peramento inhib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neurobiológ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tologías médicas: hipertiroidismo, consumo de drogas y abstinencia (examen toxicológico), D.M., LUPUS, entre o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. Psiquiátricos como TDAH, TGD, cuadros sicóticos o del án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generalizado en todos los contex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S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más fás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80% remisión a 3-4 años , 35% desarrollaron un nuevo trastorno psiquiátrico (Last 199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Evolución a largo pla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ntras más severos son los síntomas y mayor es la discapacidad en el funcionamiento, más probable que persista (Dadds 1997 &amp; 19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iesgo de desarrollar nuevos trastornos de ansiedad, depresión y abuso de sustancias (Pine 199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 riesgo de suicidio y hospitalización psiquiátrica en la adultez (Achenbach 1995, Ferdinand 1995, Reinblatt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549400" y="63295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Reinblat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 ser integral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mbinar distintos enfo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o con los pad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aluar tipo de vínc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Apoyo para fomentar situaciones novedos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itar inhibición o retra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Terap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sicotera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99"/>
                </a:solidFill>
                <a:latin typeface="Arial"/>
              </a:rPr>
              <a:t>Cognitivo-Conductual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↓ reforzadores de conductas ansiosas con relajación, imaginería, declaraciones autoafirmativas y de autoinstrucción, así como la identificación de las cogniciones erróneas y sustitución por procesos adapt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imitaciones funcionales impor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án asociados con un impacto negativo en autoestima, aislamiento social, habilidades sociales inadecuadas y problemas académ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 de riesgo para psicopatología en la adult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rso longitudinal  de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TRATAMIENTO FARMACOLÓGICO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unca la única forma de trat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De 1º lí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↓perfil efectos colaterales, seguridad en cuanto a sobredosis, no requieren niveles 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enzodiace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DE ANSIEDAD DE SEPARACIÓN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 separación es el único trastorno ansioso de niños que forma parte del DSM IV bajo el capítulo “Trastornos habitualmente diagnosticados en la infancia y adolescencia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aracterística esencial es que el niño o adolescente experimenta un tremend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emor y ansiedad excesiva desencadenada por la separación, principalmente de la madre (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 otra persona significativa) o de su hog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be ser inapropiada para el nivel de desarrollo del niño y debe durar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menos 4 sema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particularmente importante distinguir la ansiedad de separación normal y anormal, debido a que tal ansiedad es un fenómeno normal desde los 7 meses a los 6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característico de l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dad media escolar, entre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7 y 9 años de edad. Se reporta una prevalencia de AS entr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2,4 a 5,4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%. Con mayor frecuencia e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niñas que ni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pueden mostrar su malestar en form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icipada a la separación, durante ella o la tratan de evi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con AS se resisten a la separación, aferrándose a sus padres, llorando, rogando que no se los deje o quejándose de molestias so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miedo subyacente es que algo malo le suceda a él o a sus figuras significativ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lo que resultaría en una permanente sepa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hazo escolar y las excesivas quejas somátic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on las principales razones por las cuales los  padres deciden consul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ínto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chazo o falta de asistencia esco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edo a estar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ativa a dormir en su pi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sadillas con contenidos de temáticas de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mor y preocupación que los seres queridos sufran daño durante la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jas somáticas sin causa orgánica demostr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ductas de asegu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nsiedad excesiva e inapropiad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uando se produce un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eparación de la person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 la que se encuentra vinculado. Su manifestación debe presentar al menos tres de los síntomas sgt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star excesivo y recurrent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nte la anticipación de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reocupación persistente por la posible pérd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que puedan sufrir algún daño las personas a las que está vinc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ocupación excesiva porqu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lgún acont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a dar lugar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Resistencia a ir a la escuela o a otro sit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miedo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Miedo a estar so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a sin las figuras vinculadas o adultos significativos en otros lu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Negativa a ir a dormir solo si no está acompañado por la figur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esad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 tema de s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Quejas físicas cuando ocurre o se anticipa la sepa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uración es de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al menos 4 se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inicio es antes de los 18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lteración genera interferencia y malestar signifi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ocurre en el transcurso de otros tr. Siquiá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ecificar inicio temprano (antes de los 6 añ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socia a otros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 de angustia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50%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de los casos y 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depresión en el 30% de los casos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La AS es el diagnóstico de la línea ansiosa más común en muestras de niños prepuberales con de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d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siedad generalizada (33%) y fobias específicas (12%)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parecen también dentro de las comorbilidades más frecuent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urs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existe acuerdo respecto del curso a largo plazo de la 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embargo se reconoc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urso agudo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en tiempos de st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y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uperación prácticamente complet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obre todo en niños cuya edad de inicio es más tempr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rónico caracterizado por periódicas 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recurrencia y síntomas más pers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 éstos encontram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 Ansiedad Generaliz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de ansiedad por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específica o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utismo selec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. Pá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edad de inicio posterior, comorbilidad con otros trastornos psiquiátricos, psicopatología en la familia y pérdida de un año o más de escolaridad son variables asociadas a altas tasas de cronicidad del trastorno 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(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presentan un alto riesgo de presentar en la adultez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s depresivos y fobia so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S en la infanci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s un factor de riesgo para el desarrollo de trastorno de pánico o agorafobia en la adolescencia o adultez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attaglia, 1995; Biederman, 1993; Gittelman and Klein, 1984; Moreau and Follet, 1993).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chazo esc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 Ansiedad de Separació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tamiento multimod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dividu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ma autonomía-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organización de estructuras cogn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jación , imagi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miliar: promover en los padres entender tanto las necesidades de protección como la independencia del ni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gnitivo-conductual de grupo. Combinación de desensibilización sistemática, refuerzo positivo, mode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rmacoterapia: en conjunto con terapia cognitiva-conductual. SSRIs 1º ele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600" spc="-1" strike="noStrike">
                <a:solidFill>
                  <a:srgbClr val="006633"/>
                </a:solidFill>
                <a:latin typeface="Garamond"/>
              </a:rPr>
              <a:t>Fobia Específica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CAGL6VC5"/>
          <p:cNvPicPr/>
          <p:nvPr/>
        </p:nvPicPr>
        <p:blipFill>
          <a:blip r:embed="rId1"/>
          <a:stretch/>
        </p:blipFill>
        <p:spPr>
          <a:xfrm>
            <a:off x="5364000" y="4005360"/>
            <a:ext cx="3353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6633"/>
                </a:solidFill>
                <a:latin typeface="Garamond"/>
              </a:rPr>
              <a:t>Definició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do marcado y persistente a objetos o situaciones circunscritas (estímulos fóbicos) tales como animales, sangre, alturas, espacios cerrados y volar, de manera que el niño/adolescent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evita el estímulo cuando es posible o lo soporta con ansiedad intens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iedo no es causado por vergüenza a hablar o hacer cosas en público ni a tener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xposición al estímulo fóbico provoca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significativa, pudiendo llegar a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miedo debe tener una duració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ínima de 6 mes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 interferir con la rutina normal de la persona, sus relaciones sociales, su funcionamiento académico, o debe haber un malestar marcado sobre tener el mie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niños, a diferencia de los adolescentes y adultos,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pueden no darse cuenta que el miedo es excesivo o irrac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Evit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l ser expuestos o en anticipación al estí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ritar, llorar, buscar a sus figuras de ap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iensan que el estímulo puede dañarlos a ellos o a ot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anticipat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Miedo marcado y persistent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que es excesivo o irracional, desencadenado por la presencia o anticipación de un objeto o situación específ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l estímulo fóbico casi invariablemente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voca ansiedad que puede tomar la forma de una crisis de pánico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relacionada a la situación o a la anticipación. Nota: En niños, la ansiedad puede ser expresada a través del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reconoce que este miedo es excesivo o irracional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tuación fóbica es evitada o soportada con intensa ansiedad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fóbica interfiere significativamente con la rutina normal de la persona, su funcionamiento ocupacional (académico), sus actividades o relaciones sociales, o existe un malestar intenso sobre sufrir la fob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ansiedad, las crisis de pánico o la evitación fóbica asociada al objeto o situación específica no es explicada mejor por otra enfermedad mental, como TOC, TEPT, TAG, TAS, fobia social, trastorno de pánico con agorafobia, o agorafobia sin trastorno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: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2,4-3,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ás frecuente en niñas que ni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lación inversamente proporcional a nivel socio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cree que la aparición de fobia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es paralela a los miedos normales de la infanci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en relación a edad de aparición y foco del mie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mayoría empieza alrededor de lo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7 años o entre los 10 y los 13 años de 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fobias específicas deben ser diferenciadas de los miedos normales de la inf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enden a mejorar en el tiempo espontáne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afbf39"/>
                </a:solidFill>
                <a:latin typeface="Arial"/>
              </a:rPr>
              <a:t>ANSIEDAD</a:t>
            </a:r>
            <a:r>
              <a:rPr b="0" lang="es-ES" sz="30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ctitud de espera de un acontecimiento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niños con conocimiento cognitivo sufici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afbf39"/>
                </a:solidFill>
                <a:latin typeface="Arial"/>
              </a:rPr>
              <a:t>ANGUSTIA;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emoción básica intensa,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captación de un peligro inminente que amenaza aspectos esenciales de la existenci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Tip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0040" y="1828800"/>
            <a:ext cx="1495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28600" y="289548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905480" y="1828800"/>
            <a:ext cx="1849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5120" y="289548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one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turalez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nóme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mosfé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ici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885120" y="1828800"/>
            <a:ext cx="152784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Iny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12040" y="2895480"/>
            <a:ext cx="19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 sangr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idas, recib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yecciones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s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id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sovagal 7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410440" y="1828800"/>
            <a:ext cx="19501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itu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466400" y="1828800"/>
            <a:ext cx="14122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Otros 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638680" y="297180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público, túneles, puentes, ascensores, aviones, autos o espacios 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adultez temp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543800" y="297180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ragantarse, vomitar,  adquirir una enfermedad, tener cáncer o sida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os niños a los ruidos fuertes o las personas disfra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as fobias y trastornos de ans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omorbilidad es frecuente 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sten pocos estud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posición gradual (desensibilización) junto a manejo y contención y estrategias de auto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erapia conductual es la primera 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sicofármacos no han demostrado 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989680" y="2638440"/>
            <a:ext cx="223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944720"/>
            <a:ext cx="76230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300" spc="-1" strike="noStrike">
                <a:solidFill>
                  <a:srgbClr val="008000"/>
                </a:solidFill>
                <a:latin typeface="Garamond"/>
              </a:rPr>
              <a:t>Fobia Social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7" name="Picture 6" descr="CAD6Q80D"/>
          <p:cNvPicPr/>
          <p:nvPr/>
        </p:nvPicPr>
        <p:blipFill>
          <a:blip r:embed="rId1"/>
          <a:stretch/>
        </p:blipFill>
        <p:spPr>
          <a:xfrm>
            <a:off x="2268360" y="3181320"/>
            <a:ext cx="4248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fobia social es un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miedo persistente a una o más situaciones sociales en que una persona está expuesta a personas desconocidas o al escrutinio de parte de otro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1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de niños y adolescentes, (probablemente subdiagnosticada en niño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vida d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3 a 1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nsiedad específica en contexto de grupos, inicio insidios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provoca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ansiedad, temor a vergüenza y ataques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tuaciones desencadenantes: hablar frente a otros, reuniones sociales, tratar con figuras de autoridad, actuar en público y hablar con extr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Evitación de estas situaciones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, malestar  extremo al enfrentarlas,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no considerar este miedo excesivo o irr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emor a que otro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los critiquen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le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encuentren defect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(considerarlos raros, poco atractivos, o estúpidos) o a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hacer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decir algo tonto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vergonz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Síntomas somátic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: palpitaciones, sudoración, ruborización, temblor, mareos y malestar gastrointest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Preocupación excesiva sobre la vergüenza, evaluación negativa y rech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b812f"/>
                </a:solidFill>
                <a:latin typeface="Garamond"/>
              </a:rPr>
              <a:t>Formas clínic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125892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Ge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36400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iscret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580000" y="49417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edad de rendimiento y específica a una o dos sit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900000" y="4869000"/>
            <a:ext cx="32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 variedad de situaciones sociales. Personalidad evitativo-fóbica (vergüenza patológica). Otros personalidades esquizoides o esquizotíp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iedo marcado y persistente a una o más situaciones sociales en que una persona está expuesta a personas desconocidas o al escrutinio de parte de otros. El individuo teme que él o ella actuará de una manera (o mostrará síntomas ansiosos) que serán humillantes o vergonzosos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 debe haber evidencia de la capacidad de relaciones sociales adecuadas para la edad con personas familiares y la ansiedad debe ocurrir en ambientes con sus pares y no sólo en relación a los adul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casi invariablemente provoca ansiedad que puede tomar la forma de una crisis de pánico relacionada a la situación o a la anticipación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, la ansiedad puede ser expresada a través del 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reconoce que este miedo es excesivo o irracional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situación social temida es evitada o soportada con intensa ansiedad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social temida interfiere significativamente con la rutina normal de la persona, su funcionamiento ocupacional (académico), sus actividades o relaciones sociales, o existe un malestar intenso sobre sufrir la fob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iedo o la evitación no son debidos a los efectos fisiológicos directos de una sustancia (por ej, drogas ilícitas o fármacos) o una condición médica general, y no es explicada por otro trastorno mental (por ej, trastorno de pánico con o sin agorafobia, trastorno por ansiedad de separación, trastorno dismórfico corporal, trastornos generalizados del desarrollo o trastorno de personalidad esquizoide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 existe una condición médica general u otro trastorno mental, el miedo del criterio A no está relacionado a éste, por ej, no es miedo a Espasmofemia, al temblor en la Enfermedad de Parkinson, a exhibir conductas alimentarias anormales en Anorexia o Bulimia Nervio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afbf39"/>
                </a:solidFill>
                <a:latin typeface="Arial"/>
              </a:rPr>
              <a:t>ANGUSTI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que lleva a una serie de manifestaciones somáticas frente a una situación estimada como pelig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daptación y es prote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usa externa objet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inherente a la vid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gada a nuevas experiencias y períodos crítico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e en estado de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 TIENE LA CAPACIDAD DE RECUPERARSE, CUANDO EL ESTÍMULO DESAPA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fobia social se diagnostica con mayor frecuencia e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dolescent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aunque hay casos descritos de los 8 años de 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inicio en promedio es a los 11,3 a 12,3 añ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ción difiere según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s pequeños: pataletas frecuentes y muy apegados a sus padres, mutismo se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olescentes: alejamiento de reuniones familiares, sociales y de relaciones con los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volución y 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fobia social no es diagnosticada, puede acarrear problemas a futuro: rechazo escolar, abandono escolar, interferencia en el desarrollo ocupacional, falla de integrarse a la fuerza laboral, dificultad para establecer relaciones afec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ebe clarificar la naturaleza central del miedo específica a interacciones o actuaciones frente a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pá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ansiedad gener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bia especí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por ansiedad de se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obsesivo-compul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osicionismo desafi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. Personalidad Evitativa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0384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udios sobre terapia cognitivo conductual la privilegian sobre otros modos de trat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refuerzo pos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desensibilización    sintoma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model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gra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en v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649760" y="2325600"/>
            <a:ext cx="4037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sicofármacos pueden formar parte de un tratamiento multimodal, pero no son el único tratamiento (SSRIs). Paroxetina, Sertralina efectiva en adul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6633"/>
                </a:solidFill>
                <a:latin typeface="Garamond"/>
              </a:rPr>
              <a:t>Trastorno de pánico con o sin agorafob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storno de pán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e trastorno se caracteriza p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isis de angustia repetidas e inesperadas, seguida de temores y preocupaciones persistentes respecto a futuras crisis y las consecuencias de las mis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observa este trastorno especialmente en adolescentes, a pesar que también se ha descrito en ni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eval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5.9% a un 63.3% de los adolescentes han experimentado ataques de pánico (muestra comunita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0.6% a 4.7%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los síntomas cumplen los criterios del DSM-IV, población escolar adolescente. Predominio mujeres 2:1. Raro antes de la pubert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agorafobia varía entre 2.5 y 5.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egún DSM-I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ataque de pánico es un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creto periodo de intenso miedo o discomfort, de inicio brusco, que alcanza su máxima intensidad en 10 minutos y es acompañado de al menos 4 de los 13 síntomas somáticos o cogn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omas somá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ción entrecort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aquicar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lor precord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nsación de ah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Vérti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esmayo 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Hormigueo o adormec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lash de frío o cal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d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emblor o sacu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use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NGUSTIA NORMAL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ancia objet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gustia de separación (6-8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ctantes: ruidos fuertes, improvistos, extr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escolare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iedos animales, oscuridad, monstruos, ansiedad separación n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tapa escol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año físico y event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adolesc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siedad social, interpersonal y rendimient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durez emocional, experiencias de aprendizaje permiten superar los mi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Síntomas cogni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iedo a mo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olverse l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erder e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realización (sensación de irreal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personalización (estar separado de uno mism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, para el diagnóstico de trastorno de pánico, deben existi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varias crisis inesperadas en el período de un m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causa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persistente preocupación sobre tener otro ataque,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us implicancias y consecuencias y generar un deterioro del funcionamiento general del individuo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Agorafob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ngustia que presenta el individu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sentirse solo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sin ayuda, en lugares concurridos o situaciones en que no puede escapar fáci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o lleva a que se generen patrones persistentes de 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evitaci</a:t>
            </a:r>
            <a:r>
              <a:rPr b="0" lang="es-ES_tradnl" sz="2600" spc="-1" strike="noStrike">
                <a:solidFill>
                  <a:srgbClr val="ff3399"/>
                </a:solidFill>
                <a:latin typeface="Georgia"/>
              </a:rPr>
              <a:t>ó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a estas situ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las enfrentan, presentan intenso distress y miedo. Deben ser acompa</a:t>
            </a:r>
            <a:r>
              <a:rPr b="0" lang="es-ES_tradnl" sz="2600" spc="-1" strike="noStrike">
                <a:solidFill>
                  <a:srgbClr val="000000"/>
                </a:solidFill>
                <a:latin typeface="Georgia"/>
              </a:rPr>
              <a:t>ñ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dos de otras perso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ituaciones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solo fuera de ca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multit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fila, en la mitad de un pu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edo a ciertos medios de transpo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 shopping mall o en un c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mayoría de los síntomas que presentan los adolescentes s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blores, mareos, lipotimia, náusea, palpitaciones, respiración entrecortada y sudora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earny et al.,1997; 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Síntomas cognitivos son reportados con menor frecuencia que los síntomas somátic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ituación más comúnmente evitada es en la cual el paciente se encuentra con </a:t>
            </a: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gran número de personas desconoc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(restaurant, cine, auditorios) </a:t>
            </a:r>
            <a:r>
              <a:rPr b="0" lang="es-ES_tradnl" sz="1700" spc="-1" strike="noStrike">
                <a:solidFill>
                  <a:srgbClr val="000000"/>
                </a:solidFill>
                <a:latin typeface="Bradley Hand ITC"/>
              </a:rPr>
              <a:t>(Kearny et al, 1997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erspectiva del desarrollo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omienz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es de los 17 año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especialmente perjudicial, ya que presentan 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to riesgo de abuso de alcohol, ideación e intentos suicidas y consultas en servicios de urgenci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en comparación con el inicio después de los 18 años </a:t>
            </a:r>
            <a:r>
              <a:rPr b="0" lang="es-CL" sz="19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Moreau, 19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risis de pán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esperadas o esponta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tu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dispuestas situacion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stinción difícil en niños por atribución externa de sus experi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urso y prono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stornos de pánico no tratados seguiría su curso al adu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sicoterap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C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entrenamiento respirator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j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instrucción posi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rmacoterapi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SR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Z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43240" y="307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¿PREGUNT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b812f"/>
                </a:solidFill>
                <a:latin typeface="Garamond"/>
              </a:rPr>
              <a:t>ANGUSTIA PATOLÓG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ntimiento de aprensión: “algo terrible va a ocurri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ás pequeño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mayor expresión somát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yor edad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duc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o angustia patológic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patrón e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anim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tardí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sempeño y angustia de sepa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dolesce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capacidad de recuperarse al desaparecer el esti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ecta áreas del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sufrimiento y poca flexibilidad de la respuesta af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º entre distintos desordenes ansiosos:  90% e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º Depre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 un 67%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Kovacs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tre 5 a 7 años, en adultos jóvene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Ernst, 199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dencia menor: SDAH, T.Condu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22:42:02Z</dcterms:created>
  <dc:creator>veri</dc:creator>
  <dc:description/>
  <dc:language>en-US</dc:language>
  <cp:lastModifiedBy>cote</cp:lastModifiedBy>
  <dcterms:modified xsi:type="dcterms:W3CDTF">2009-10-14T15:42:01Z</dcterms:modified>
  <cp:revision>63</cp:revision>
  <dc:subject/>
  <dc:title>Trastornos ansiosos</dc:title>
</cp:coreProperties>
</file>