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7.gif" ContentType="image/gif"/>
  <Override PartName="/ppt/media/image5.jpeg" ContentType="image/jpeg"/>
  <Override PartName="/ppt/media/image2.gif" ContentType="image/gi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8380-B427-498D-927E-3B076FF8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5008-E334-4394-926C-4374139E2DAE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AB23-5C14-4328-95A5-47AC15B9CD4E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2478-283D-4F31-8235-79F4BF26D3FD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3AFA-E1FA-4CF4-9A03-F119080C6969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70FD-A86D-42CE-A5B2-B488B5C8512F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174B-2298-4818-9579-2421DAE1B7EB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43EA-97A0-47D2-8676-48E2973BAB44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385E-F6D8-4DC3-B931-B49740036C17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23F4-1A3F-4B6F-9738-1D08B20CE27E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6B15-944A-412F-8D10-7BDE643B823B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2F6A-69A3-423D-BA16-EE5E73711E44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79FF-E61A-43B3-8E55-AEB39A9C5DB8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BBE4-41F0-48AD-99A7-10E1271D9266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9A4-A5BA-4BD0-93F1-FB6C118D9D2A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C44-B377-4AB8-A589-C3A119E74C1D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FD67-42EA-4707-9797-7BE68126CD5C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43E5-9C78-4CCF-8126-9C2C7FFEB21A}" type="slidenum"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303-D72F-4E72-93BD-CA3AD82C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A82-94E8-4B85-84FA-D087F415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55E-25DF-45F9-8605-A1FBFE42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BE6-F28C-43F3-8FC5-43AAE12A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7A3-9461-4682-A11B-95E09769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27D0-22F2-4668-861A-90D69C9A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6CE8-CA5E-4404-8E10-71D1B9F5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D69E-E96C-4141-9E93-868577F0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08CA-7E37-42A2-85D6-BB8F4454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8BD-E87A-41E6-BAA0-05BC315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DAA4-07BA-45EC-8087-C17B2F4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7DA-6574-4878-B631-A56EFA0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E723-638E-4D4F-A01C-AB96CD99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4F28-8041-44E2-A606-25E1213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2F35-1CEC-4D8E-8565-CBD2CC9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BCB-A8B8-483F-8CDE-ECE1147B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D1B5-D4A6-4F14-BCB5-B665BD2A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1EEA-B9BA-4A04-A290-468EE48C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C9941-18D6-45EB-9233-345D83BD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4713-C662-4F1D-9437-667F365B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9836-4E0E-49E0-ACBF-C18B944B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0463-8D13-4A75-9394-9C6B2389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C2B-4AEF-4F7A-9847-E473E34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2BDA-7811-405D-BDBB-68356DE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F8B3-901E-49F8-8F46-66BFE5F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86A1-6116-42ED-8414-07C2105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F93E-898A-4633-9404-E04082AE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71AD-B7D5-4D5F-B024-A43FD44A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7CE8-BE8C-440C-AE33-9275E3D6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638D-F525-451D-8336-9F6D826C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E247-00DB-4707-8445-B0FE7DDB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6986-22AF-44DE-BDC4-C69849F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E086-D048-4892-B35D-2310A51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982-33E8-4A87-BCA0-336705C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3178-8354-4320-906B-82AEB373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D6D3-56ED-40A4-AF94-221905AD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951C-BB46-4008-ABF6-CEBC83C0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793D-4DE7-4A8E-8D52-ED3C41E0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AA4E-E812-4C8E-A01A-7F73ECD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61BB-A7AA-49AC-95D4-94EC95CE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BC9D-D87D-4975-BE94-526EF0A9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81B9-ADCB-407C-BFB1-B362CF9A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0A92-6FB1-4539-81C6-97FF1AE1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5D1D3-E1F9-40ED-BDBE-7C8C4D12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A5F-81DE-4EA8-BA9D-ED93F554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C6DD-EE89-4AEE-B12F-B90D407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57C0-1F53-4A9D-9398-306C342F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AC1F-1CA8-40F4-9B05-4D15DE10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7EA9-ADA4-4BA5-B1D7-78F53D1E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8DE12-AFB5-4133-B65D-34776E37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E072-3064-4614-BA96-9DBF19E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7E59-2A3D-4B4D-8E29-939CC3E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AEEB-F470-4F34-933B-C75D4F7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1D48-FCCD-4A8E-A8CF-314779E8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22DA-143B-4122-AF73-D394792C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CAC-2746-430F-BC23-76D2742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CA55-FA07-40D4-A89E-5518779E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7EA-E015-4B17-BD10-F40B84FE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4AC-0281-42CC-9C20-177F2FCF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801-5825-42C9-97B0-E013109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539640"/>
              <a:ext cx="7391160" cy="257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f1cccc"/>
                </a:gs>
                <a:gs pos="100000">
                  <a:srgbClr val="c275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A85-06DD-4D41-8EC0-99593E60F6EC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cccc"/>
            </a:gs>
            <a:gs pos="50000">
              <a:srgbClr val="c27592"/>
            </a:gs>
            <a:gs pos="100000">
              <a:srgbClr val="f1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752480"/>
            <a:ext cx="9142560" cy="3114000"/>
            <a:chOff x="0" y="1752480"/>
            <a:chExt cx="9142560" cy="3114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2292480"/>
              <a:ext cx="7391160" cy="25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52" name="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9164-21F9-4D99-8542-83C5AB72007D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4B1-0F19-49BF-BB21-00B504B6F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AD5-FB8B-4DBE-8A14-DB9767DB2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8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A908-B214-49B9-A6BD-ADC3584E2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boloncol.com/images/stories/boletin23/imag05/tristeza.jpg&amp;imgrefurl=http://www.boloncol.com/boletin-23/ayudar-en-el-duelo.html&amp;h=684&amp;w=553&amp;sz=37&amp;hl=es&amp;start=7&amp;tbnid=254xzZKYnxvm0M:&amp;tbnh=139&amp;tbnw=112&amp;prev=/images%3Fq%3Dduelo%2Bpatologico%26gbv%3D2%26ndsp%3D20%26hl%3Des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cccc"/>
            </a:gs>
            <a:gs pos="50000">
              <a:srgbClr val="c27592"/>
            </a:gs>
            <a:gs pos="100000">
              <a:srgbClr val="f1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Tr. Adaptativos o reactivos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268000" y="5300640"/>
            <a:ext cx="64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Dra. Gloria K. Toledo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Clínica Psiquiátrica Universitaria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18745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Vulnerabilidad intrínseca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Temperamento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Más important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Edad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Inmadurez Intelectual y Emociona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sfuerzos inefectivos del niño para enfrentar el estres.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Sobreprotección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Niños dependientes, daño cerebral mayor riesgo de desarrollar un Trastorno Adaptativo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4.Experiencias tempran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</a:rPr>
              <a:t>5.Géner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Vulnerabilidad Extrínseca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Disfunción subsistema parental 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Familias caótica o desorganizada 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Escasas redes sociales y/o falencias en la comunidad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M de crianza sobreprotector, negligente, violento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0099"/>
                </a:solidFill>
                <a:latin typeface="Comic Sans MS"/>
              </a:rPr>
              <a:t>Entonces ..¿Cómo  evaluar un tr   adaptativo?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Comic Sans MS"/>
              </a:rPr>
              <a:t>Evaluación completa: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Entrevista con el niño o adolescente y sus padres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Historia del desarrollo, sucesos vitales,  y comportamientos del paciente, así como del suceso que provocó el estrés.  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Criterios DSM IV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Síntomas emocionales y/o del comportamiento frente a estresor identificable dentro de los 3 ms siguientes.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Estos síntomas se expresa como: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Comic Sans MS"/>
              </a:rPr>
              <a:t>Malestar mayor del esperable en respuesta al estresan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Comic Sans MS"/>
              </a:rPr>
              <a:t>Deterioro significativo  de la actividad social o académic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No cumple los criterios para otro trast. del Eje I y no es una exacerbación de un tr. preexistente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No responden a una reacción de duel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Cesado el estresor los síntomas no persisten por más de 6 meses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696000" y="260280"/>
            <a:ext cx="24480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0099"/>
                </a:solidFill>
                <a:latin typeface="Comic Sans MS"/>
                <a:ea typeface="Arial"/>
              </a:rPr>
              <a:t>Tipos de trastornos adaptativos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4920" y="1428840"/>
            <a:ext cx="503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estado de ánimo depresiv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estado de ánimo ansios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alteración mixta de estado de ánimo depresivo y ansioso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alteración de la conducta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Con alteración mixta de la conducta y las emociones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7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No especificado </a:t>
            </a:r>
            <a:r>
              <a:rPr b="0" lang="es-CL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(quejas somáticas, aislamiento social e inhibición  académica o social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3" name="3 Imagen" descr="faces[1]_0.tmp"/>
          <p:cNvPicPr/>
          <p:nvPr/>
        </p:nvPicPr>
        <p:blipFill>
          <a:blip r:embed="rId1"/>
          <a:stretch/>
        </p:blipFill>
        <p:spPr>
          <a:xfrm>
            <a:off x="5715000" y="1428840"/>
            <a:ext cx="292896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Diagnostico Diferencial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Reacción normal a situaciones estresantes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Duelo normal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Tr por estrés agudo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PTSD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Descompensación de pacientes portadores de tr de la personalidad(ojo! Sintomas deben ser explicados x tr.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Tr depresivos y angustiosos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Tr de conducta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705720" y="4351320"/>
            <a:ext cx="21873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Tratamiento</a:t>
            </a:r>
            <a:r>
              <a:rPr b="0" lang="es-CL" sz="4400" spc="-1" strike="noStrike">
                <a:solidFill>
                  <a:srgbClr val="3300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11280" y="1784520"/>
            <a:ext cx="447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alizado por el profesional que realiza la 1ª atención (médico general, pediatra, psicolólogo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ducación de los padr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Fomentar expresión emocional en el niño o adolescen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Trastorno de gran intensidad, persistente o se agrava, derivar a psiquiatría infantil y de la adolescencia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79" name="Picture 5" descr="http://www.kindsein.com/cgi-bin/get_img?NrImage=2&amp;NrArticle=605"/>
          <p:cNvPicPr/>
          <p:nvPr/>
        </p:nvPicPr>
        <p:blipFill>
          <a:blip r:embed="rId1"/>
          <a:stretch/>
        </p:blipFill>
        <p:spPr>
          <a:xfrm>
            <a:off x="642960" y="21430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Psicoterapia individual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Contexto emocional seguro.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Facilitar que el niño establezca relación temporal entre estresor y síntomas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Comic Sans MS"/>
              </a:rPr>
              <a:t>Terapia dirigida a la solución de problemas (enfrentamiento posterior)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Tomar en cuenta los síntomas y edad del paciente (Preescolares: técnicas no verbales) 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Facilitar, contener y respetar las expresión emocional del niño o adolescente.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Legitimar sentimientos como rabia, temor y tristeza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  <a:ea typeface="Arial"/>
              </a:rPr>
              <a:t>Evitar sobreprotección –sobre involucración</a:t>
            </a: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72360" y="5157720"/>
            <a:ext cx="1871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Tratamiento sintomático…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00000" y="2276280"/>
            <a:ext cx="77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En caso de síntomas que impidan el funcionamiento del niño se indicarán ansiolíticos. Por tiempo breve (1 semana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ntidepresivos tienen indicación limitada , por latencia en acción y duración breve de la mayoría de los trastornos adaptativo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Con los padres…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28480"/>
            <a:ext cx="446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yudar a entender lo que le pasa al niño: sentimientos de angustia, temor,tristeza y rabi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Favorecer y estimular respuestas sana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Minimizar respuestas problemáticas o desadaptativa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Papel protector de situaciones estresantes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87" name="Picture 8" descr="http://www.elprogresohispano.com/noticias/243_educacion.jpg"/>
          <p:cNvPicPr/>
          <p:nvPr/>
        </p:nvPicPr>
        <p:blipFill>
          <a:blip r:embed="rId1"/>
          <a:stretch/>
        </p:blipFill>
        <p:spPr>
          <a:xfrm>
            <a:off x="5000760" y="2071800"/>
            <a:ext cx="3214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0099"/>
                </a:solidFill>
                <a:latin typeface="Comic Sans MS"/>
              </a:rPr>
              <a:t>¿Qué es un</a:t>
            </a:r>
            <a:r>
              <a:rPr b="1" i="1" lang="en-US" sz="4800" spc="-1" strike="noStrike">
                <a:solidFill>
                  <a:srgbClr val="330099"/>
                </a:solidFill>
                <a:latin typeface="Comic Sans MS"/>
              </a:rPr>
              <a:t> </a:t>
            </a:r>
            <a:r>
              <a:rPr b="0" i="1" lang="en-US" sz="4800" spc="-1" strike="noStrike">
                <a:solidFill>
                  <a:srgbClr val="330099"/>
                </a:solidFill>
                <a:latin typeface="Comic Sans MS"/>
              </a:rPr>
              <a:t>tr. adaptativo?</a:t>
            </a:r>
            <a:endParaRPr b="0" lang="en-US" sz="48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Es una respuesta de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intensidad patológica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  que se presenta frente a un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estresor identificable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 que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sobrepasa</a:t>
            </a:r>
            <a:r>
              <a:rPr b="1" lang="es-CL" sz="3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la </a:t>
            </a:r>
            <a:r>
              <a:rPr b="1" i="1" lang="es-CL" sz="3100" spc="-1" strike="noStrike">
                <a:solidFill>
                  <a:srgbClr val="330099"/>
                </a:solidFill>
                <a:latin typeface="Comic Sans MS"/>
              </a:rPr>
              <a:t>capacidad adaptativa</a:t>
            </a: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  del individuo para su edad.</a:t>
            </a:r>
            <a:endParaRPr b="0" lang="en-US" sz="3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74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66"/>
                </a:solidFill>
                <a:latin typeface="Comic Sans MS"/>
              </a:rPr>
              <a:t>Relación estresor/respuesta</a:t>
            </a:r>
            <a:endParaRPr b="0" lang="en-US" sz="31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99"/>
                </a:solidFill>
                <a:latin typeface="Comic Sans MS"/>
                <a:ea typeface="Arial"/>
              </a:rPr>
              <a:t>Pronóstico</a:t>
            </a:r>
            <a:r>
              <a:rPr b="0" lang="es-ES_tradnl" sz="4400" spc="-1" strike="noStrike">
                <a:solidFill>
                  <a:srgbClr val="3300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Oportunidad de tratamient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Reversibilidad de los síntoma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poyo familiar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Gravedad de la sintomatologí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Persistencia de factores estresant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Presencia de comorbilidad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*Generalmente resolución   completa continuando desarrollo norma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Duelo en niños y adolesc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689440" cy="4464000"/>
          </a:xfrm>
          <a:prstGeom prst="rect">
            <a:avLst/>
          </a:prstGeom>
          <a:ln w="5724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¿Qué es el duelo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568160"/>
            <a:ext cx="7920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Pérdida 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uerte de personas significativas conectadas por vínculos af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xtendido  a otras pérdidas: de funciones y órganos, del ciclo vital y la propi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Duelo norm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odas las personas que sufren pérdidas tienen procesos de d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l duelo tiene períodos de angustia y depr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nfluencia cultural en su manifes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0312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Comic Sans MS"/>
              </a:rPr>
              <a:t>Manifestaciones del duelo normal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8000" y="1196640"/>
            <a:ext cx="8218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Sentimientos, sensaciones físicas, cogniciones, percepciones y conductas, después de una pérdida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Sin cambios significativos en la autoestima del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Funcionamiento social y ocupacional puede alterarse en forma leve y transi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valuación realista de la persona perdida, sin idealizaciones patológicas ni ir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alestar intenso disminuye en 6-12 se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 ideación suicida es rara o transi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Etapas del duelo (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Kübler Ross</a:t>
            </a: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egación y aislamiento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Yo no, no puede ser cier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b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¿Por qué yo?”,r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bia hacia Dios,envidia hacia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egocia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tentos de postponer: “Si pudiera vivir tan sólo para alcanzar a ver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 Depresión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“Sí, es a mí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5. Acept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Es inevi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tapas del duelo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(Lindenmann, Brown, Schulz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se inicial o de evit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ck e incredulidad, protege de reacciones inte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a horas, semanas o m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steza, llanto frec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se aguda de due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 meses o m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lor por separación, apego o rechazo de poses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er la ambivalencia de  re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se final Resolución del due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l reconexión con vida di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erdos traen sentimientos cariñosos, mezclados con trist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Comic Sans MS"/>
                <a:ea typeface="Arial"/>
              </a:rPr>
              <a:t>Tareas del duelo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643280" y="1523880"/>
            <a:ext cx="4143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ceptar la realidad de la pérdi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Elaborar las emociones y el dolor de la pérdi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Adaptarse a un ambiente en que la persona fallecida está aus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Reubicar emocionalmente al fallecido y continuar viviend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65560" cy="3987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Duelo patológico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857160" y="1341360"/>
            <a:ext cx="784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6617160" y="58284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557000"/>
            <a:ext cx="8229600" cy="59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: “Intensificación del duelo al nivel en que la persona está desbordada, recurre a conductas desadaptativas, o permanece en este estado sin avanzar en el proceso de duelo hacia su resolu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No existe como diagnóstico en DSM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824360" cy="325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Duelo patológ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5616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ACTERI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 no estar relacionado temporalmente a la pé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existir sentimientos de  auto devaluación o culpa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t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ación funcional sign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ersona muerta es idealizada o distors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presentarse molestias vegetativas pers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ación suic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156000" y="1341000"/>
            <a:ext cx="2987640" cy="208764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c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retra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exag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elo enmasca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http://tbn0.google.com/images?q=tbn:254xzZKYnxvm0M:http://www.boloncol.com/images/stories/boletin23/imag05/triste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933720"/>
            <a:ext cx="2143080" cy="25005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0099"/>
                </a:solidFill>
                <a:latin typeface="Comic Sans MS"/>
              </a:rPr>
              <a:t>¿Y cuando se presenta ?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Entre los </a:t>
            </a:r>
            <a:r>
              <a:rPr b="0" i="1" lang="es-CL" sz="3200" spc="-1" strike="noStrike">
                <a:solidFill>
                  <a:srgbClr val="000066"/>
                </a:solidFill>
                <a:latin typeface="Comic Sans MS"/>
              </a:rPr>
              <a:t>3 ms</a:t>
            </a: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 posterior a la exposición al estresor ,hasta los </a:t>
            </a:r>
            <a:r>
              <a:rPr b="0" i="1" lang="es-CL" sz="3200" spc="-1" strike="noStrike">
                <a:solidFill>
                  <a:srgbClr val="000066"/>
                </a:solidFill>
                <a:latin typeface="Comic Sans MS"/>
              </a:rPr>
              <a:t>6ms</a:t>
            </a: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 posterior a la desaparición de este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Si persiste por mas de 6 meses debe reevaluarse y podría ser un tr adaptativo crónico, afectando dllo normal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Diagnóstico diferenc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. Adaptativo con estado de ánimo depres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res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nsamientos suicidas e intentos es común. En duelo no involucran pensamiento de auto-depreciación y de no querer exist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 ans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relación a nueva perdida o abandono, propia m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vas relaciones vinculo ans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. so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stornos de condu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peractividad (evitación de emo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sividad (etapa de rabi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ucta  de riesgo (x cul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Duelo en niñ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84360" y="1484280"/>
            <a:ext cx="545940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l </a:t>
            </a:r>
            <a:r>
              <a:rPr b="1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concepto de muerte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evoluciona con el desarrollo, desde punto de vista cognitivo y emocio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iños pequeños poseen pensamiento animístico y mágic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l concepto de muerte requiere el entendimiento e integración d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Irreversibilidad: entender la muerte como fenómeno permanent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Universalidad: es un fenómeno natural, parte del ciclo vit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- Causalidad: Producida por uno o más factor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Comic Sans MS"/>
                <a:ea typeface="Arial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7" name="Picture 5" descr="http://groups.msn.com/_Secure/0TgAAAIAXRpq5Mb6DokTWw2yqX9qDaEMHeAdZIn4hKJjblpj*ETDZBU8p*mkdOVHwSSzAFaLZbBFKs0lVqDli2qL!UH*8QHV1*m7mzbrNJqKAU91O05wcTQ/NiñoyMuerte27.jpg"/>
          <p:cNvPicPr/>
          <p:nvPr/>
        </p:nvPicPr>
        <p:blipFill>
          <a:blip r:embed="rId1"/>
          <a:stretch/>
        </p:blipFill>
        <p:spPr>
          <a:xfrm>
            <a:off x="6411960" y="3716280"/>
            <a:ext cx="2387520" cy="25210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421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Duelo en niños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28760" y="1428480"/>
            <a:ext cx="817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describen 3 etapas en su desarrol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Hasta l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años los niños viven la muerte como una separación, como dormir, no es un acontecimiento final irrever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tre l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5 - 8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años se produce una “personificación” de la m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rededor de l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años se consolida concepto de irreversibilidad, con lo cual se desarrolla concepto realista de la mue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erte es uni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as las funciones de la vida terminan al mo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permanente e irrever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Factores a considerar en el due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6114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Quién era la persona fallecida y el rol que cumpl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 naturaleza del apego o tipo de vínculo que poseí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Tipo de mu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Variables de persona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Variabl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Otros tipos de estrés simultá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http://us.123rf.com/400wm/400/400/sarahann/sarahann0706/sarahann070600025/1118946.jpg"/>
          <p:cNvPicPr/>
          <p:nvPr/>
        </p:nvPicPr>
        <p:blipFill>
          <a:blip r:embed="rId1"/>
          <a:stretch/>
        </p:blipFill>
        <p:spPr>
          <a:xfrm>
            <a:off x="5076720" y="3141720"/>
            <a:ext cx="3313080" cy="280656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Comic Sans MS"/>
              </a:rPr>
              <a:t>Consideraciones especiales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uerte en los niños activa numerosas ans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niños son muy susceptibles a la alteración de la dinámica fam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n sentirse responsables de l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irritan con sus figuras cercanas por no haber impedido que ocurriera l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716360" y="5229360"/>
            <a:ext cx="3816360" cy="132372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7886520" cy="1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¿Qué hacemos frente a el duelo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920" y="1483920"/>
            <a:ext cx="824544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tratar de explicar un concepto que está fuera del nivel de comprensión para la 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intentar la tarea de ahorrar el dolor de la pé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yudar a expresar el dolor de una manera apropiada al nivel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anquilizar al niño sobre la continuidad de sus relaciones con las otr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jarlos participar en los rituales de desped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Terapia en el duelo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000" y="1483920"/>
            <a:ext cx="74883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u objetivo es identificar y resolver los conflictos que imposibilitan la realización de las tareas correspon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plica experimentar pensamientos y sentimientos que el paciente ha estado evit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l terapeuta proporciona el apoyo y da permiso para elaborar el d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Arial"/>
                <a:ea typeface="Arial"/>
              </a:rPr>
              <a:t>¿Qué evitar decir?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777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os sabe p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hace las 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hora está en un lugar mej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os necesitaba un áng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odo sucede por una raz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cielo te va a cuid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tiempo lo cura to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ienes que ser fuerte por tu (hijos, padre, madre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 le gustaría que estuvieras tris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r lo menos ya no está sufrie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omic Sans MS"/>
              </a:rPr>
              <a:t>¿Cuándo ha acabado el duelo?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120" y="159984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uando la persona es capaz de pensar en el fallecido sin d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uando la persona recupera el interés en la vida propia, la sensación de esperanza, siente gratificación y elabora planes para su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79280" y="260280"/>
            <a:ext cx="8339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041800" cy="6337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435640" y="4797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omic Sans MS"/>
              </a:rPr>
              <a:t>Un cafecito y al práctico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0099"/>
                </a:solidFill>
                <a:latin typeface="Comic Sans MS"/>
              </a:rPr>
              <a:t>Epidemiología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0099"/>
                </a:solidFill>
                <a:latin typeface="Comic Sans MS"/>
              </a:rPr>
              <a:t>Prevalencia: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Hospital Roberto del Río 1998: Motivo de consulta más frecuente en Servicio de Psiquiatría Infantil: 33% del total de consultas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25,6% en hombres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27,5% en mujeres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0099"/>
                </a:solidFill>
                <a:latin typeface="Comic Sans MS"/>
                <a:ea typeface="Arial"/>
              </a:rPr>
              <a:t>Características del trastorno adaptativo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000" y="2276640"/>
            <a:ext cx="8064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Formas de expresión variadas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on frecuencia coexiste sintomatología </a:t>
            </a:r>
            <a:r>
              <a:rPr b="1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depresiva, ansiosa, conductual o somática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eneralmente desarrollo normal previo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330099"/>
                </a:solidFill>
                <a:latin typeface="Comic Sans MS"/>
              </a:rPr>
              <a:t> </a:t>
            </a:r>
            <a:r>
              <a:rPr b="0" lang="es-CL" sz="5400" spc="-1" strike="noStrike">
                <a:solidFill>
                  <a:srgbClr val="330099"/>
                </a:solidFill>
                <a:latin typeface="Comic Sans MS"/>
              </a:rPr>
              <a:t>Etiología</a:t>
            </a:r>
            <a:endParaRPr b="0" lang="en-US" sz="5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5805000"/>
            <a:ext cx="7772400" cy="2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 flipV="1" rot="10807200">
            <a:off x="826560" y="2204280"/>
            <a:ext cx="2303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streso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specífic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2276640"/>
            <a:ext cx="2303280" cy="86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Vulner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individu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ubCross"/>
          <p:cNvSpPr/>
          <p:nvPr/>
        </p:nvSpPr>
        <p:spPr>
          <a:xfrm>
            <a:off x="3924360" y="2349360"/>
            <a:ext cx="576360" cy="649440"/>
          </a:xfrm>
          <a:custGeom>
            <a:avLst/>
            <a:gdLst>
              <a:gd name="textAreaLeft" fmla="*/ 189000 w 576360"/>
              <a:gd name="textAreaRight" fmla="*/ 387360 w 576360"/>
              <a:gd name="textAreaTop" fmla="*/ 230040 h 649440"/>
              <a:gd name="textAreaBottom" fmla="*/ 419400 h 649440"/>
            </a:gdLst>
            <a:ahLst/>
            <a:rect l="textAreaLeft" t="textAreaTop" r="textAreaRight" b="textAreaBottom"/>
            <a:pathLst>
              <a:path w="21600" h="21600">
                <a:moveTo>
                  <a:pt x="7081" y="0"/>
                </a:moveTo>
              </a:path>
              <a:path w="21600" h="21600">
                <a:moveTo>
                  <a:pt x="7081" y="7658"/>
                </a:moveTo>
                <a:lnTo>
                  <a:pt x="0" y="7658"/>
                </a:lnTo>
                <a:lnTo>
                  <a:pt x="0" y="13942"/>
                </a:lnTo>
              </a:path>
              <a:path w="21600" h="21600">
                <a:moveTo>
                  <a:pt x="7081" y="13942"/>
                </a:moveTo>
                <a:lnTo>
                  <a:pt x="7081" y="21600"/>
                </a:lnTo>
                <a:lnTo>
                  <a:pt x="14519" y="21600"/>
                </a:lnTo>
              </a:path>
              <a:path w="21600" h="21600">
                <a:moveTo>
                  <a:pt x="14519" y="13942"/>
                </a:moveTo>
                <a:lnTo>
                  <a:pt x="21600" y="13942"/>
                </a:lnTo>
                <a:lnTo>
                  <a:pt x="21600" y="7658"/>
                </a:lnTo>
                <a:lnTo>
                  <a:pt x="14519" y="7658"/>
                </a:lnTo>
                <a:lnTo>
                  <a:pt x="14519" y="0"/>
                </a:lnTo>
              </a:path>
            </a:pathLst>
          </a:custGeom>
          <a:solidFill>
            <a:srgbClr val="fccea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1874880" cy="2144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651640" y="3789360"/>
            <a:ext cx="2449440" cy="863640"/>
          </a:xfrm>
          <a:prstGeom prst="wedgeRoundRectCallout">
            <a:avLst>
              <a:gd name="adj1" fmla="val -65685"/>
              <a:gd name="adj2" fmla="val 87500"/>
              <a:gd name="adj3" fmla="val 16667"/>
            </a:avLst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Intrínsec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Extrínsec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2521080" cy="1297080"/>
          </a:xfrm>
          <a:prstGeom prst="wedgeEllipseCallout">
            <a:avLst>
              <a:gd name="adj1" fmla="val 73675"/>
              <a:gd name="adj2" fmla="val 41430"/>
            </a:avLst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Tip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Dur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Comic Sans MS"/>
              </a:rPr>
              <a:t>¿comó puede ser el stresor?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Único o múltiple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Agudo, persistente o recurrente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Personal, familiar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Normativo: experiencias comunes a todos los niños por el dllo.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Comic Sans MS"/>
              </a:rPr>
              <a:t>No normativas :particular  para c/individuo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Agudo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Crónic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0099"/>
                </a:solidFill>
                <a:latin typeface="Comic Sans MS"/>
              </a:rPr>
              <a:t>¿qué podría actuar como estresor?</a:t>
            </a:r>
            <a:endParaRPr b="0" lang="en-US" sz="40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99"/>
                </a:solidFill>
                <a:latin typeface="Comic Sans MS"/>
              </a:rPr>
              <a:t>Crisis normativas: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Ingreso al colegi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Nacimiento de un herman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Fallecimiento de un abuel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4360" y="1915920"/>
            <a:ext cx="439092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99"/>
                </a:solidFill>
                <a:latin typeface="Comic Sans MS"/>
              </a:rPr>
              <a:t>Crisis no normativas: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Separacion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nfermedad crónica o muerte de uno o ambos padr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Maltrato infanti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Abuso sexual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Disfunción familiar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Enfermedad crónica del niño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Comic Sans MS"/>
              </a:rPr>
              <a:t>Problemas escolares 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79640" y="4437000"/>
            <a:ext cx="21877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99"/>
                </a:solidFill>
                <a:latin typeface="Comic Sans MS"/>
              </a:rPr>
              <a:t>Vulnerabilidad</a:t>
            </a:r>
            <a:endParaRPr b="0" lang="en-US" sz="4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Factor más importante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Depende de las características del niño y su entorno.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Comic Sans MS"/>
              </a:rPr>
              <a:t>Factores intrínsecos y extrínsecos</a:t>
            </a:r>
            <a:endParaRPr b="0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2:32:14Z</dcterms:created>
  <dc:creator>Gloria Toledo</dc:creator>
  <dc:description/>
  <cp:keywords/>
  <dc:language>en-US</dc:language>
  <cp:lastModifiedBy>keryma</cp:lastModifiedBy>
  <dcterms:modified xsi:type="dcterms:W3CDTF">2010-08-18T13:43:31Z</dcterms:modified>
  <cp:revision>1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13082</vt:lpwstr>
  </property>
</Properties>
</file>