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9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1.png" ContentType="image/png"/>
  <Override PartName="/ppt/media/image3.gif" ContentType="image/gif"/>
  <Override PartName="/ppt/media/image12.png" ContentType="image/png"/>
  <Override PartName="/ppt/media/image4.gif" ContentType="image/gif"/>
  <Override PartName="/ppt/media/image7.gif" ContentType="image/gif"/>
  <Override PartName="/ppt/media/image5.jpeg" ContentType="image/jpeg"/>
  <Override PartName="/ppt/media/image2.gif" ContentType="image/gif"/>
  <Override PartName="/ppt/media/image8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330099"/>
              </a:solidFill>
              <a:latin typeface="Comic Sans MS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4E379-F43C-4401-AF3B-28EEE271B4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1D169-34CF-440A-9637-057869617C1B}" type="slidenum">
              <a:rPr b="0" lang="es-MX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9B149-07E4-4DD9-A96B-82B767B18D40}" type="slidenum">
              <a:rPr b="0" lang="es-MX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F154B-87EF-4681-A1FF-1E3DD88FA525}" type="slidenum">
              <a:rPr b="0" lang="es-MX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41504-866C-439B-9907-B13319FDC475}" type="slidenum">
              <a:rPr b="0" lang="es-MX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44DB0-07E3-4937-87C5-7A261FE2E360}" type="slidenum">
              <a:rPr b="0" lang="es-MX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AB59E-C0E2-4644-A4B0-88EC691D3A66}" type="slidenum">
              <a:rPr b="0" lang="es-MX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97146-351F-4CF8-9EE1-EDF8CD5AB9B4}" type="slidenum">
              <a:rPr b="0" lang="es-MX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72B1E-B011-45D3-BC39-A552C7D6D718}" type="slidenum">
              <a:rPr b="0" lang="es-MX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3D73D-2373-46DA-A04B-FBC0D5E0B2AB}" type="slidenum">
              <a:rPr b="0" lang="es-MX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4ADA7-C9DE-4849-ADD7-8C6421BF4CF3}" type="slidenum">
              <a:rPr b="0" lang="es-MX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B6B84-84EB-487C-A2FB-EC30F6429050}" type="slidenum">
              <a:rPr b="0" lang="es-MX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1E8AA-B8F8-4F09-BFFD-12DD91C11F90}" type="slidenum">
              <a:rPr b="0" lang="es-MX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83A7A-32B2-413C-8386-060660492737}" type="slidenum">
              <a:rPr b="0" lang="es-MX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B8F74-E10A-4743-BC05-C364379D5F18}" type="slidenum">
              <a:rPr b="0" lang="es-MX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A4FCF-10EF-4ED4-992A-D6FF79AE4F12}" type="slidenum">
              <a:rPr b="0" lang="es-MX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DD2AE-76C7-45D0-A61D-D6CB6D914CBB}" type="slidenum">
              <a:rPr b="0" lang="es-MX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0562D-6C7F-41AB-BA67-F4114EB08ACB}" type="slidenum">
              <a:rPr b="0" lang="es-MX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FDE8-FB5C-484C-BE8F-E2378B2E8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D715-58FE-4376-AD51-493DC697D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0746-73B9-40D0-95E9-A4B8AFD3A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013B-D8ED-4F0A-8955-AAC8AE0A2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93E7E-E875-404A-92A6-CA5714783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833D6-2FF1-4AAB-B68B-F3D618446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0206E-65F1-42DD-9D92-8BA50A132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7B152-7290-4E7B-BF4A-BFDCFB5DF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9FCDF-B0CF-4992-AC24-A58EDB651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B29FF-B5AF-43FB-87DE-57507B8D2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E12F2-E811-41AB-AC8B-6E59A25D6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1425-A009-468D-9CE4-B0F80CC95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A1418-C925-45BD-8FAD-3F386FE48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2B7C3-206C-44E7-B511-7C6A14FDE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26D89-2F4E-434A-B623-A05ED4B0D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B0CDE-A7DA-4FFB-8985-38672D63A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BD73E-E691-4AA6-98FC-9419155A5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7DAFB-6BA2-4445-866D-5A380E118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13A4C-7D5A-4E4A-927A-DBD766840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B93B3-477C-4A2E-8403-6FB5153DA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D96A9-180A-496D-9920-913C7C45B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E83B1-4820-413A-B281-0051DAB31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2783-756B-43EC-80A3-2CFF5B241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32701-BD9E-425B-A9DA-FC4A4777B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3E284-4843-46C4-9D36-9462379E6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6B253-2CC6-49FD-A50E-372354167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EA464-308F-4A70-AE74-69B65CC89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A88AB-766A-4EDA-B9AC-DE1C4746C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31846-6326-431E-AD7D-41BCFBCE3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41D55-1B01-486A-86F0-747E3B615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D4B51-91F5-47B6-B290-669F66E49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2B0B4-7B79-4910-A157-91031E3A3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43DCF-48D5-4BE1-A413-C32030B11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FE4F-A1FE-4B7A-97A9-D1E1219D6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D3B19-29F9-4DBD-8479-347064FA6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BA730-A6D6-4737-8E36-FA398B4C6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648A3-12B7-4999-AD79-FA0248D0F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148ED-01EE-4CAF-B86D-F5ECBEDBC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A069D-17B5-488C-AFB7-DDB98C4AE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98C85-8B82-40DE-870E-1F51708CC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D08B3-21E2-45FF-AA08-621213E42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5077D6-B4C0-46C6-9958-CF95899EF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53F93F-21CD-4550-91E5-71A3DDA57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DB079D-E0FD-445A-9402-946D430C9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73C6-D430-4175-9F72-D0180CB4C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E35949-3A45-4A8A-A6D6-28C307B82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F4B528-4CAD-40D8-BA09-7F0BEDB6F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ED6C72-8D45-4E88-B9BF-AFF6B0A78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B2F1BD-B6D9-4075-B42B-634650D2C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DCD30F-84DA-4E83-AB58-CEF275D0B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2CA8EE-3D94-4B6E-B61F-B38BC0EDF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49DE2D-5BCF-478A-BABE-4106B5968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7EA424-268F-4705-A4C6-3A31C098D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87CF77-6A55-4EFE-A11A-BF7AF5440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C6BA6C-C0BA-4BB2-BDBE-A84942155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CEDC-80D4-492B-A80F-AC589E3CB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B04D80-ECE5-4DBC-B2EA-F9E6647C7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4D9F-8C3C-4BAF-AC6F-3D81F7972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1CD8-C633-495C-A414-70B346FCA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CBB7-5EE7-46E7-82EA-087504B52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pic>
          <p:nvPicPr>
            <p:cNvPr id="1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2560" cy="17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914400" y="539640"/>
              <a:ext cx="7391160" cy="257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40"/>
                  </a:moveTo>
                  <a:arcTo wR="10800" hR="10800" stAng="10787275" swAng="10808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40"/>
                  </a:moveTo>
                  <a:arcTo wR="10800" hR="10800" stAng="10787275" swAng="10808483"/>
                </a:path>
              </a:pathLst>
            </a:custGeom>
            <a:solidFill>
              <a:srgbClr val="fcce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752480"/>
              <a:ext cx="9142560" cy="5104080"/>
            </a:xfrm>
            <a:prstGeom prst="rect">
              <a:avLst/>
            </a:prstGeom>
            <a:gradFill rotWithShape="0">
              <a:gsLst>
                <a:gs pos="0">
                  <a:srgbClr val="f1cccc"/>
                </a:gs>
                <a:gs pos="100000">
                  <a:srgbClr val="c2759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1752480"/>
              <a:ext cx="9142560" cy="228600"/>
            </a:xfrm>
            <a:prstGeom prst="rect">
              <a:avLst/>
            </a:prstGeom>
            <a:solidFill>
              <a:srgbClr val="fcce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856560" y="1752480"/>
              <a:ext cx="2286000" cy="228600"/>
            </a:xfrm>
            <a:prstGeom prst="rect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fccea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52480"/>
              <a:ext cx="2286000" cy="228600"/>
            </a:xfrm>
            <a:prstGeom prst="rect">
              <a:avLst/>
            </a:prstGeom>
            <a:gradFill rotWithShape="0">
              <a:gsLst>
                <a:gs pos="0">
                  <a:srgbClr val="fccea7"/>
                </a:gs>
                <a:gs pos="100000">
                  <a:srgbClr val="66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1DB4E-4B0F-4CFE-8E50-62B78CAE4C62}" type="slidenum">
              <a:rPr b="0" lang="es-E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1cccc"/>
            </a:gs>
            <a:gs pos="50000">
              <a:srgbClr val="c27592"/>
            </a:gs>
            <a:gs pos="100000">
              <a:srgbClr val="f1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1752480"/>
            <a:ext cx="9142560" cy="3114000"/>
            <a:chOff x="0" y="1752480"/>
            <a:chExt cx="9142560" cy="3114000"/>
          </a:xfrm>
        </p:grpSpPr>
        <p:pic>
          <p:nvPicPr>
            <p:cNvPr id="49" name="" descr=""/>
            <p:cNvPicPr/>
            <p:nvPr/>
          </p:nvPicPr>
          <p:blipFill>
            <a:blip r:embed="rId2"/>
            <a:stretch/>
          </p:blipFill>
          <p:spPr>
            <a:xfrm>
              <a:off x="0" y="1752480"/>
              <a:ext cx="9142560" cy="17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914400" y="2292480"/>
              <a:ext cx="7391160" cy="2574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40"/>
                  </a:moveTo>
                  <a:arcTo wR="10800" hR="10800" stAng="10787275" swAng="10808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40"/>
                  </a:moveTo>
                  <a:arcTo wR="10800" hR="10800" stAng="10787275" swAng="10808483"/>
                </a:path>
              </a:pathLst>
            </a:custGeom>
            <a:solidFill>
              <a:srgbClr val="fcce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51" name=""/>
            <p:cNvGrpSpPr/>
            <p:nvPr/>
          </p:nvGrpSpPr>
          <p:grpSpPr>
            <a:xfrm>
              <a:off x="0" y="3505320"/>
              <a:ext cx="9142560" cy="228600"/>
              <a:chOff x="0" y="3505320"/>
              <a:chExt cx="9142560" cy="228600"/>
            </a:xfrm>
          </p:grpSpPr>
          <p:sp>
            <p:nvSpPr>
              <p:cNvPr id="52" name=""/>
              <p:cNvSpPr/>
              <p:nvPr/>
            </p:nvSpPr>
            <p:spPr>
              <a:xfrm>
                <a:off x="0" y="3505320"/>
                <a:ext cx="9142560" cy="228600"/>
              </a:xfrm>
              <a:prstGeom prst="rect">
                <a:avLst/>
              </a:prstGeom>
              <a:solidFill>
                <a:srgbClr val="fcce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856560" y="3505320"/>
                <a:ext cx="2286000" cy="228600"/>
              </a:xfrm>
              <a:prstGeom prst="rect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fccea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505320"/>
                <a:ext cx="2286000" cy="228600"/>
              </a:xfrm>
              <a:prstGeom prst="rect">
                <a:avLst/>
              </a:prstGeom>
              <a:gradFill rotWithShape="0">
                <a:gsLst>
                  <a:gs pos="0">
                    <a:srgbClr val="fccea7"/>
                  </a:gs>
                  <a:gs pos="100000">
                    <a:srgbClr val="66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24C79-F307-4CFA-939C-C042965F5E80}" type="slidenum">
              <a:rPr b="0" lang="es-E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66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EED9D-62D4-4314-A6A3-BA36198337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38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3DCD7-6046-462E-9E27-570F70D324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183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dt" idx="13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ftr" idx="14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212B4-8276-42C2-805D-F0A4FFE06E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www.boloncol.com/images/stories/boletin23/imag05/tristeza.jpg&amp;imgrefurl=http://www.boloncol.com/boletin-23/ayudar-en-el-duelo.html&amp;h=684&amp;w=553&amp;sz=37&amp;hl=es&amp;start=7&amp;tbnid=254xzZKYnxvm0M:&amp;tbnh=139&amp;tbnw=112&amp;prev=/images%3Fq%3Dduelo%2Bpatologico%26gbv%3D2%26ndsp%3D20%26hl%3Des%26sa%3DN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1cccc"/>
            </a:gs>
            <a:gs pos="50000">
              <a:srgbClr val="c27592"/>
            </a:gs>
            <a:gs pos="100000">
              <a:srgbClr val="f1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773000"/>
            <a:ext cx="7772400" cy="165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0099"/>
                </a:solidFill>
                <a:latin typeface="Comic Sans MS"/>
              </a:rPr>
              <a:t>Tr. Adaptativos o reactivos</a:t>
            </a:r>
            <a:endParaRPr b="0" lang="en-US" sz="4400" spc="-1" strike="noStrike">
              <a:solidFill>
                <a:srgbClr val="330099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2268000" y="5300640"/>
            <a:ext cx="648036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66"/>
                </a:solidFill>
                <a:latin typeface="Comic Sans MS"/>
              </a:rPr>
              <a:t>Dra. Gloria K. Toledo</a:t>
            </a:r>
            <a:endParaRPr b="0" lang="en-US" sz="3200" spc="-1" strike="noStrike">
              <a:solidFill>
                <a:srgbClr val="000066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66"/>
                </a:solidFill>
                <a:latin typeface="Comic Sans MS"/>
              </a:rPr>
              <a:t>Clínica Psiquiátrica Universitaria</a:t>
            </a:r>
            <a:endParaRPr b="0" lang="en-US" sz="3200" spc="-1" strike="noStrike">
              <a:solidFill>
                <a:srgbClr val="000066"/>
              </a:solidFill>
              <a:latin typeface="Comic Sans MS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3780000" y="2997360"/>
            <a:ext cx="1874520" cy="21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12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0099"/>
                </a:solidFill>
                <a:latin typeface="Comic Sans MS"/>
              </a:rPr>
              <a:t>Vulnerabilidad intrínseca</a:t>
            </a:r>
            <a:endParaRPr b="0" lang="en-US" sz="4400" spc="-1" strike="noStrike">
              <a:solidFill>
                <a:srgbClr val="330099"/>
              </a:solidFill>
              <a:latin typeface="Comic Sans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772400" cy="39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Comic Sans MS"/>
              </a:rPr>
              <a:t>Temperamento:</a:t>
            </a: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Comic Sans MS"/>
              </a:rPr>
              <a:t>Más importante</a:t>
            </a: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Comic Sans MS"/>
              </a:rPr>
              <a:t>Edad</a:t>
            </a: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Comic Sans MS"/>
              </a:rPr>
              <a:t>Inmadurez Intelectual y Emocional</a:t>
            </a: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Comic Sans MS"/>
              </a:rPr>
              <a:t>Esfuerzos inefectivos del niño para enfrentar el estres. </a:t>
            </a: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Comic Sans MS"/>
              </a:rPr>
              <a:t>Sobreprotección</a:t>
            </a: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Comic Sans MS"/>
              </a:rPr>
              <a:t>Niños dependientes, daño cerebral mayor riesgo de desarrollar un Trastorno Adaptativo.</a:t>
            </a: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Comic Sans MS"/>
              </a:rPr>
              <a:t>4.Experiencias temprana</a:t>
            </a: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Comic Sans MS"/>
              </a:rPr>
              <a:t>5.Género</a:t>
            </a: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0099"/>
                </a:solidFill>
                <a:latin typeface="Comic Sans MS"/>
              </a:rPr>
              <a:t>Vulnerabilidad Extrínseca</a:t>
            </a:r>
            <a:endParaRPr b="0" lang="en-US" sz="4400" spc="-1" strike="noStrike">
              <a:solidFill>
                <a:srgbClr val="330099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66"/>
                </a:solidFill>
                <a:latin typeface="Comic Sans MS"/>
              </a:rPr>
              <a:t>Disfunción subsistema parental </a:t>
            </a:r>
            <a:endParaRPr b="0" lang="en-US" sz="32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66"/>
                </a:solidFill>
                <a:latin typeface="Comic Sans MS"/>
              </a:rPr>
              <a:t>Familias caótica o desorganizada </a:t>
            </a:r>
            <a:endParaRPr b="0" lang="en-US" sz="32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66"/>
                </a:solidFill>
                <a:latin typeface="Comic Sans MS"/>
              </a:rPr>
              <a:t>Escasas redes sociales y/o falencias en la comunidad</a:t>
            </a:r>
            <a:endParaRPr b="0" lang="en-US" sz="32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66"/>
                </a:solidFill>
                <a:latin typeface="Comic Sans MS"/>
              </a:rPr>
              <a:t>M de crianza sobreprotector, negligente, violento.</a:t>
            </a:r>
            <a:endParaRPr b="0" lang="en-US" sz="32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330099"/>
                </a:solidFill>
                <a:latin typeface="Comic Sans MS"/>
              </a:rPr>
              <a:t>Entonces ..¿Cómo  evaluar un tr   adaptativo?</a:t>
            </a:r>
            <a:endParaRPr b="0" lang="en-US" sz="4000" spc="-1" strike="noStrike">
              <a:solidFill>
                <a:srgbClr val="330099"/>
              </a:solidFill>
              <a:latin typeface="Comic Sans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66"/>
                </a:solidFill>
                <a:latin typeface="Comic Sans MS"/>
              </a:rPr>
              <a:t>Evaluación completa:</a:t>
            </a:r>
            <a:endParaRPr b="0" lang="en-US" sz="32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66"/>
                </a:solidFill>
                <a:latin typeface="Comic Sans MS"/>
              </a:rPr>
              <a:t>Entrevista con el niño o adolescente y sus padres.</a:t>
            </a:r>
            <a:endParaRPr b="0" lang="en-US" sz="2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66"/>
                </a:solidFill>
                <a:latin typeface="Comic Sans MS"/>
              </a:rPr>
              <a:t>Historia del desarrollo, sucesos vitales,  y comportamientos del paciente, así como del suceso que provocó el estrés.  </a:t>
            </a:r>
            <a:endParaRPr b="0" lang="en-US" sz="2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50920" y="6091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Comic Sans MS"/>
              </a:rPr>
              <a:t>Criterios DSM IV</a:t>
            </a:r>
            <a:endParaRPr b="0" lang="en-US" sz="4400" spc="-1" strike="noStrike">
              <a:solidFill>
                <a:srgbClr val="330099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79280" y="2060280"/>
            <a:ext cx="4464000" cy="453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66"/>
                </a:solidFill>
                <a:latin typeface="Comic Sans MS"/>
              </a:rPr>
              <a:t>Síntomas emocionales y/o del comportamiento frente a estresor identificable dentro de los 3 ms siguientes. </a:t>
            </a:r>
            <a:endParaRPr b="0" lang="en-US" sz="2200" spc="-1" strike="noStrike">
              <a:solidFill>
                <a:srgbClr val="000066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66"/>
                </a:solidFill>
                <a:latin typeface="Comic Sans MS"/>
              </a:rPr>
              <a:t>	</a:t>
            </a:r>
            <a:endParaRPr b="0" lang="en-US" sz="2200" spc="-1" strike="noStrike">
              <a:solidFill>
                <a:srgbClr val="000066"/>
              </a:solidFill>
              <a:latin typeface="Comic Sans MS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66"/>
                </a:solidFill>
                <a:latin typeface="Comic Sans MS"/>
              </a:rPr>
              <a:t>Estos síntomas se expresa como:</a:t>
            </a:r>
            <a:endParaRPr b="0" lang="en-US" sz="2200" spc="-1" strike="noStrike">
              <a:solidFill>
                <a:srgbClr val="000066"/>
              </a:solidFill>
              <a:latin typeface="Comic Sans MS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Comic Sans MS"/>
              </a:rPr>
              <a:t>Malestar mayor del esperable en respuesta al estresante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2" marL="108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Comic Sans MS"/>
              </a:rPr>
              <a:t>Deterioro significativo  de la actividad social o académica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31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66"/>
                </a:solidFill>
                <a:latin typeface="Comic Sans MS"/>
              </a:rPr>
              <a:t>No cumple los criterios para otro trast. del Eje I y no es una exacerbación de un tr. preexistente.</a:t>
            </a:r>
            <a:endParaRPr b="0" lang="en-US" sz="22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66"/>
                </a:solidFill>
                <a:latin typeface="Comic Sans MS"/>
              </a:rPr>
              <a:t>No responden a una reacción de duelo</a:t>
            </a:r>
            <a:endParaRPr b="0" lang="en-US" sz="22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66"/>
                </a:solidFill>
                <a:latin typeface="Comic Sans MS"/>
              </a:rPr>
              <a:t>Cesado el estresor los síntomas no persisten por más de 6 meses</a:t>
            </a:r>
            <a:endParaRPr b="0" lang="en-US" sz="22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Comic Sans MS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6696000" y="260280"/>
            <a:ext cx="2448000" cy="14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0099"/>
                </a:solidFill>
                <a:latin typeface="Comic Sans MS"/>
                <a:ea typeface="Arial"/>
              </a:rPr>
              <a:t>Tipos de trastornos adaptativos</a:t>
            </a:r>
            <a:endParaRPr b="0" lang="en-US" sz="4000" spc="-1" strike="noStrike">
              <a:solidFill>
                <a:srgbClr val="330099"/>
              </a:solidFill>
              <a:latin typeface="Comic Sans MS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4920" y="1428840"/>
            <a:ext cx="50338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70000"/>
              </a:lnSpc>
              <a:spcBef>
                <a:spcPts val="55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66"/>
                </a:solidFill>
                <a:latin typeface="Comic Sans MS"/>
                <a:ea typeface="Arial"/>
              </a:rPr>
              <a:t>Con estado de ánimo depresivo</a:t>
            </a:r>
            <a:endParaRPr b="0" lang="en-US" sz="2200" spc="-1" strike="noStrike">
              <a:solidFill>
                <a:srgbClr val="000066"/>
              </a:solidFill>
              <a:latin typeface="Comic Sans MS"/>
            </a:endParaRPr>
          </a:p>
          <a:p>
            <a:pPr marL="411120" indent="-342720">
              <a:lnSpc>
                <a:spcPct val="70000"/>
              </a:lnSpc>
              <a:spcBef>
                <a:spcPts val="55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Comic Sans MS"/>
            </a:endParaRPr>
          </a:p>
          <a:p>
            <a:pPr marL="411120" indent="-342720">
              <a:lnSpc>
                <a:spcPct val="70000"/>
              </a:lnSpc>
              <a:spcBef>
                <a:spcPts val="55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66"/>
                </a:solidFill>
                <a:latin typeface="Comic Sans MS"/>
                <a:ea typeface="Arial"/>
              </a:rPr>
              <a:t>Con estado de ánimo ansioso</a:t>
            </a:r>
            <a:endParaRPr b="0" lang="en-US" sz="2200" spc="-1" strike="noStrike">
              <a:solidFill>
                <a:srgbClr val="000066"/>
              </a:solidFill>
              <a:latin typeface="Comic Sans MS"/>
            </a:endParaRPr>
          </a:p>
          <a:p>
            <a:pPr marL="411120" indent="-342720">
              <a:lnSpc>
                <a:spcPct val="70000"/>
              </a:lnSpc>
              <a:spcBef>
                <a:spcPts val="55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Comic Sans MS"/>
            </a:endParaRPr>
          </a:p>
          <a:p>
            <a:pPr marL="411120" indent="-342720">
              <a:lnSpc>
                <a:spcPct val="70000"/>
              </a:lnSpc>
              <a:spcBef>
                <a:spcPts val="55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66"/>
                </a:solidFill>
                <a:latin typeface="Comic Sans MS"/>
                <a:ea typeface="Arial"/>
              </a:rPr>
              <a:t>Con alteración mixta de estado de ánimo depresivo y ansioso</a:t>
            </a:r>
            <a:endParaRPr b="0" lang="en-US" sz="2200" spc="-1" strike="noStrike">
              <a:solidFill>
                <a:srgbClr val="000066"/>
              </a:solidFill>
              <a:latin typeface="Comic Sans MS"/>
            </a:endParaRPr>
          </a:p>
          <a:p>
            <a:pPr marL="411120" indent="-342720">
              <a:lnSpc>
                <a:spcPct val="70000"/>
              </a:lnSpc>
              <a:spcBef>
                <a:spcPts val="55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Comic Sans MS"/>
            </a:endParaRPr>
          </a:p>
          <a:p>
            <a:pPr marL="411120" indent="-342720">
              <a:lnSpc>
                <a:spcPct val="70000"/>
              </a:lnSpc>
              <a:spcBef>
                <a:spcPts val="55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66"/>
                </a:solidFill>
                <a:latin typeface="Comic Sans MS"/>
                <a:ea typeface="Arial"/>
              </a:rPr>
              <a:t>Con alteración de la conducta</a:t>
            </a:r>
            <a:endParaRPr b="0" lang="en-US" sz="2200" spc="-1" strike="noStrike">
              <a:solidFill>
                <a:srgbClr val="000066"/>
              </a:solidFill>
              <a:latin typeface="Comic Sans MS"/>
            </a:endParaRPr>
          </a:p>
          <a:p>
            <a:pPr marL="411120" indent="-34272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marL="411120" indent="-342720">
              <a:lnSpc>
                <a:spcPct val="70000"/>
              </a:lnSpc>
              <a:spcBef>
                <a:spcPts val="55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66"/>
                </a:solidFill>
                <a:latin typeface="Comic Sans MS"/>
                <a:ea typeface="Arial"/>
              </a:rPr>
              <a:t>Con alteración mixta de la conducta y las emociones.</a:t>
            </a:r>
            <a:endParaRPr b="0" lang="en-US" sz="2200" spc="-1" strike="noStrike">
              <a:solidFill>
                <a:srgbClr val="000066"/>
              </a:solidFill>
              <a:latin typeface="Comic Sans MS"/>
            </a:endParaRPr>
          </a:p>
          <a:p>
            <a:pPr marL="411120" indent="-342720">
              <a:lnSpc>
                <a:spcPct val="70000"/>
              </a:lnSpc>
              <a:spcBef>
                <a:spcPts val="55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Comic Sans MS"/>
            </a:endParaRPr>
          </a:p>
          <a:p>
            <a:pPr marL="411120" indent="-342720">
              <a:lnSpc>
                <a:spcPct val="70000"/>
              </a:lnSpc>
              <a:spcBef>
                <a:spcPts val="4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66"/>
                </a:solidFill>
                <a:latin typeface="Comic Sans MS"/>
                <a:ea typeface="Arial"/>
              </a:rPr>
              <a:t>No especificado </a:t>
            </a:r>
            <a:r>
              <a:rPr b="0" lang="es-CL" sz="1600" spc="-1" strike="noStrike">
                <a:solidFill>
                  <a:srgbClr val="000066"/>
                </a:solidFill>
                <a:latin typeface="Comic Sans MS"/>
                <a:ea typeface="Arial"/>
              </a:rPr>
              <a:t>(quejas somáticas, aislamiento social e inhibición  académica o social)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</p:txBody>
      </p:sp>
      <p:pic>
        <p:nvPicPr>
          <p:cNvPr id="273" name="3 Imagen" descr="faces[1]_0.tmp"/>
          <p:cNvPicPr/>
          <p:nvPr/>
        </p:nvPicPr>
        <p:blipFill>
          <a:blip r:embed="rId1"/>
          <a:stretch/>
        </p:blipFill>
        <p:spPr>
          <a:xfrm>
            <a:off x="5715000" y="1428840"/>
            <a:ext cx="2928960" cy="46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0099"/>
                </a:solidFill>
                <a:latin typeface="Comic Sans MS"/>
              </a:rPr>
              <a:t>Diagnostico Diferencial</a:t>
            </a:r>
            <a:endParaRPr b="0" lang="en-US" sz="4400" spc="-1" strike="noStrike">
              <a:solidFill>
                <a:srgbClr val="330099"/>
              </a:solidFill>
              <a:latin typeface="Comic Sans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66"/>
                </a:solidFill>
                <a:latin typeface="Comic Sans MS"/>
              </a:rPr>
              <a:t>Reacción normal a situaciones estresantes</a:t>
            </a:r>
            <a:endParaRPr b="0" lang="en-US" sz="28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66"/>
                </a:solidFill>
                <a:latin typeface="Comic Sans MS"/>
              </a:rPr>
              <a:t>Duelo normal</a:t>
            </a:r>
            <a:endParaRPr b="0" lang="en-US" sz="28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66"/>
                </a:solidFill>
                <a:latin typeface="Comic Sans MS"/>
              </a:rPr>
              <a:t>Tr por estrés agudo</a:t>
            </a:r>
            <a:endParaRPr b="0" lang="en-US" sz="28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66"/>
                </a:solidFill>
                <a:latin typeface="Comic Sans MS"/>
              </a:rPr>
              <a:t>PTSD</a:t>
            </a:r>
            <a:endParaRPr b="0" lang="en-US" sz="28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66"/>
                </a:solidFill>
                <a:latin typeface="Comic Sans MS"/>
              </a:rPr>
              <a:t>Descompensación de pacientes portadores de tr de la personalidad(ojo! Sintomas deben ser explicados x tr.)</a:t>
            </a:r>
            <a:endParaRPr b="0" lang="en-US" sz="28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66"/>
                </a:solidFill>
                <a:latin typeface="Comic Sans MS"/>
              </a:rPr>
              <a:t>Tr depresivos y angustiosos</a:t>
            </a:r>
            <a:endParaRPr b="0" lang="en-US" sz="28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66"/>
                </a:solidFill>
                <a:latin typeface="Comic Sans MS"/>
              </a:rPr>
              <a:t>Tr de conducta</a:t>
            </a:r>
            <a:endParaRPr b="0" lang="en-US" sz="28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omic Sans MS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6705720" y="4351320"/>
            <a:ext cx="2187360" cy="19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0099"/>
                </a:solidFill>
                <a:latin typeface="Comic Sans MS"/>
                <a:ea typeface="Arial"/>
              </a:rPr>
              <a:t>Tratamiento</a:t>
            </a:r>
            <a:r>
              <a:rPr b="0" lang="es-CL" sz="4400" spc="-1" strike="noStrike">
                <a:solidFill>
                  <a:srgbClr val="330099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330099"/>
              </a:solidFill>
              <a:latin typeface="Comic Sans MS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211280" y="1784520"/>
            <a:ext cx="4475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Realizado por el profesional que realiza la 1ª atención (médico general, pediatra, psicolólogo, etc.)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411120" indent="-34272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411120" indent="-34272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Educación de los padres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411120" indent="-34272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411120" indent="-34272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Fomentar expresión emocional en el niño o adolescente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411120" indent="-34272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411120" indent="-34272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Trastorno de gran intensidad, persistente o se agrava, derivar a psiquiatría infantil y de la adolescencia 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411120" indent="-342720">
              <a:lnSpc>
                <a:spcPct val="6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411120" indent="-342720">
              <a:lnSpc>
                <a:spcPct val="6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</p:txBody>
      </p:sp>
      <p:pic>
        <p:nvPicPr>
          <p:cNvPr id="279" name="Picture 5" descr="http://www.kindsein.com/cgi-bin/get_img?NrImage=2&amp;NrArticle=605"/>
          <p:cNvPicPr/>
          <p:nvPr/>
        </p:nvPicPr>
        <p:blipFill>
          <a:blip r:embed="rId1"/>
          <a:stretch/>
        </p:blipFill>
        <p:spPr>
          <a:xfrm>
            <a:off x="642960" y="2143080"/>
            <a:ext cx="314316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Comic Sans MS"/>
              </a:rPr>
              <a:t>Psicoterapia individual</a:t>
            </a:r>
            <a:endParaRPr b="0" lang="en-US" sz="4400" spc="-1" strike="noStrike">
              <a:solidFill>
                <a:srgbClr val="330099"/>
              </a:solidFill>
              <a:latin typeface="Comic Sans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50920" y="1989000"/>
            <a:ext cx="8207280" cy="460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66"/>
                </a:solidFill>
                <a:latin typeface="Comic Sans MS"/>
              </a:rPr>
              <a:t>Contexto emocional seguro. </a:t>
            </a:r>
            <a:endParaRPr b="0" lang="en-US" sz="22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66"/>
                </a:solidFill>
                <a:latin typeface="Comic Sans MS"/>
              </a:rPr>
              <a:t>Facilitar que el niño establezca relación temporal entre estresor y síntomas.</a:t>
            </a:r>
            <a:endParaRPr b="0" lang="en-US" sz="22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66"/>
                </a:solidFill>
                <a:latin typeface="Comic Sans MS"/>
              </a:rPr>
              <a:t>Terapia dirigida a la solución de problemas (enfrentamiento posterior) </a:t>
            </a:r>
            <a:endParaRPr b="0" lang="en-US" sz="22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Comic Sans MS"/>
                <a:ea typeface="Arial"/>
              </a:rPr>
              <a:t>Tomar en cuenta los síntomas y edad del paciente (Preescolares: técnicas no verbales) </a:t>
            </a:r>
            <a:endParaRPr b="0" lang="en-US" sz="22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 algn="just">
              <a:lnSpc>
                <a:spcPct val="110000"/>
              </a:lnSpc>
              <a:spcBef>
                <a:spcPts val="55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Comic Sans MS"/>
                <a:ea typeface="Arial"/>
              </a:rPr>
              <a:t>Facilitar, contener y respetar las expresión emocional del niño o adolescente.</a:t>
            </a:r>
            <a:endParaRPr b="0" lang="en-US" sz="22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Comic Sans MS"/>
                <a:ea typeface="Arial"/>
              </a:rPr>
              <a:t>Legitimar sentimientos como rabia, temor y tristeza</a:t>
            </a:r>
            <a:endParaRPr b="0" lang="en-US" sz="22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Comic Sans MS"/>
                <a:ea typeface="Arial"/>
              </a:rPr>
              <a:t>Evitar sobreprotección –sobre involucración</a:t>
            </a:r>
            <a:endParaRPr b="0" lang="en-US" sz="22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Comic Sans MS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272360" y="5157720"/>
            <a:ext cx="187164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0099"/>
                </a:solidFill>
                <a:latin typeface="Comic Sans MS"/>
                <a:ea typeface="Arial"/>
              </a:rPr>
              <a:t>Tratamiento sintomático…</a:t>
            </a:r>
            <a:endParaRPr b="0" lang="en-US" sz="4400" spc="-1" strike="noStrike">
              <a:solidFill>
                <a:srgbClr val="330099"/>
              </a:solidFill>
              <a:latin typeface="Comic Sans MS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900000" y="2276280"/>
            <a:ext cx="77868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Comic Sans MS"/>
                <a:ea typeface="Arial"/>
              </a:rPr>
              <a:t>En caso de síntomas que impidan el funcionamiento del niño se indicarán ansiolíticos. Por tiempo breve (1 semana)</a:t>
            </a: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marL="411120" indent="-34272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marL="411120" indent="-34272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Comic Sans MS"/>
                <a:ea typeface="Arial"/>
              </a:rPr>
              <a:t>Antidepresivos tienen indicación limitada , por latencia en acción y duración breve de la mayoría de los trastornos adaptativos</a:t>
            </a: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0099"/>
                </a:solidFill>
                <a:latin typeface="Comic Sans MS"/>
                <a:ea typeface="Arial"/>
              </a:rPr>
              <a:t>Con los padres…</a:t>
            </a:r>
            <a:endParaRPr b="0" lang="en-US" sz="4400" spc="-1" strike="noStrike">
              <a:solidFill>
                <a:srgbClr val="330099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95280" y="1428480"/>
            <a:ext cx="446256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Comic Sans MS"/>
                <a:ea typeface="Arial"/>
              </a:rPr>
              <a:t>Ayudar a entender lo que le pasa al niño: sentimientos de angustia, temor,tristeza y rabia</a:t>
            </a: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Comic Sans MS"/>
                <a:ea typeface="Arial"/>
              </a:rPr>
              <a:t>Favorecer y estimular respuestas sanas</a:t>
            </a: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Comic Sans MS"/>
                <a:ea typeface="Arial"/>
              </a:rPr>
              <a:t>Minimizar respuestas problemáticas o desadaptativas</a:t>
            </a: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Comic Sans MS"/>
                <a:ea typeface="Arial"/>
              </a:rPr>
              <a:t>Papel protector de situaciones estresantes </a:t>
            </a: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pic>
        <p:nvPicPr>
          <p:cNvPr id="287" name="Picture 8" descr="http://www.elprogresohispano.com/noticias/243_educacion.jpg"/>
          <p:cNvPicPr/>
          <p:nvPr/>
        </p:nvPicPr>
        <p:blipFill>
          <a:blip r:embed="rId1"/>
          <a:stretch/>
        </p:blipFill>
        <p:spPr>
          <a:xfrm>
            <a:off x="5000760" y="2071800"/>
            <a:ext cx="321444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50560" y="475920"/>
            <a:ext cx="8893080" cy="5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0099"/>
                </a:solidFill>
                <a:latin typeface="Comic Sans MS"/>
              </a:rPr>
              <a:t>¿Qué es un</a:t>
            </a:r>
            <a:r>
              <a:rPr b="1" i="1" lang="en-US" sz="4800" spc="-1" strike="noStrike">
                <a:solidFill>
                  <a:srgbClr val="330099"/>
                </a:solidFill>
                <a:latin typeface="Comic Sans MS"/>
              </a:rPr>
              <a:t> </a:t>
            </a:r>
            <a:r>
              <a:rPr b="0" i="1" lang="en-US" sz="4800" spc="-1" strike="noStrike">
                <a:solidFill>
                  <a:srgbClr val="330099"/>
                </a:solidFill>
                <a:latin typeface="Comic Sans MS"/>
              </a:rPr>
              <a:t>tr. adaptativo?</a:t>
            </a:r>
            <a:endParaRPr b="0" lang="en-US" sz="4800" spc="-1" strike="noStrike">
              <a:solidFill>
                <a:srgbClr val="330099"/>
              </a:solidFill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000066"/>
                </a:solidFill>
                <a:latin typeface="Comic Sans MS"/>
              </a:rPr>
              <a:t>Es una respuesta de </a:t>
            </a:r>
            <a:r>
              <a:rPr b="1" i="1" lang="es-CL" sz="3100" spc="-1" strike="noStrike">
                <a:solidFill>
                  <a:srgbClr val="330099"/>
                </a:solidFill>
                <a:latin typeface="Comic Sans MS"/>
              </a:rPr>
              <a:t>intensidad patológica</a:t>
            </a:r>
            <a:r>
              <a:rPr b="0" lang="es-CL" sz="3100" spc="-1" strike="noStrike">
                <a:solidFill>
                  <a:srgbClr val="000066"/>
                </a:solidFill>
                <a:latin typeface="Comic Sans MS"/>
              </a:rPr>
              <a:t>  que se presenta frente a un </a:t>
            </a:r>
            <a:r>
              <a:rPr b="1" i="1" lang="es-CL" sz="3100" spc="-1" strike="noStrike">
                <a:solidFill>
                  <a:srgbClr val="330099"/>
                </a:solidFill>
                <a:latin typeface="Comic Sans MS"/>
              </a:rPr>
              <a:t>estresor identificable</a:t>
            </a:r>
            <a:r>
              <a:rPr b="0" lang="es-CL" sz="3100" spc="-1" strike="noStrike">
                <a:solidFill>
                  <a:srgbClr val="000066"/>
                </a:solidFill>
                <a:latin typeface="Comic Sans MS"/>
              </a:rPr>
              <a:t> que </a:t>
            </a:r>
            <a:r>
              <a:rPr b="1" i="1" lang="es-CL" sz="3100" spc="-1" strike="noStrike">
                <a:solidFill>
                  <a:srgbClr val="330099"/>
                </a:solidFill>
                <a:latin typeface="Comic Sans MS"/>
              </a:rPr>
              <a:t>sobrepasa</a:t>
            </a:r>
            <a:r>
              <a:rPr b="1" lang="es-CL" sz="31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0" lang="es-CL" sz="3100" spc="-1" strike="noStrike">
                <a:solidFill>
                  <a:srgbClr val="000066"/>
                </a:solidFill>
                <a:latin typeface="Comic Sans MS"/>
              </a:rPr>
              <a:t>la </a:t>
            </a:r>
            <a:r>
              <a:rPr b="1" i="1" lang="es-CL" sz="3100" spc="-1" strike="noStrike">
                <a:solidFill>
                  <a:srgbClr val="330099"/>
                </a:solidFill>
                <a:latin typeface="Comic Sans MS"/>
              </a:rPr>
              <a:t>capacidad adaptativa</a:t>
            </a:r>
            <a:r>
              <a:rPr b="0" lang="es-CL" sz="3100" spc="-1" strike="noStrike">
                <a:solidFill>
                  <a:srgbClr val="000066"/>
                </a:solidFill>
                <a:latin typeface="Comic Sans MS"/>
              </a:rPr>
              <a:t>  del individuo para su edad.</a:t>
            </a:r>
            <a:endParaRPr b="0" lang="en-US" sz="31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774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000066"/>
                </a:solidFill>
                <a:latin typeface="Comic Sans MS"/>
              </a:rPr>
              <a:t>Relación estresor/respuesta</a:t>
            </a:r>
            <a:endParaRPr b="0" lang="en-US" sz="3100" spc="-1" strike="noStrike">
              <a:solidFill>
                <a:srgbClr val="0000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0099"/>
                </a:solidFill>
                <a:latin typeface="Comic Sans MS"/>
                <a:ea typeface="Arial"/>
              </a:rPr>
              <a:t>Pronóstico</a:t>
            </a:r>
            <a:r>
              <a:rPr b="0" lang="es-ES_tradnl" sz="4400" spc="-1" strike="noStrike">
                <a:solidFill>
                  <a:srgbClr val="330099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330099"/>
              </a:solidFill>
              <a:latin typeface="Comic Sans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Comic Sans MS"/>
                <a:ea typeface="Arial"/>
              </a:rPr>
              <a:t>Oportunidad de tratamiento</a:t>
            </a: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Comic Sans MS"/>
                <a:ea typeface="Arial"/>
              </a:rPr>
              <a:t>Reversibilidad de los síntomas</a:t>
            </a: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Comic Sans MS"/>
                <a:ea typeface="Arial"/>
              </a:rPr>
              <a:t>Apoyo familiar</a:t>
            </a: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Comic Sans MS"/>
                <a:ea typeface="Arial"/>
              </a:rPr>
              <a:t>Gravedad de la sintomatología</a:t>
            </a: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Comic Sans MS"/>
                <a:ea typeface="Arial"/>
              </a:rPr>
              <a:t>Persistencia de factores estresantes</a:t>
            </a: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Comic Sans MS"/>
                <a:ea typeface="Arial"/>
              </a:rPr>
              <a:t>Presencia de comorbilidad</a:t>
            </a: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Comic Sans MS"/>
                <a:ea typeface="Arial"/>
              </a:rPr>
              <a:t>    </a:t>
            </a:r>
            <a:r>
              <a:rPr b="1" lang="es-ES_tradnl" sz="2400" spc="-1" strike="noStrike">
                <a:solidFill>
                  <a:srgbClr val="000066"/>
                </a:solidFill>
                <a:latin typeface="Comic Sans MS"/>
                <a:ea typeface="Arial"/>
              </a:rPr>
              <a:t>*Generalmente resolución   completa continuando desarrollo normal</a:t>
            </a: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ffffff"/>
                </a:solidFill>
                <a:latin typeface="Arial"/>
              </a:rPr>
              <a:t>Duelo en niños y adolescent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1619280" y="1557360"/>
            <a:ext cx="5689440" cy="4464000"/>
          </a:xfrm>
          <a:prstGeom prst="rect">
            <a:avLst/>
          </a:prstGeom>
          <a:ln w="57240">
            <a:solidFill>
              <a:srgbClr val="99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ffffff"/>
                </a:solidFill>
                <a:latin typeface="Comic Sans MS"/>
              </a:rPr>
              <a:t>¿Qué es el duelo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611280" y="1568160"/>
            <a:ext cx="79200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Pérdida irrever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Muerte de personas significativas conectadas por vínculos afec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Extendido  a otras pérdidas: de funciones y órganos, del ciclo vital y la propia mue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mic Sans MS"/>
              </a:rPr>
              <a:t>Duelo norm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Todas las personas que sufren pérdidas tienen procesos de due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El duelo tiene períodos de angustia y depres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Influencia cultural en su manifest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78920" y="228600"/>
            <a:ext cx="803124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ffffff"/>
                </a:solidFill>
                <a:latin typeface="Comic Sans MS"/>
              </a:rPr>
              <a:t>Manifestaciones del duelo normal</a:t>
            </a:r>
            <a:br>
              <a:rPr sz="3800"/>
            </a:b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68000" y="1196640"/>
            <a:ext cx="821844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Sentimientos, sensaciones físicas, cogniciones, percepciones y conductas, después de una pérdida significati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Sin cambios significativos en la autoestima del individu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Funcionamiento social y ocupacional puede alterarse en forma leve y transito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Evaluación realista de la persona perdida, sin idealizaciones patológicas ni irre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Malestar intenso disminuye en 6-12 seman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La ideación suicida es rara o transito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0000"/>
                </a:solidFill>
                <a:latin typeface="Arial"/>
              </a:rPr>
              <a:t>Etapas del duelo (</a:t>
            </a: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E.</a:t>
            </a:r>
            <a:r>
              <a:rPr b="0" lang="es-CL" sz="2900" spc="-1" strike="noStrike">
                <a:solidFill>
                  <a:srgbClr val="000000"/>
                </a:solidFill>
                <a:latin typeface="Arial"/>
              </a:rPr>
              <a:t>Kübler Ross</a:t>
            </a: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Negación y aislamiento: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“Yo no, no puede ser ciert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abia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“¿Por qué yo?”,r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abia hacia Dios,envidia hacia ot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Negociación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Intentos de postponer: “Si pudiera vivir tan sólo para alcanzar a ver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4. Depresión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:“Sí, es a mí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5. Aceptación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“Es inevitabl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Etapas del duelo </a:t>
            </a: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(Lindenmann, Brown, Schulz)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ase inicial o de evitació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hock e incredulidad, protege de reacciones inten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ura horas, semanas o me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risteza, llanto frecuen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Fase aguda de duel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6 meses o má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olor por separación, apego o rechazo de posesion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conocer la ambivalencia de  rela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Fase final Resolución del duel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radual reconexión con vida diari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cuerdos traen sentimientos cariñosos, mezclados con tristez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4"/>
          <p:cNvSpPr/>
          <p:nvPr/>
        </p:nvSpPr>
        <p:spPr>
          <a:xfrm>
            <a:off x="762120" y="30492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66"/>
                </a:solidFill>
                <a:latin typeface="Comic Sans MS"/>
                <a:ea typeface="Arial"/>
              </a:rPr>
              <a:t>Tareas del duelo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2" name="Rectangle 5"/>
          <p:cNvSpPr/>
          <p:nvPr/>
        </p:nvSpPr>
        <p:spPr>
          <a:xfrm>
            <a:off x="4643280" y="1523880"/>
            <a:ext cx="41436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Comic Sans MS"/>
                <a:ea typeface="Arial"/>
              </a:rPr>
              <a:t>Aceptar la realidad de la pérdid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Comic Sans MS"/>
                <a:ea typeface="Arial"/>
              </a:rPr>
              <a:t>Elaborar las emociones y el dolor de la pérdid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Comic Sans MS"/>
                <a:ea typeface="Arial"/>
              </a:rPr>
              <a:t>Adaptarse a un ambiente en que la persona fallecida está ausent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Comic Sans MS"/>
                <a:ea typeface="Arial"/>
              </a:rPr>
              <a:t>Reubicar emocionalmente al fallecido y continuar viviendo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826920" y="1700280"/>
            <a:ext cx="3265560" cy="39877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4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Comic Sans MS"/>
                <a:ea typeface="Arial"/>
              </a:rPr>
              <a:t>Duelo patológico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5" name="Rectangle 5"/>
          <p:cNvSpPr/>
          <p:nvPr/>
        </p:nvSpPr>
        <p:spPr>
          <a:xfrm>
            <a:off x="857160" y="1341360"/>
            <a:ext cx="7840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6" name="Rectangle 9"/>
          <p:cNvSpPr/>
          <p:nvPr/>
        </p:nvSpPr>
        <p:spPr>
          <a:xfrm>
            <a:off x="6617160" y="582840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28760" y="1557000"/>
            <a:ext cx="8229600" cy="59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mic Sans MS"/>
              </a:rPr>
              <a:t>Definición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: “Intensificación del duelo al nivel en que la persona está desbordada, recurre a conductas desadaptativas, o permanece en este estado sin avanzar en el proceso de duelo hacia su resolució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No existe como diagnóstico en DSM I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3635280" y="3429000"/>
            <a:ext cx="4824360" cy="32576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ffffff"/>
                </a:solidFill>
                <a:latin typeface="Arial"/>
              </a:rPr>
              <a:t>Duelo patológic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561636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RACTERIST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uede no estar relacionado temporalmente a la pérd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ueden existir sentimientos de  auto devaluación o culpa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nten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lteración funcional significa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persona muerta es idealizada o distorsion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ueden presentarse molestias vegetativas persist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deación suicida comú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156000" y="1341000"/>
            <a:ext cx="2987640" cy="2087640"/>
          </a:xfrm>
          <a:prstGeom prst="rect">
            <a:avLst/>
          </a:prstGeom>
          <a:noFill/>
          <a:ln w="38160">
            <a:solidFill>
              <a:srgbClr val="9999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IP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uelo crón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uelo retras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uelo exager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uelo enmascar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6" descr="http://tbn0.google.com/images?q=tbn:254xzZKYnxvm0M:http://www.boloncol.com/images/stories/boletin23/imag05/tristez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59640" y="3933720"/>
            <a:ext cx="2143080" cy="2500560"/>
          </a:xfrm>
          <a:prstGeom prst="rect">
            <a:avLst/>
          </a:prstGeom>
          <a:ln w="38160">
            <a:solidFill>
              <a:srgbClr val="99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0099"/>
                </a:solidFill>
                <a:latin typeface="Comic Sans MS"/>
              </a:rPr>
              <a:t>¿Y cuando se presenta ?</a:t>
            </a:r>
            <a:endParaRPr b="0" lang="en-US" sz="4400" spc="-1" strike="noStrike">
              <a:solidFill>
                <a:srgbClr val="330099"/>
              </a:solidFill>
              <a:latin typeface="Comic Sans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362800" cy="453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66"/>
                </a:solidFill>
                <a:latin typeface="Comic Sans MS"/>
              </a:rPr>
              <a:t>Entre los </a:t>
            </a:r>
            <a:r>
              <a:rPr b="0" i="1" lang="es-CL" sz="3200" spc="-1" strike="noStrike">
                <a:solidFill>
                  <a:srgbClr val="000066"/>
                </a:solidFill>
                <a:latin typeface="Comic Sans MS"/>
              </a:rPr>
              <a:t>3 ms</a:t>
            </a:r>
            <a:r>
              <a:rPr b="0" lang="es-CL" sz="3200" spc="-1" strike="noStrike">
                <a:solidFill>
                  <a:srgbClr val="000066"/>
                </a:solidFill>
                <a:latin typeface="Comic Sans MS"/>
              </a:rPr>
              <a:t> posterior a la exposición al estresor ,hasta los </a:t>
            </a:r>
            <a:r>
              <a:rPr b="0" i="1" lang="es-CL" sz="3200" spc="-1" strike="noStrike">
                <a:solidFill>
                  <a:srgbClr val="000066"/>
                </a:solidFill>
                <a:latin typeface="Comic Sans MS"/>
              </a:rPr>
              <a:t>6ms</a:t>
            </a:r>
            <a:r>
              <a:rPr b="0" lang="es-CL" sz="3200" spc="-1" strike="noStrike">
                <a:solidFill>
                  <a:srgbClr val="000066"/>
                </a:solidFill>
                <a:latin typeface="Comic Sans MS"/>
              </a:rPr>
              <a:t> posterior a la desaparición de este</a:t>
            </a:r>
            <a:endParaRPr b="0" lang="en-US" sz="32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66"/>
                </a:solidFill>
                <a:latin typeface="Comic Sans MS"/>
              </a:rPr>
              <a:t>Si persiste por mas de 6 meses debe reevaluarse y podría ser un tr adaptativo crónico, afectando dllo normal</a:t>
            </a:r>
            <a:endParaRPr b="0" lang="en-US" sz="32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ffffff"/>
                </a:solidFill>
                <a:latin typeface="Arial"/>
              </a:rPr>
              <a:t>Diagnóstico diferencia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1413000"/>
            <a:ext cx="79250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r. Adaptativo con estado de ánimo depresiv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presión may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nsamientos suicidas e intentos es común. En duelo no involucran pensamiento de auto-depreciación y de no querer existi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r ansio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 relación a nueva perdida o abandono, propia mu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uevas relaciones vinculo ansio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r. somát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rastornos de conduc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iperactividad (evitación de emocion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gresividad (etapa de rabia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ducta  de riesgo (x culp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4"/>
          <p:cNvSpPr/>
          <p:nvPr/>
        </p:nvSpPr>
        <p:spPr>
          <a:xfrm>
            <a:off x="762120" y="30492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  <a:ea typeface="Arial"/>
              </a:rPr>
              <a:t>Duelo en niño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684360" y="1484280"/>
            <a:ext cx="5459400" cy="47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 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El </a:t>
            </a:r>
            <a:r>
              <a:rPr b="1" lang="es-ES_tradnl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concepto de muerte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 evoluciona con el desarrollo, desde punto de vista cognitivo y emocional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 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Niños pequeños poseen pensamiento animístico y mágico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El concepto de muerte requiere el entendimiento e integración de: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Arial"/>
              </a:rPr>
              <a:t>Irreversibilidad: entender la muerte como fenómeno permanente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Arial"/>
              </a:rPr>
              <a:t>Universalidad: es un fenómeno natural, parte del ciclo vital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Arial"/>
              </a:rPr>
              <a:t>- Causalidad: Producida por uno o más factores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Comic Sans MS"/>
                <a:ea typeface="Arial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17" name="Picture 5" descr="http://groups.msn.com/_Secure/0TgAAAIAXRpq5Mb6DokTWw2yqX9qDaEMHeAdZIn4hKJjblpj*ETDZBU8p*mkdOVHwSSzAFaLZbBFKs0lVqDli2qL!UH*8QHV1*m7mzbrNJqKAU91O05wcTQ/NiñoyMuerte27.jpg"/>
          <p:cNvPicPr/>
          <p:nvPr/>
        </p:nvPicPr>
        <p:blipFill>
          <a:blip r:embed="rId1"/>
          <a:stretch/>
        </p:blipFill>
        <p:spPr>
          <a:xfrm>
            <a:off x="6411960" y="3716280"/>
            <a:ext cx="2387520" cy="2521080"/>
          </a:xfrm>
          <a:prstGeom prst="rect">
            <a:avLst/>
          </a:prstGeom>
          <a:ln w="28440">
            <a:solidFill>
              <a:srgbClr val="99ccff"/>
            </a:solidFill>
            <a:miter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774216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mic Sans MS"/>
              </a:rPr>
              <a:t>Duelo en niños</a:t>
            </a:r>
            <a:br>
              <a:rPr sz="4200"/>
            </a:b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28760" y="1428480"/>
            <a:ext cx="8175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e describen 3 etapas en su desarroll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Hasta los </a:t>
            </a: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años los niños viven la muerte como una separación, como dormir, no es un acontecimiento final irreversi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Entre los </a:t>
            </a: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5 - 8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años se produce una “personificación” de la muer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Alrededor de los </a:t>
            </a: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9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años se consolida concepto de irreversibilidad, con lo cual se desarrolla concepto realista de la muer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ff"/>
              </a:buClr>
              <a:buSzPct val="70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uerte es univers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ff"/>
              </a:buClr>
              <a:buSzPct val="70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das las funciones de la vida terminan al mor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ff"/>
              </a:buClr>
              <a:buSzPct val="70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s permanente e irreversib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ffffff"/>
                </a:solidFill>
                <a:latin typeface="Comic Sans MS"/>
              </a:rPr>
              <a:t>Factores a considerar en el duel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1600200"/>
            <a:ext cx="611496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Quién era la persona fallecida y el rol que cumplí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La naturaleza del apego o tipo de vínculo que poseí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Tipo de muer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Variables de personalida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Variables soci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Otros tipos de estrés simultáne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5" descr="http://us.123rf.com/400wm/400/400/sarahann/sarahann0706/sarahann070600025/1118946.jpg"/>
          <p:cNvPicPr/>
          <p:nvPr/>
        </p:nvPicPr>
        <p:blipFill>
          <a:blip r:embed="rId1"/>
          <a:stretch/>
        </p:blipFill>
        <p:spPr>
          <a:xfrm>
            <a:off x="5076720" y="3141720"/>
            <a:ext cx="3313080" cy="2806560"/>
          </a:xfrm>
          <a:prstGeom prst="rect">
            <a:avLst/>
          </a:prstGeom>
          <a:ln w="57240">
            <a:solidFill>
              <a:srgbClr val="99ccff"/>
            </a:solidFill>
            <a:miter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ffffff"/>
                </a:solidFill>
                <a:latin typeface="Comic Sans MS"/>
              </a:rPr>
              <a:t>Consideraciones especiales</a:t>
            </a:r>
            <a:br>
              <a:rPr sz="4200"/>
            </a:b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6840" y="1413000"/>
            <a:ext cx="814716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muerte en los niños activa numerosas ansie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os niños son muy susceptibles a la alteración de la dinámica famili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ueden sentirse responsables de la mue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 irritan con sus figuras cercanas por no haber impedido que ocurriera la mue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4716360" y="5229360"/>
            <a:ext cx="3816360" cy="1323720"/>
          </a:xfrm>
          <a:prstGeom prst="rect">
            <a:avLst/>
          </a:prstGeom>
          <a:ln w="28440">
            <a:solidFill>
              <a:srgbClr val="9999ff"/>
            </a:solidFill>
            <a:miter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23640" y="981000"/>
            <a:ext cx="7886520" cy="16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omic Sans MS"/>
              </a:rPr>
              <a:t>¿Qué hacemos frente a el duelo?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2920" y="1483920"/>
            <a:ext cx="8245440" cy="47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No tratar de explicar un concepto que está fuera del nivel de comprensión para la e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No intentar la tarea de ahorrar el dolor de la pérdi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Ayudar a expresar el dolor de una manera apropiada al nivel de desarrol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Tranquilizar al niño sobre la continuidad de sus relaciones con las otras person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ejarlos participar en los rituales de despedid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ffffff"/>
                </a:solidFill>
                <a:latin typeface="Comic Sans MS"/>
              </a:rPr>
              <a:t>Terapia en el duelo</a:t>
            </a:r>
            <a:br>
              <a:rPr sz="4200"/>
            </a:b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68000" y="1483920"/>
            <a:ext cx="7488360" cy="507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Su objetivo es identificar y resolver los conflictos que imposibilitan la realización de las tareas correspondi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Implica experimentar pensamientos y sentimientos que el paciente ha estado evitan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El terapeuta proporciona el apoyo y da permiso para elaborar el due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ffffff"/>
                </a:solidFill>
                <a:latin typeface="Arial"/>
                <a:ea typeface="Arial"/>
              </a:rPr>
              <a:t>¿Qué evitar decir?</a:t>
            </a:r>
            <a:br>
              <a:rPr sz="3800"/>
            </a:b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10920" y="1599840"/>
            <a:ext cx="777708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Dios sabe por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qué hace las cosa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 “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Ahora está en un lugar mejo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“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Dios necesitaba un ángel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Todo sucede por una razó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sde el cielo te va a cuida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El tiempo lo cura tod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Tienes que ser fuerte por tu (hijos, padre, madre)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o le gustaría que estuvieras trist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Por lo menos ya no está sufriend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ffffff"/>
                </a:solidFill>
                <a:latin typeface="Comic Sans MS"/>
              </a:rPr>
              <a:t>¿Cuándo ha acabado el duelo?</a:t>
            </a:r>
            <a:br>
              <a:rPr sz="4200"/>
            </a:b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09120" y="1599840"/>
            <a:ext cx="79232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Cuando la persona es capaz de pensar en el fallecido sin dol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Cuando la persona recupera el interés en la vida propia, la sensación de esperanza, siente gratificación y elabora planes para su futu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79280" y="260280"/>
            <a:ext cx="833940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5041800" cy="633744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5435640" y="4797360"/>
            <a:ext cx="35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Comic Sans MS"/>
              </a:rPr>
              <a:t>Un cafecito y al práctico…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0099"/>
                </a:solidFill>
                <a:latin typeface="Comic Sans MS"/>
              </a:rPr>
              <a:t>Epidemiología</a:t>
            </a:r>
            <a:endParaRPr b="0" lang="en-US" sz="4400" spc="-1" strike="noStrike">
              <a:solidFill>
                <a:srgbClr val="330099"/>
              </a:solidFill>
              <a:latin typeface="Comic Sans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0099"/>
                </a:solidFill>
                <a:latin typeface="Comic Sans MS"/>
              </a:rPr>
              <a:t>Prevalencia:</a:t>
            </a:r>
            <a:endParaRPr b="0" lang="en-US" sz="32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66"/>
                </a:solidFill>
                <a:latin typeface="Comic Sans MS"/>
              </a:rPr>
              <a:t>    </a:t>
            </a:r>
            <a:r>
              <a:rPr b="0" lang="es-CL" sz="3200" spc="-1" strike="noStrike">
                <a:solidFill>
                  <a:srgbClr val="000066"/>
                </a:solidFill>
                <a:latin typeface="Comic Sans MS"/>
              </a:rPr>
              <a:t>Hospital Roberto del Río 1998: Motivo de consulta más frecuente en Servicio de Psiquiatría Infantil: 33% del total de consultas.</a:t>
            </a:r>
            <a:endParaRPr b="0" lang="en-US" sz="32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66"/>
                </a:solidFill>
                <a:latin typeface="Comic Sans MS"/>
              </a:rPr>
              <a:t>25,6% en hombres.</a:t>
            </a:r>
            <a:endParaRPr b="0" lang="en-US" sz="2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66"/>
                </a:solidFill>
                <a:latin typeface="Comic Sans MS"/>
              </a:rPr>
              <a:t>27,5% en mujeres</a:t>
            </a:r>
            <a:endParaRPr b="0" lang="en-US" sz="2800" spc="-1" strike="noStrike">
              <a:solidFill>
                <a:srgbClr val="0000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0099"/>
                </a:solidFill>
                <a:latin typeface="Comic Sans MS"/>
                <a:ea typeface="Arial"/>
              </a:rPr>
              <a:t>Características del trastorno adaptativo</a:t>
            </a:r>
            <a:endParaRPr b="0" lang="en-US" sz="4000" spc="-1" strike="noStrike">
              <a:solidFill>
                <a:srgbClr val="330099"/>
              </a:solidFill>
              <a:latin typeface="Comic Sans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68000" y="2276640"/>
            <a:ext cx="806436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66"/>
                </a:solidFill>
                <a:latin typeface="Comic Sans MS"/>
                <a:ea typeface="Arial"/>
              </a:rPr>
              <a:t>Formas de expresión variadas.</a:t>
            </a:r>
            <a:endParaRPr b="0" lang="en-US" sz="2800" spc="-1" strike="noStrike">
              <a:solidFill>
                <a:srgbClr val="000066"/>
              </a:solidFill>
              <a:latin typeface="Comic Sans MS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omic Sans MS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66"/>
                </a:solidFill>
                <a:latin typeface="Comic Sans MS"/>
                <a:ea typeface="Arial"/>
              </a:rPr>
              <a:t>Con frecuencia coexiste sintomatología </a:t>
            </a:r>
            <a:r>
              <a:rPr b="1" lang="es-ES_tradnl" sz="2800" spc="-1" strike="noStrike">
                <a:solidFill>
                  <a:srgbClr val="000066"/>
                </a:solidFill>
                <a:latin typeface="Comic Sans MS"/>
                <a:ea typeface="Arial"/>
              </a:rPr>
              <a:t>depresiva, ansiosa, conductual o somática</a:t>
            </a:r>
            <a:endParaRPr b="0" lang="en-US" sz="2800" spc="-1" strike="noStrike">
              <a:solidFill>
                <a:srgbClr val="000066"/>
              </a:solidFill>
              <a:latin typeface="Comic Sans MS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omic Sans MS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66"/>
                </a:solidFill>
                <a:latin typeface="Comic Sans MS"/>
                <a:ea typeface="Arial"/>
              </a:rPr>
              <a:t>Generalmente desarrollo normal previo.</a:t>
            </a:r>
            <a:endParaRPr b="0" lang="en-US" sz="2800" spc="-1" strike="noStrike">
              <a:solidFill>
                <a:srgbClr val="000066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00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400" spc="-1" strike="noStrike">
                <a:solidFill>
                  <a:srgbClr val="330099"/>
                </a:solidFill>
                <a:latin typeface="Comic Sans MS"/>
              </a:rPr>
              <a:t> </a:t>
            </a:r>
            <a:r>
              <a:rPr b="0" lang="es-CL" sz="5400" spc="-1" strike="noStrike">
                <a:solidFill>
                  <a:srgbClr val="330099"/>
                </a:solidFill>
                <a:latin typeface="Comic Sans MS"/>
              </a:rPr>
              <a:t>Etiología</a:t>
            </a:r>
            <a:endParaRPr b="0" lang="en-US" sz="5400" spc="-1" strike="noStrike">
              <a:solidFill>
                <a:srgbClr val="330099"/>
              </a:solidFill>
              <a:latin typeface="Comic Sans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5805000"/>
            <a:ext cx="7772400" cy="29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6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47" name=""/>
          <p:cNvSpPr/>
          <p:nvPr/>
        </p:nvSpPr>
        <p:spPr>
          <a:xfrm flipV="1" rot="10807200">
            <a:off x="826560" y="2204280"/>
            <a:ext cx="230364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Comic Sans MS"/>
              </a:rPr>
              <a:t>Estresor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Comic Sans MS"/>
              </a:rPr>
              <a:t>específico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508720" y="2276640"/>
            <a:ext cx="2303280" cy="863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Comic Sans MS"/>
              </a:rPr>
              <a:t>Vulnerabilida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0" lang="es-CL" sz="2400" spc="-1" strike="noStrike">
                <a:solidFill>
                  <a:srgbClr val="000066"/>
                </a:solidFill>
                <a:latin typeface="Comic Sans MS"/>
              </a:rPr>
              <a:t>individua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9" name="PubCross"/>
          <p:cNvSpPr/>
          <p:nvPr/>
        </p:nvSpPr>
        <p:spPr>
          <a:xfrm>
            <a:off x="3924360" y="2349360"/>
            <a:ext cx="576360" cy="649440"/>
          </a:xfrm>
          <a:custGeom>
            <a:avLst/>
            <a:gdLst>
              <a:gd name="textAreaLeft" fmla="*/ 189000 w 576360"/>
              <a:gd name="textAreaRight" fmla="*/ 387360 w 576360"/>
              <a:gd name="textAreaTop" fmla="*/ 230040 h 649440"/>
              <a:gd name="textAreaBottom" fmla="*/ 419400 h 649440"/>
            </a:gdLst>
            <a:ahLst/>
            <a:rect l="textAreaLeft" t="textAreaTop" r="textAreaRight" b="textAreaBottom"/>
            <a:pathLst>
              <a:path w="21600" h="21600">
                <a:moveTo>
                  <a:pt x="7081" y="0"/>
                </a:moveTo>
              </a:path>
              <a:path w="21600" h="21600">
                <a:moveTo>
                  <a:pt x="7081" y="7658"/>
                </a:moveTo>
                <a:lnTo>
                  <a:pt x="0" y="7658"/>
                </a:lnTo>
                <a:lnTo>
                  <a:pt x="0" y="13942"/>
                </a:lnTo>
              </a:path>
              <a:path w="21600" h="21600">
                <a:moveTo>
                  <a:pt x="7081" y="13942"/>
                </a:moveTo>
                <a:lnTo>
                  <a:pt x="7081" y="21600"/>
                </a:lnTo>
                <a:lnTo>
                  <a:pt x="14519" y="21600"/>
                </a:lnTo>
              </a:path>
              <a:path w="21600" h="21600">
                <a:moveTo>
                  <a:pt x="14519" y="13942"/>
                </a:moveTo>
                <a:lnTo>
                  <a:pt x="21600" y="13942"/>
                </a:lnTo>
                <a:lnTo>
                  <a:pt x="21600" y="7658"/>
                </a:lnTo>
                <a:lnTo>
                  <a:pt x="14519" y="7658"/>
                </a:lnTo>
                <a:lnTo>
                  <a:pt x="14519" y="0"/>
                </a:lnTo>
              </a:path>
            </a:pathLst>
          </a:custGeom>
          <a:solidFill>
            <a:srgbClr val="fccea7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348000" y="3645000"/>
            <a:ext cx="1874880" cy="21445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5651640" y="3789360"/>
            <a:ext cx="2449440" cy="863640"/>
          </a:xfrm>
          <a:prstGeom prst="wedgeRoundRectCallout">
            <a:avLst>
              <a:gd name="adj1" fmla="val -65685"/>
              <a:gd name="adj2" fmla="val 87500"/>
              <a:gd name="adj3" fmla="val 16667"/>
            </a:avLst>
          </a:prstGeom>
          <a:solidFill>
            <a:srgbClr val="cc99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Comic Sans MS"/>
              </a:rPr>
              <a:t>Intrínseca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Comic Sans MS"/>
              </a:rPr>
              <a:t>Extrínsec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5280" y="3500280"/>
            <a:ext cx="2521080" cy="1297080"/>
          </a:xfrm>
          <a:prstGeom prst="wedgeEllipseCallout">
            <a:avLst>
              <a:gd name="adj1" fmla="val 73675"/>
              <a:gd name="adj2" fmla="val 41430"/>
            </a:avLst>
          </a:prstGeom>
          <a:solidFill>
            <a:srgbClr val="cc99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Comic Sans MS"/>
              </a:rPr>
              <a:t>Tipo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Comic Sans MS"/>
              </a:rPr>
              <a:t>Duració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Comic Sans MS"/>
              </a:rPr>
              <a:t>¿comó puede ser el stresor?</a:t>
            </a:r>
            <a:endParaRPr b="0" lang="en-US" sz="4400" spc="-1" strike="noStrike">
              <a:solidFill>
                <a:srgbClr val="330099"/>
              </a:solidFill>
              <a:latin typeface="Comic Sans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66"/>
                </a:solidFill>
                <a:latin typeface="Comic Sans MS"/>
              </a:rPr>
              <a:t>Único o múltiple</a:t>
            </a:r>
            <a:endParaRPr b="0" lang="en-US" sz="28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66"/>
                </a:solidFill>
                <a:latin typeface="Comic Sans MS"/>
              </a:rPr>
              <a:t>Agudo, persistente o recurrente</a:t>
            </a:r>
            <a:endParaRPr b="0" lang="en-US" sz="28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66"/>
                </a:solidFill>
                <a:latin typeface="Comic Sans MS"/>
              </a:rPr>
              <a:t>Personal, familiar</a:t>
            </a:r>
            <a:endParaRPr b="0" lang="en-US" sz="28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66"/>
                </a:solidFill>
                <a:latin typeface="Comic Sans MS"/>
              </a:rPr>
              <a:t>Normativo: experiencias comunes a todos los niños por el dllo.</a:t>
            </a:r>
            <a:endParaRPr b="0" lang="en-US" sz="28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66"/>
                </a:solidFill>
                <a:latin typeface="Comic Sans MS"/>
              </a:rPr>
              <a:t>No normativas :particular  para c/individuo</a:t>
            </a:r>
            <a:endParaRPr b="0" lang="en-US" sz="2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Comic Sans MS"/>
              </a:rPr>
              <a:t>Agudo </a:t>
            </a: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Comic Sans MS"/>
              </a:rPr>
              <a:t>Crónico</a:t>
            </a: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330099"/>
                </a:solidFill>
                <a:latin typeface="Comic Sans MS"/>
              </a:rPr>
              <a:t>¿qué podría actuar como estresor?</a:t>
            </a:r>
            <a:endParaRPr b="0" lang="en-US" sz="4000" spc="-1" strike="noStrike">
              <a:solidFill>
                <a:srgbClr val="330099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0099"/>
                </a:solidFill>
                <a:latin typeface="Comic Sans MS"/>
              </a:rPr>
              <a:t>Crisis normativas:</a:t>
            </a:r>
            <a:endParaRPr b="0" lang="en-US" sz="2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Comic Sans MS"/>
              </a:rPr>
              <a:t>Ingreso al colegio</a:t>
            </a: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Comic Sans MS"/>
              </a:rPr>
              <a:t>Nacimiento de un hermano</a:t>
            </a: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Comic Sans MS"/>
              </a:rPr>
              <a:t>Fallecimiento de un abuelo</a:t>
            </a: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284360" y="1915920"/>
            <a:ext cx="4390920" cy="494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0099"/>
                </a:solidFill>
                <a:latin typeface="Comic Sans MS"/>
              </a:rPr>
              <a:t>Crisis no normativas:</a:t>
            </a:r>
            <a:endParaRPr b="0" lang="en-US" sz="2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Comic Sans MS"/>
              </a:rPr>
              <a:t>Separaciones</a:t>
            </a: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Comic Sans MS"/>
              </a:rPr>
              <a:t>Enfermedad crónica o muerte de uno o ambos padres</a:t>
            </a: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Comic Sans MS"/>
              </a:rPr>
              <a:t>Maltrato infantil</a:t>
            </a: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Comic Sans MS"/>
              </a:rPr>
              <a:t>Abuso sexual </a:t>
            </a: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Comic Sans MS"/>
              </a:rPr>
              <a:t>Disfunción familiar </a:t>
            </a: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Comic Sans MS"/>
              </a:rPr>
              <a:t>Enfermedad crónica del niño</a:t>
            </a: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Comic Sans MS"/>
              </a:rPr>
              <a:t>Problemas escolares </a:t>
            </a: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omic Sans MS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1979640" y="4437000"/>
            <a:ext cx="2187720" cy="19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330099"/>
                </a:solidFill>
                <a:latin typeface="Comic Sans MS"/>
              </a:rPr>
              <a:t>Vulnerabilidad</a:t>
            </a:r>
            <a:endParaRPr b="0" lang="en-US" sz="4400" spc="-1" strike="noStrike">
              <a:solidFill>
                <a:srgbClr val="330099"/>
              </a:solidFill>
              <a:latin typeface="Comic Sans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66"/>
                </a:solidFill>
                <a:latin typeface="Comic Sans MS"/>
              </a:rPr>
              <a:t>Factor más importante.</a:t>
            </a:r>
            <a:endParaRPr b="0" lang="en-US" sz="32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66"/>
                </a:solidFill>
                <a:latin typeface="Comic Sans MS"/>
              </a:rPr>
              <a:t>Depende de las características del niño y su entorno.</a:t>
            </a:r>
            <a:endParaRPr b="0" lang="en-US" sz="32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66"/>
                </a:solidFill>
                <a:latin typeface="Comic Sans MS"/>
              </a:rPr>
              <a:t>Factores intrínsecos y extrínsecos</a:t>
            </a:r>
            <a:endParaRPr b="0" lang="en-US" sz="3200" spc="-1" strike="noStrike">
              <a:solidFill>
                <a:srgbClr val="0000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30T02:32:14Z</dcterms:created>
  <dc:creator>Gloria Toledo</dc:creator>
  <dc:description/>
  <cp:keywords/>
  <dc:language>en-US</dc:language>
  <cp:lastModifiedBy>keryma</cp:lastModifiedBy>
  <dcterms:modified xsi:type="dcterms:W3CDTF">2010-08-18T13:43:31Z</dcterms:modified>
  <cp:revision>17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813082</vt:lpwstr>
  </property>
</Properties>
</file>