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2.jpeg" ContentType="image/jpeg"/>
  <Override PartName="/ppt/media/image1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95A-B4AA-4D89-95F8-73F7F487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2BA-C5C0-45C3-A572-649181A2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710-30B6-43C3-B4F3-1B9DC913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5DB-8D20-414E-8A4D-0EA3C686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6367-0296-4D14-9E4C-B8EDEA54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ECEA-AB34-4F53-B14C-35509BE2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F729-E7DE-45FA-894D-844D6F20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BB65-4EBA-45F2-8792-34CABA55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0DEF-AA5A-413E-A2A6-AC7BDC4A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1BD4-D54D-4155-8561-D9E72565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BD61-D79E-4DB3-A76C-2D660CA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DFC-D800-4910-89CB-5116B77D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919A-4F1B-4140-B1DD-88E58944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DAFC-43F2-45D7-A8C1-C01CABDF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310B-B6E8-4800-AB3A-FA85A107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F624-F1C9-442A-BB4B-DCD28690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D802-2AB4-44D6-8368-20171BC8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0E55-F687-4A85-9235-CBA03FD0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0748-F87C-4FD8-BA18-AAC209D9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083E-67CA-42FC-9BB3-AB82F7ED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7A779-D13A-47B5-BBBE-E05E0723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BC7C-DAFA-44C9-8C77-65982AD1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615-6059-407C-ACA4-C9E5742F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DC784-FC89-482D-A873-ECE1F6B6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1E0C-E71A-4011-9A61-D669BCF4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1429-9D56-467A-A293-D52777A6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87A9-B0E6-4810-9A22-D541EA5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82F7F-3B6F-4327-A029-4FB46583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D5527-1009-4C3D-8F3A-1C072C7A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7B6E-540B-4D45-8723-81A4B2DD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467A8-7029-4F64-A003-9FE73F8C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446D8-47A2-4634-9C55-DE040438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FD592-3F4C-4629-8FB7-6B6E978D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581-929E-4054-BC27-EC5B84C3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F70E4-2694-43F6-90D0-DD42014E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6264-6F8A-45F4-AADF-D137A7E2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C93EE-50AA-418A-8B73-2AFE11DE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2031E-1AC9-4C69-86EC-B76C098A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B6505-F5A4-42BD-9656-305DB1E5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071A2-5E43-4C32-91D3-987B820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59D31-4BE9-4A07-A4F8-8110A162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9B04-3B90-4ECD-B5E8-47DD921A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3945-BA74-4E9C-A336-12B5056D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0D568-4555-48A6-B936-7BCFB97E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A28-01F5-4BCB-9163-5703E3ED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068AA-6BFA-4C6F-9D50-95F3D61A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20D71-888D-4B07-B126-9B7CD41E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EC7B7-369B-4AF8-AA9B-BDF124ED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3383A-C0C2-42ED-85D1-09B47EE7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09565-4699-48CA-8D01-0131916A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12F42-4CA3-4C93-88AA-3E1C90A2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775F7-E731-4795-89E8-6F57C451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1958E-D14D-45B3-8732-C824DE9E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4708D-C247-4415-A1E2-10FC5906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5C0AE-89A8-4110-987F-B4D2CF9E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BC5-D380-4857-85CB-DD910CBF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DF206-44B7-42AE-99BA-B70425E9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F9584-D501-463D-AE6C-E036804C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53D01-4A27-4673-92E7-10D6732B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51CCD-BAD1-4629-97DC-A91FC75E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1A07E-5233-4280-B3F0-FAB999D9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059E1-A15F-4949-B59B-4FFDD074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DB695-8B65-4C18-944E-AC238072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C7C08-8CB2-4D51-8433-84EEBEEF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028C4-80D2-42C2-8281-BD5D48CE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6B31A-6A07-40B0-A493-CC8D5FAB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647-DF3A-422F-BBC2-94F2C29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84E2B-54CA-4438-8763-AF5AEFDC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3AA55-ACD0-4513-80A8-6D4FC028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2BBD9-7F80-4054-9E95-6818430E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246FE-0292-443A-A0CB-403B0FCB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E8090-2E9F-4988-B34E-5B19DEE9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4BB14-DD76-4F0E-ADA5-3C1025F2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2ABEA-69AE-4245-96FA-A307E184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FE065-F49C-4BFC-8E92-6A71F48E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D6D57-958D-4EE1-B1DA-A5F3114E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898DC-7718-4542-92DD-6C6A3019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144-3BBE-49D0-8806-18074C5D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21258-12B4-4A16-82E4-8C7AE97D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806F1-67C2-481A-9C79-994E6BF5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51586-9444-4CF0-96D8-78871562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B970A-B2FB-4BE5-A3AB-CDEA068E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90C9B-1684-400D-9ABB-15C1DC5D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04ADA-2834-42B3-8354-BADA9014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F7E34-CFFC-4E23-9E90-60129426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03E90-F29C-45BD-99C4-799F4995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93992-0921-40CA-932C-BAD7BC19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DF9CA-A99D-448B-B415-FA489D03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264-D11D-4419-981D-DFA3E3F2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E9D68-D6DC-4F8A-AB2B-C4A15A6C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B0023-236A-4807-80A3-B27BF60D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CBA82-C503-4C27-81DD-1160B504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47FBA-2A9B-4D1C-A71C-EAEB0981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78D75-6F89-4F49-A65E-F0B98643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10D98-37D2-4738-B528-7508D401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90558-8BD8-43EC-8AA3-18789FCE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6797-347B-4569-A1B7-7AF789CD7661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E9FB-FD14-40C1-BE60-F2ED1EB4E1DF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469A-B36B-4953-AD2F-FEFF7F167F0B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5CBC-A7B9-41CE-A6B0-E113EE1AE36E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89B7-E2C1-4B41-BE7B-56A6E8814D29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84000" y="6315480"/>
            <a:ext cx="13474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528C-409A-4A67-B06D-F7AD5751668C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984000" y="6315480"/>
            <a:ext cx="13474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D3E1-D02C-4D78-870A-282B150C1240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1396-DD0F-48A7-955A-6CB615B002B6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marceabufhele@gmail.com" TargetMode="External"/><Relationship Id="rId2" Type="http://schemas.openxmlformats.org/officeDocument/2006/relationships/hyperlink" Target="mailto:keryma.keryma@gmail.co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postgradofcm.edu.ar/Educacion/JuramentoHipocratico/image005.jpg&amp;imgrefurl=http://www.postgradofcm.edu.ar/index.php%3Fpagina%3D./Educacion/JuramentoHipocratico/Juramento.htm&amp;usg=__nOUSnWkF0zU14BN_UG1cq2juZoI=&amp;h=903&amp;w=627&amp;sz=146&amp;hl=es&amp;start=1&amp;tbnid=nlLwNT43ZXg0KM:&amp;tbnh=147&amp;tbnw=102&amp;prev=/images%3Fq%3Djuramento%2Bhipocratico%26gbv%3D2%26hl%3Des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66680" y="491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64646"/>
                </a:solidFill>
                <a:latin typeface="Perpetua"/>
              </a:rPr>
              <a:t>V Año Medicina 201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64646"/>
                </a:solidFill>
                <a:latin typeface="Perpetua"/>
              </a:rPr>
              <a:t>Sede Nor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64646"/>
                </a:solidFill>
                <a:latin typeface="Perpetua"/>
              </a:rPr>
              <a:t>Clínica Psiquiátrica Universitar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071360" y="1356840"/>
            <a:ext cx="70866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Franklin Gothic Book"/>
              </a:rPr>
              <a:t>Curso Psiquiatría Infantil y de la Adolescencia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359" name="Object 4"/>
          <p:cNvGraphicFramePr/>
          <p:nvPr/>
        </p:nvGraphicFramePr>
        <p:xfrm>
          <a:off x="3975120" y="0"/>
          <a:ext cx="102564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5120" y="0"/>
                    <a:ext cx="10256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42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Agradecimientos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99680" y="1356840"/>
            <a:ext cx="811044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 nuestros pacient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Quienes han sido muy generosos y nos han permitido filmar sesiones de entrevist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es hemos prometido que su uso será exclusivamente profesional y docente. Queremos pedir que se mantenga confidencialida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 los becados y profesionales docentes de la unidad de psiquiatría infantil  CPU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or su tiempo y motivación a colaborar en docenci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 ustedes: por sus deseos de aprender … y motivarnos a hacer una mejor docenci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Al final del curso, les pediremos….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90" name="Picture 4" descr="m4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8890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7"/>
          <p:cNvSpPr/>
          <p:nvPr/>
        </p:nvSpPr>
        <p:spPr>
          <a:xfrm>
            <a:off x="428760" y="4929120"/>
            <a:ext cx="82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da2bf"/>
                </a:solidFill>
                <a:latin typeface="Tahoma"/>
              </a:rPr>
              <a:t>…</a:t>
            </a:r>
            <a:r>
              <a:rPr b="1" lang="es-CL" sz="4400" spc="-1" strike="noStrike">
                <a:solidFill>
                  <a:srgbClr val="2da2bf"/>
                </a:solidFill>
                <a:latin typeface="Tahoma"/>
              </a:rPr>
              <a:t>una evaluación del proceso docen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Bibliografía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42960" y="1643040"/>
            <a:ext cx="796752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Psicopatología Infantil y del Adolescente”, de Almonte, Montt y Correa, publicado por Editorial Mediterráneo 2003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Perpetua"/>
              </a:rPr>
              <a:t>Capítulos indicados en el programa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Apuntes adicionales diseñados por docent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Perpetua"/>
              </a:rPr>
              <a:t>Indicados en el programa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mafalda"/>
          <p:cNvPicPr/>
          <p:nvPr/>
        </p:nvPicPr>
        <p:blipFill>
          <a:blip r:embed="rId1"/>
          <a:stretch/>
        </p:blipFill>
        <p:spPr>
          <a:xfrm>
            <a:off x="755640" y="142920"/>
            <a:ext cx="7095960" cy="5324400"/>
          </a:xfrm>
          <a:prstGeom prst="rect">
            <a:avLst/>
          </a:prstGeom>
          <a:ln w="0">
            <a:noFill/>
          </a:ln>
        </p:spPr>
      </p:pic>
      <p:sp>
        <p:nvSpPr>
          <p:cNvPr id="395" name="2 CuadroTexto"/>
          <p:cNvSpPr/>
          <p:nvPr/>
        </p:nvSpPr>
        <p:spPr>
          <a:xfrm>
            <a:off x="928800" y="52149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2da2bf"/>
                </a:solidFill>
                <a:latin typeface="Tahoma"/>
              </a:rPr>
              <a:t>Y que disfruten el curso…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95280" y="3543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464646"/>
                </a:solidFill>
                <a:latin typeface="Perpetua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Franklin Gothic Book"/>
              </a:rPr>
              <a:t>Psiquiatría de niños y adolescentes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video 1 TDHA.wmv" descr=""/>
          <p:cNvPicPr/>
          <p:nvPr/>
        </p:nvPicPr>
        <p:blipFill>
          <a:blip r:embed="rId1"/>
          <a:stretch/>
        </p:blipFill>
        <p:spPr>
          <a:xfrm>
            <a:off x="357120" y="231840"/>
            <a:ext cx="84693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5010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Psiquiatría Infantil y del adolescent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680" y="1642680"/>
            <a:ext cx="8115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specialidad primaria de la medicina cuyo campo de acción es prevención, diagnóstico, tratamiento y rehabilitación de enfermedades mentales del niño y adolescen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vención: promoción y fomento de salud mental y </a:t>
            </a:r>
            <a:r>
              <a:rPr b="1" lang="es-CL" sz="2400" spc="-1" strike="noStrike">
                <a:solidFill>
                  <a:srgbClr val="000000"/>
                </a:solidFill>
                <a:latin typeface="Perpetua"/>
              </a:rPr>
              <a:t>desarrollo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san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ociendo factores de riesgo y de protección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agnóstico, tratamiento y rehabilitación de las patologías mentales y problemas de salud mental que pueden alterar el </a:t>
            </a:r>
            <a:r>
              <a:rPr b="1" lang="es-CL" sz="2400" spc="-1" strike="noStrike">
                <a:solidFill>
                  <a:srgbClr val="000000"/>
                </a:solidFill>
                <a:latin typeface="Perpetua"/>
              </a:rPr>
              <a:t>desarrollo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normal y sano de niños y adolescent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mparte campo con neurología infantil y pediatrí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Desarrollo biopsicosocial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400" y="164304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Adquisición de una identidad biológica, psicológica y social que equilibre las necesidades del individuo con las del contexto social en el que está inserto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Proceso de inducción sucesiva y recíproca entre diferentes sistemas (genética, neurobiología, ambiente familiar, sociocultural, entre otros) que conducen a la construcción  de una persona que es simultáneamente un </a:t>
            </a:r>
            <a:r>
              <a:rPr b="0" i="1" lang="es-ES" sz="2600" spc="-1" strike="noStrike">
                <a:solidFill>
                  <a:srgbClr val="2da2bf"/>
                </a:solidFill>
                <a:latin typeface="Perpetua"/>
              </a:rPr>
              <a:t>“organismo, un yo y un miembro de la sociedad”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Desarrollo biopsicosocial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¿Por qué es necesario conocer el desarrollo normal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Permite diferenciar conductas normales y patológic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Permite impulsar aspectos preventivos que fomenten desarrollo integral del niñ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Distintos logros en distintos periodos evolutiv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Bebé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, preescolar, escolar, adolescencia, adultez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Integración de distintos context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dividual, familiar, escolar, social, cultur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¿Qué tipos de problemas aborda la Psiquiatría del niño y adolescente?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lteración o desviación del desarrollo psicológico/psiquiátrico integral de niños y adolescen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fermedades psiquiátricas de inicio en la infancia/adolescenc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fermedades psiquiátricas que se inician a cualquier edad y también en infancia/adolescenc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íntomas psicológicos originados por situaciones vitales y contextuales que afectan al niño/adolesce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íntomas psicológicos que acompañan a enfermedades orgánic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7" name="Picture 3" descr="http://www.parisconchicos.fr/blog/wp-content/uploads/2007/08/cerebro.jpg"/>
          <p:cNvPicPr/>
          <p:nvPr/>
        </p:nvPicPr>
        <p:blipFill>
          <a:blip r:embed="rId1"/>
          <a:stretch/>
        </p:blipFill>
        <p:spPr>
          <a:xfrm>
            <a:off x="357120" y="1571760"/>
            <a:ext cx="155268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296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Objetivo del curso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57120" y="1447560"/>
            <a:ext cx="43070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536400" indent="-223920">
              <a:lnSpc>
                <a:spcPct val="7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Perpetua"/>
              </a:rPr>
              <a:t>Formar al futuro médico en los conocimientos y habilidades básicas de la disciplina: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Perpetua"/>
              </a:rPr>
              <a:t>Desempeñar un rol educativo y preventivo de la salud mental del niño y su familia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Perpetua"/>
              </a:rPr>
              <a:t>Diagnóstico y manejo inicial de la patología de la especialidad de consulta más frecuente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3" name="Picture 11" descr="life"/>
          <p:cNvPicPr/>
          <p:nvPr/>
        </p:nvPicPr>
        <p:blipFill>
          <a:blip r:embed="rId1"/>
          <a:stretch/>
        </p:blipFill>
        <p:spPr>
          <a:xfrm>
            <a:off x="4673520" y="1928880"/>
            <a:ext cx="4316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Relevancia de psiquiatría infantil en Chile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Edad Adul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36% de la población tenía un trastorno psiquiátrico por lo menos 1 vez en la vid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22,6% refería 1 trastorno en los últimos 6 me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erpetua"/>
              </a:rPr>
              <a:t>Estudio Chileno de prevalencia de patología psiquiátrica. Vicente B., Rioseco P., Saldivia S., Kohn R., Torres S. Rev. Med. Chile. V.130, N°5, Mayo 2002. 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2" marL="272880" indent="-272880"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iños y Adolescen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valencia:  24,2% en escolares y 22,3% en niños mayores de 10 añ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erpetua"/>
              </a:rPr>
              <a:t>Toledo V., De la Barra F., López C., George M., Rodríguez J. en Psicopatología Infantil y de la Adolescencia de Almonte C., Montt M.E., Correa A. Editorial Mediterráneo. 2003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 </a:t>
            </a: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¿Qué tiene de diferente la Psiquiatría infantil y de la adolescencia?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714240" y="178596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os síntomas se producen en un ser en </a:t>
            </a: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desarroll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importancia del</a:t>
            </a: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 context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or lo tanto…..su importante rol </a:t>
            </a: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preventiv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2" name="5 Marcador de contenido" descr="untitled.bmp"/>
          <p:cNvPicPr/>
          <p:nvPr/>
        </p:nvPicPr>
        <p:blipFill>
          <a:blip r:embed="rId1"/>
          <a:stretch/>
        </p:blipFill>
        <p:spPr>
          <a:xfrm>
            <a:off x="4951440" y="178596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Para analizar las conductas de los niños: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4" name="5 Marcador de contenido" descr="niños.jpg"/>
          <p:cNvPicPr/>
          <p:nvPr/>
        </p:nvPicPr>
        <p:blipFill>
          <a:blip r:embed="rId1"/>
          <a:stretch/>
        </p:blipFill>
        <p:spPr>
          <a:xfrm>
            <a:off x="5238720" y="2000160"/>
            <a:ext cx="3587760" cy="354348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6"/>
          <p:cNvSpPr/>
          <p:nvPr/>
        </p:nvSpPr>
        <p:spPr>
          <a:xfrm>
            <a:off x="500040" y="1773360"/>
            <a:ext cx="431964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ocer el desarrollo normal del ni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nalizar el contexto en que se produce la conduc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ocer intensidad y características de la conduc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terminar incapacidad que produ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¿Cómo diferenciar una conducta normal de un trastorno?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933800" y="164304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recuencia inusu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o acorde a edad de desarrollo del niño o adolescen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Ocurre en más de un contexto o ambien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Grado de discapacidad funcional que produce (severidad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iempo de dura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8" name="Picture 5" descr="34-1-thumb"/>
          <p:cNvPicPr/>
          <p:nvPr/>
        </p:nvPicPr>
        <p:blipFill>
          <a:blip r:embed="rId1"/>
          <a:stretch/>
        </p:blipFill>
        <p:spPr>
          <a:xfrm>
            <a:off x="357120" y="1928880"/>
            <a:ext cx="4469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028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Análisis de la psicopatología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0" name="6 CuadroTexto"/>
          <p:cNvSpPr/>
          <p:nvPr/>
        </p:nvSpPr>
        <p:spPr>
          <a:xfrm>
            <a:off x="285840" y="1643040"/>
            <a:ext cx="1071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NIÑO/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D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7 CuadroTexto"/>
          <p:cNvSpPr/>
          <p:nvPr/>
        </p:nvSpPr>
        <p:spPr>
          <a:xfrm>
            <a:off x="2143080" y="1643040"/>
            <a:ext cx="1643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8 CuadroTexto"/>
          <p:cNvSpPr/>
          <p:nvPr/>
        </p:nvSpPr>
        <p:spPr>
          <a:xfrm>
            <a:off x="4786200" y="1643040"/>
            <a:ext cx="13575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9 CuadroTexto"/>
          <p:cNvSpPr/>
          <p:nvPr/>
        </p:nvSpPr>
        <p:spPr>
          <a:xfrm>
            <a:off x="7143840" y="1571760"/>
            <a:ext cx="1357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INTOM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4" name="Picture 5" descr="mafalda%20sulla%20sedia"/>
          <p:cNvPicPr/>
          <p:nvPr/>
        </p:nvPicPr>
        <p:blipFill>
          <a:blip r:embed="rId1"/>
          <a:stretch/>
        </p:blipFill>
        <p:spPr>
          <a:xfrm>
            <a:off x="303120" y="2786040"/>
            <a:ext cx="971640" cy="1317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4" descr="manolito"/>
          <p:cNvPicPr/>
          <p:nvPr/>
        </p:nvPicPr>
        <p:blipFill>
          <a:blip r:embed="rId2"/>
          <a:stretch/>
        </p:blipFill>
        <p:spPr>
          <a:xfrm>
            <a:off x="285840" y="4714920"/>
            <a:ext cx="1155600" cy="1441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2" descr="familia"/>
          <p:cNvPicPr/>
          <p:nvPr/>
        </p:nvPicPr>
        <p:blipFill>
          <a:blip r:embed="rId3"/>
          <a:stretch/>
        </p:blipFill>
        <p:spPr>
          <a:xfrm>
            <a:off x="4786200" y="2214720"/>
            <a:ext cx="1289160" cy="11127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5" descr="profesor"/>
          <p:cNvPicPr/>
          <p:nvPr/>
        </p:nvPicPr>
        <p:blipFill>
          <a:blip r:embed="rId4"/>
          <a:stretch/>
        </p:blipFill>
        <p:spPr>
          <a:xfrm>
            <a:off x="4714920" y="4621320"/>
            <a:ext cx="1428840" cy="1022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mafalda_amici"/>
          <p:cNvPicPr/>
          <p:nvPr/>
        </p:nvPicPr>
        <p:blipFill>
          <a:blip r:embed="rId5"/>
          <a:stretch/>
        </p:blipFill>
        <p:spPr>
          <a:xfrm>
            <a:off x="4581360" y="5715000"/>
            <a:ext cx="1776600" cy="928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8" descr="dinero"/>
          <p:cNvPicPr/>
          <p:nvPr/>
        </p:nvPicPr>
        <p:blipFill>
          <a:blip r:embed="rId6"/>
          <a:stretch/>
        </p:blipFill>
        <p:spPr>
          <a:xfrm>
            <a:off x="4844880" y="3516480"/>
            <a:ext cx="1155960" cy="984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http://blog.educastur.es/dcmo/files/2008/10/dibujo-de-corteza-cerebral.jpg"/>
          <p:cNvPicPr/>
          <p:nvPr/>
        </p:nvPicPr>
        <p:blipFill>
          <a:blip r:embed="rId7"/>
          <a:stretch/>
        </p:blipFill>
        <p:spPr>
          <a:xfrm>
            <a:off x="2214720" y="2857680"/>
            <a:ext cx="1373040" cy="1163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6" descr="bbarrosoir"/>
          <p:cNvPicPr/>
          <p:nvPr/>
        </p:nvPicPr>
        <p:blipFill>
          <a:blip r:embed="rId8"/>
          <a:stretch/>
        </p:blipFill>
        <p:spPr>
          <a:xfrm>
            <a:off x="2286000" y="4714920"/>
            <a:ext cx="1228680" cy="1211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2" descr="20051214183134-rayo"/>
          <p:cNvPicPr/>
          <p:nvPr/>
        </p:nvPicPr>
        <p:blipFill>
          <a:blip r:embed="rId9"/>
          <a:stretch/>
        </p:blipFill>
        <p:spPr>
          <a:xfrm>
            <a:off x="7215120" y="2643120"/>
            <a:ext cx="1117800" cy="1295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0" descr="illustration_02"/>
          <p:cNvPicPr/>
          <p:nvPr/>
        </p:nvPicPr>
        <p:blipFill>
          <a:blip r:embed="rId10"/>
          <a:stretch/>
        </p:blipFill>
        <p:spPr>
          <a:xfrm>
            <a:off x="7000920" y="4643280"/>
            <a:ext cx="1730160" cy="13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El diagnóstico en Psiquiatría Infantil es (principalmente) clínico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1838160"/>
            <a:ext cx="374976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quiere de una cuidadosa historia clínica y examen ment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36" name="5 Marcador de contenido" descr="niños jugando.bmp"/>
          <p:cNvPicPr/>
          <p:nvPr/>
        </p:nvPicPr>
        <p:blipFill>
          <a:blip r:embed="rId1"/>
          <a:stretch/>
        </p:blipFill>
        <p:spPr>
          <a:xfrm>
            <a:off x="5072040" y="1643040"/>
            <a:ext cx="32036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5" descr="padres"/>
          <p:cNvPicPr/>
          <p:nvPr/>
        </p:nvPicPr>
        <p:blipFill>
          <a:blip r:embed="rId1"/>
          <a:stretch/>
        </p:blipFill>
        <p:spPr>
          <a:xfrm>
            <a:off x="2195640" y="1989000"/>
            <a:ext cx="4752720" cy="344016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4"/>
          <p:cNvSpPr/>
          <p:nvPr/>
        </p:nvSpPr>
        <p:spPr>
          <a:xfrm>
            <a:off x="2700360" y="115920"/>
            <a:ext cx="433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Y la información se obtiene (principalmente) de: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Y de otras fuentes</a:t>
            </a:r>
            <a:r>
              <a:rPr b="0" lang="es-CL" sz="4000" spc="-1" strike="noStrike">
                <a:solidFill>
                  <a:srgbClr val="464646"/>
                </a:solidFill>
                <a:latin typeface="Franklin Gothic Book"/>
              </a:rPr>
              <a:t>…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41" name="6 Marcador de contenido" descr="profesores.gif"/>
          <p:cNvPicPr/>
          <p:nvPr/>
        </p:nvPicPr>
        <p:blipFill>
          <a:blip r:embed="rId1"/>
          <a:stretch/>
        </p:blipFill>
        <p:spPr>
          <a:xfrm>
            <a:off x="571680" y="1571760"/>
            <a:ext cx="2781000" cy="38764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pediatra"/>
          <p:cNvPicPr/>
          <p:nvPr/>
        </p:nvPicPr>
        <p:blipFill>
          <a:blip r:embed="rId2"/>
          <a:stretch/>
        </p:blipFill>
        <p:spPr>
          <a:xfrm>
            <a:off x="5715000" y="1000080"/>
            <a:ext cx="2238480" cy="27972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Resource2"/>
          <p:cNvPicPr/>
          <p:nvPr/>
        </p:nvPicPr>
        <p:blipFill>
          <a:blip r:embed="rId3"/>
          <a:stretch/>
        </p:blipFill>
        <p:spPr>
          <a:xfrm>
            <a:off x="5715000" y="4280040"/>
            <a:ext cx="1905120" cy="1504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C:\Users\usuario\Pictures\Abuelos2.jpg"/>
          <p:cNvPicPr/>
          <p:nvPr/>
        </p:nvPicPr>
        <p:blipFill>
          <a:blip r:embed="rId4"/>
          <a:stretch/>
        </p:blipFill>
        <p:spPr>
          <a:xfrm>
            <a:off x="3571920" y="4071960"/>
            <a:ext cx="22096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ntrevista a niños y adolescentes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71680" y="1447560"/>
            <a:ext cx="4092480" cy="49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 actitud cálida y empática,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reguntar si sabe por qué viene a la consult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Hablar sobre áreas de interés del niño, acercándose discretamente al área problemátic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Niño pequeño: se puede jugar con el niño, dibujar con él, o dejarlo dibujar en forma libr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ientras se interactúa se va realizando examen mental del niñ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47" name="Picture 6" descr="2005"/>
          <p:cNvPicPr/>
          <p:nvPr/>
        </p:nvPicPr>
        <p:blipFill>
          <a:blip r:embed="rId1"/>
          <a:stretch/>
        </p:blipFill>
        <p:spPr>
          <a:xfrm>
            <a:off x="4857840" y="1490760"/>
            <a:ext cx="3749760" cy="2867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https://urvitw.blu.livefilestore.com/y1muHL79c-8bJPWzOI1t7M6ZAUgPwANTlFCJuFuwElGwchYMGDDKyaesEMwFL6ktDAN6JtTBnrP6P7qSW0oP56zQY5TL8zV9PHqZhBybRpWeGzy3UI3XvihwJzObdme6RTObJXs6AsYgGM/ni%C3%B1os%20jugando.jpg"/>
          <p:cNvPicPr/>
          <p:nvPr/>
        </p:nvPicPr>
        <p:blipFill>
          <a:blip r:embed="rId2"/>
          <a:stretch/>
        </p:blipFill>
        <p:spPr>
          <a:xfrm>
            <a:off x="5643720" y="4300560"/>
            <a:ext cx="31669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ntrevista a niños y adolescentes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99680" y="1447560"/>
            <a:ext cx="416412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 mayor edad mayor uso de técnicas verbales de comunicació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decuar lenguaje a nivel de desarrollo del niñ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dolescentes: darles espacio, entrevistarlo sol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Nunca entrevistar solo a los padr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iempre preguntar en que le gustaría recibir ayuda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1" name="4 Marcador de contenido" descr="adolescentes.jpg"/>
          <p:cNvPicPr/>
          <p:nvPr/>
        </p:nvPicPr>
        <p:blipFill>
          <a:blip r:embed="rId1"/>
          <a:stretch/>
        </p:blipFill>
        <p:spPr>
          <a:xfrm>
            <a:off x="4933800" y="1477800"/>
            <a:ext cx="37497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Características generales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760" y="1571400"/>
            <a:ext cx="846432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Perpetua"/>
              </a:rPr>
              <a:t>Este curso está organizado con la colaboración de las </a:t>
            </a: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unidades docentes Norte, Oriente y Sur</a:t>
            </a:r>
            <a:r>
              <a:rPr b="0" lang="es-ES_tradnl" sz="2800" spc="-1" strike="noStrike">
                <a:solidFill>
                  <a:srgbClr val="000000"/>
                </a:solidFill>
                <a:latin typeface="Perpetua"/>
              </a:rPr>
              <a:t> de la Universidad de Chi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Impartiéndose un programa común para todos los campus de la Facultad de Medicina de la Universidad de Chil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Perpetua"/>
              </a:rPr>
              <a:t>Se ha realizado un esfuerzo por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Privilegiar las temáticas relevantes para el médico general, considerando el escaso tiempo disponib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Privilegiar las actividades práctica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ntrevista a los padres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14200" y="1447560"/>
            <a:ext cx="478656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Perpetua"/>
              </a:rPr>
              <a:t>Motivo de consulta - anamnes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604800" indent="-33552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Desde cuándo se produce la conducta que les preocup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74080" indent="-335520">
              <a:lnSpc>
                <a:spcPct val="80000"/>
              </a:lnSpc>
              <a:spcBef>
                <a:spcPts val="499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¿Desde “siempre” o desde un determinado momento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604800" indent="-33552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En qué contexto se produc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604800" indent="-33552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A qué lo atribuyen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604800" indent="-33552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Qué soluciones han intentado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604800" indent="-33552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Por qué consultan ahor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604800" indent="-33552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Qué esperan de la consulta?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072040" y="1447920"/>
            <a:ext cx="392904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00"/>
                </a:solidFill>
                <a:uFillTx/>
                <a:latin typeface="Perpetua"/>
              </a:rPr>
              <a:t>Historia del desarroll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mbarazo- part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emperamento-Vincul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esarrollo psicomot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esarrollo evolutivo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05680" indent="-22392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Lactan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5680" indent="-22392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reescol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5680" indent="-22392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Escol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5680" indent="-22392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dolescenci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ntecedentes médicos y psiquiátrico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05680" indent="-22392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ersonales y familia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da2bf"/>
                </a:solidFill>
                <a:latin typeface="Franklin Gothic Book"/>
              </a:rPr>
              <a:t>Examen mental</a:t>
            </a:r>
            <a:endParaRPr b="0" lang="en-US" sz="4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8592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pariencia gener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tacto y actitu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ciencia y orientación TE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ensopercep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sicomotricidad -conducta motor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nguaj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ensamiento –cognición- Estimación CI – juicio reali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7" name="4 Marcador de contenido" descr="examen mental.bmp"/>
          <p:cNvPicPr/>
          <p:nvPr/>
        </p:nvPicPr>
        <p:blipFill>
          <a:blip r:embed="rId1"/>
          <a:stretch/>
        </p:blipFill>
        <p:spPr>
          <a:xfrm>
            <a:off x="4929120" y="1071720"/>
            <a:ext cx="2900520" cy="29001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fectivi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ciencia enferme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lación consigo mism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lación con otr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xploración Familiar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uncionalidad familiar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omueve desarrollo de todos sus miembr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dultos (padres) cuidan y protegen a niños (hijo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oporciona satisfacción de necesidades nutricias y normativ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61" name="4 Marcador de contenido" descr="familia.jpg"/>
          <p:cNvPicPr/>
          <p:nvPr/>
        </p:nvPicPr>
        <p:blipFill>
          <a:blip r:embed="rId1"/>
          <a:stretch/>
        </p:blipFill>
        <p:spPr>
          <a:xfrm>
            <a:off x="4992840" y="1571760"/>
            <a:ext cx="3079440" cy="2303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4572000" y="400068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ubsistema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yug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arent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arento-fili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Fratern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xploración Familiar: rol parental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64" name="Picture 4" descr="student_discipline_head_photo"/>
          <p:cNvPicPr/>
          <p:nvPr/>
        </p:nvPicPr>
        <p:blipFill>
          <a:blip r:embed="rId1"/>
          <a:stretch/>
        </p:blipFill>
        <p:spPr>
          <a:xfrm>
            <a:off x="4643280" y="2276640"/>
            <a:ext cx="4286520" cy="2828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Our%20Family%20Love"/>
          <p:cNvPicPr/>
          <p:nvPr/>
        </p:nvPicPr>
        <p:blipFill>
          <a:blip r:embed="rId2"/>
          <a:stretch/>
        </p:blipFill>
        <p:spPr>
          <a:xfrm>
            <a:off x="1116000" y="1413000"/>
            <a:ext cx="2914560" cy="47336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6"/>
          <p:cNvSpPr/>
          <p:nvPr/>
        </p:nvSpPr>
        <p:spPr>
          <a:xfrm>
            <a:off x="1426320" y="62866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da2bf"/>
                </a:solidFill>
                <a:latin typeface="Tahoma"/>
              </a:rPr>
              <a:t>Rol nutricio/afec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5594400" y="62056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da2bf"/>
                </a:solidFill>
                <a:latin typeface="Tahoma"/>
              </a:rPr>
              <a:t>Rol norm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5716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xploración familiar: crianza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914400" y="1447920"/>
            <a:ext cx="374976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oceso en que se logra que un bebé dependiente llegue a ser adulto independie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Familia debiera ser una plataforma de despegu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ero… lanzar un cohete al espacio (uno que funcione) implica realizar tareas muy demandan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70" name="4 Marcador de contenido" descr="cohete 3.jpg"/>
          <p:cNvPicPr/>
          <p:nvPr/>
        </p:nvPicPr>
        <p:blipFill>
          <a:blip r:embed="rId1"/>
          <a:stretch/>
        </p:blipFill>
        <p:spPr>
          <a:xfrm>
            <a:off x="5243400" y="1447920"/>
            <a:ext cx="313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xploración familiar: </a:t>
            </a:r>
            <a:br>
              <a:rPr sz="4000"/>
            </a:b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quilibrio crianza ¿dificil?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stilos de los pad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2285640"/>
            <a:ext cx="40384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mperamento de los hij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74" name="7 Marcador de contenido" descr="niños equilibrio.jpg"/>
          <p:cNvPicPr/>
          <p:nvPr/>
        </p:nvPicPr>
        <p:blipFill>
          <a:blip r:embed="rId1"/>
          <a:stretch/>
        </p:blipFill>
        <p:spPr>
          <a:xfrm>
            <a:off x="1962000" y="3143160"/>
            <a:ext cx="4896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Procedimientos diagnósticos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trevista clínica al niño y a los padr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Historia dificultades actual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Historia del desarroll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ment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neurológico y fís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ploración famili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forme escol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psicológic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fonoaudiológica y T.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por asistente social</a:t>
            </a: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648320" y="357192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terconsulta a otros especialist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boratorio y radiología: hormonas tiroídeas, EEG, TAC, RNM; Spec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79" name="Picture 5" descr="http://www.parisconchicos.fr/blog/wp-content/uploads/2007/08/cerebro.jpg"/>
          <p:cNvPicPr/>
          <p:nvPr/>
        </p:nvPicPr>
        <p:blipFill>
          <a:blip r:embed="rId1"/>
          <a:stretch/>
        </p:blipFill>
        <p:spPr>
          <a:xfrm>
            <a:off x="3571920" y="5286240"/>
            <a:ext cx="155268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Psicopatología: interjuego entre: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2da2bf"/>
                </a:solidFill>
                <a:latin typeface="Franklin Gothic Book"/>
              </a:rPr>
              <a:t>Factores de riesg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2da2bf"/>
                </a:solidFill>
                <a:latin typeface="Franklin Gothic Book"/>
              </a:rPr>
              <a:t>Factores protecto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00ff"/>
                </a:solidFill>
                <a:latin typeface="Perpetua"/>
              </a:rPr>
              <a:t>Biológicos: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 Consumo sustancias tóxicas. Genética. Prematurez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00ff"/>
                </a:solidFill>
                <a:latin typeface="Perpetua"/>
              </a:rPr>
              <a:t>Psicológicos: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 Disfunción  familiar, enfermedad mental de un padre, duelos en la familia, abuso o maltrato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00ff"/>
                </a:solidFill>
                <a:latin typeface="Perpetua"/>
              </a:rPr>
              <a:t>Sociales: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 crianza en instituciones o en situación de aislamiento o peligro. Pobreza, marginalidad. Sufrir discriminación, persecución. Ser testigo de violencia social. Catástrofes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teligencia norma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emperamento “fácil”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alento espe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elación significativa cálida y amoros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ntar con red de apoy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ener oportunidad de experiencias positivas en un setting diferen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Psicopatología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14200" y="2394000"/>
          <a:ext cx="8786880" cy="2820960"/>
        </p:xfrm>
        <a:graphic>
          <a:graphicData uri="http://schemas.openxmlformats.org/drawingml/2006/table">
            <a:tbl>
              <a:tblPr/>
              <a:tblGrid>
                <a:gridCol w="1928880"/>
                <a:gridCol w="1585800"/>
                <a:gridCol w="1757520"/>
                <a:gridCol w="1355760"/>
                <a:gridCol w="2158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C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iológ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sicológ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mili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ociocul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edispon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ecipit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erpetu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tec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Diagnósticos en psiquiatría infantil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uadros clínicos difíciles de delimit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72880">
              <a:lnSpc>
                <a:spcPct val="80000"/>
              </a:lnSpc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… 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y de encontrar un caso “puro”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íntomas se superponen de un cuadro a otro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72880">
              <a:lnSpc>
                <a:spcPct val="80000"/>
              </a:lnSpc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Alta comorbilidad (46.7%)”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Diagnóstico es clínico, basado en la historia y en exámenes psicológico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No hay exámenes de laboratorio que nos permitan definir el diagnóstic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Diagnósticos han variado con el tiempo y cultur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89" name="8 Marcador de contenido" descr="psiquiatria.jpg"/>
          <p:cNvPicPr/>
          <p:nvPr/>
        </p:nvPicPr>
        <p:blipFill>
          <a:blip r:embed="rId1"/>
          <a:stretch/>
        </p:blipFill>
        <p:spPr>
          <a:xfrm>
            <a:off x="4933800" y="2214720"/>
            <a:ext cx="397044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Docentes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4572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EC: Dra. Margarita Maida (sede Oriente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Coordinadores Sede Norte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Dra. Marcela Abufhe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siquiatra Infantil CPU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8119"/>
                </a:solidFill>
                <a:uFillTx/>
                <a:latin typeface="Perpetua"/>
                <a:hlinkClick r:id="rId1"/>
              </a:rPr>
              <a:t>marceabufhele@gmail.c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Dra. Gloria Toledo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siquiatra Infant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8119"/>
                </a:solidFill>
                <a:uFillTx/>
                <a:latin typeface="Perpetua"/>
                <a:hlinkClick r:id="rId2"/>
              </a:rPr>
              <a:t>keryma.keryma@gmail.c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8" name="Picture 5" descr="escuela"/>
          <p:cNvPicPr/>
          <p:nvPr/>
        </p:nvPicPr>
        <p:blipFill>
          <a:blip r:embed="rId3"/>
          <a:stretch/>
        </p:blipFill>
        <p:spPr>
          <a:xfrm>
            <a:off x="4941720" y="1571760"/>
            <a:ext cx="3773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Diagnóstico Multiaxial CIE-10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57120" y="1213920"/>
            <a:ext cx="6500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Eje 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d psiquiátrico clínic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Eje I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r. Específicos del desarrollo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Eje II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ivel intelectu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Eje IV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nfermedad médica asocia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Eje V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stresores psicosoci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da2bf"/>
                </a:solidFill>
                <a:latin typeface="Perpetua"/>
              </a:rPr>
              <a:t>Eje V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Discapacidad soc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2" name="Picture 21" descr="doctor-cartoon"/>
          <p:cNvPicPr/>
          <p:nvPr/>
        </p:nvPicPr>
        <p:blipFill>
          <a:blip r:embed="rId1"/>
          <a:stretch/>
        </p:blipFill>
        <p:spPr>
          <a:xfrm>
            <a:off x="6572160" y="1785960"/>
            <a:ext cx="25005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Elementos de tratamiento en Psiquiatría Infantil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71680" y="1643040"/>
            <a:ext cx="4092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educació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Manejo conductual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terapia individual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terapia de grup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Terapia de famili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Hospitalizacion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farmacoterapia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2da2b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Rehabilitació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5" name="Picture 9" descr="tzun203l"/>
          <p:cNvPicPr/>
          <p:nvPr/>
        </p:nvPicPr>
        <p:blipFill>
          <a:blip r:embed="rId1"/>
          <a:stretch/>
        </p:blipFill>
        <p:spPr>
          <a:xfrm>
            <a:off x="4734000" y="1571760"/>
            <a:ext cx="39942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7128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Epidemiología psiquiátrica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71424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valencia trastornos psiquiátricos: 24,2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atologías más frecuentes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rastornos adaptativos y déficit atencion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ferencias por géner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Varones: trastornos del desarrollo y de conduct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ujeres: emocionales e intentos suicida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96548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ferencias según período evolutiv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reescolares: madurez SNC y proceso de individuació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Escolares: inserción al sistema escolar, integración a nuevos grupos, rendimiento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sfunción familiar: 53% ambulatorio y 67% hospitalizad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6 CuadroTexto"/>
          <p:cNvSpPr/>
          <p:nvPr/>
        </p:nvSpPr>
        <p:spPr>
          <a:xfrm>
            <a:off x="3000240" y="6181560"/>
            <a:ext cx="592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Psicopatología Infantil y de la Adolescencia de Almonte C., Montt M.E., Correa A. Editorial Mediterráneo. 200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Conducta ética con el pacient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4296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uestro paciente es el niño….pero depende de adultos que lo cuida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spetar sus derechos y cuidar su bienest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Dilemas éticos que surgen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sentimient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fidencialida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02" name="Picture 14" descr="http://t0.gstatic.com/images?q=tbn:nlLwNT43ZXg0KM:http://www.postgradofcm.edu.ar/Educacion/JuramentoHipocratico/image0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57880" y="1643040"/>
            <a:ext cx="328608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Consentimiento en psiquiatría infantil y de la adolescencia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42600" y="185724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Debido a las limitaciones de la experiencia y del desarrollo cognitivo y moral, el consentimiento, desde el punto de vista legal, es concedido por los padres….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l médico,  desde la perspectiva bioética, debiera promover la participación del niño y del adolescente en la medida que su desarrollo y su capacidad lo permi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05" name="Picture 2" descr="http://www.logosdictionary.org/bimbi/images/pediatra.jpg"/>
          <p:cNvPicPr/>
          <p:nvPr/>
        </p:nvPicPr>
        <p:blipFill>
          <a:blip r:embed="rId1"/>
          <a:stretch/>
        </p:blipFill>
        <p:spPr>
          <a:xfrm>
            <a:off x="4908600" y="2214720"/>
            <a:ext cx="35211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Consentimiento en psiquiatría infantil y de la adolescencia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933800" y="164304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Qué pasa en el caso que los padres a cargo del niño no actúen en pos del bienestar del menor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No se puede permitir que un paciente sufra daño porque sus padres rechazan el tratamiento o insisten en tratamiento innecesari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08" name="Picture 6" descr="http://2.bp.blogspot.com/_59isc3X5Ehk/R-Z-lYTsbII/AAAAAAAAAuE/RnLgXP9mDCI/s400/ni%C3%B1o+bu.jpg"/>
          <p:cNvPicPr/>
          <p:nvPr/>
        </p:nvPicPr>
        <p:blipFill>
          <a:blip r:embed="rId1"/>
          <a:stretch/>
        </p:blipFill>
        <p:spPr>
          <a:xfrm>
            <a:off x="785880" y="1571760"/>
            <a:ext cx="3429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da2bf"/>
                </a:solidFill>
                <a:latin typeface="Franklin Gothic Book"/>
              </a:rPr>
              <a:t>Confidencialidad en psiquiatría de niños y adolescentes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78588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Respetar siempre autonomía del paciente y derecho a su confidenciali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Límites confidencialidad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Contenidos revelados constituye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Amenaza a la integridad física propia o ajena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Suicidalidad – homicid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Conductas de riesg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Se refieren a hechos delictuales (maltratos y abusos sexuale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38160">
            <a:solidFill>
              <a:srgbClr val="2da2bf"/>
            </a:solidFill>
            <a:miter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da2bf"/>
                </a:solidFill>
                <a:latin typeface="Franklin Gothic Book"/>
              </a:rPr>
              <a:t>RECAPITULANDO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14400" y="16430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ara abordar la salud mental de niños y adolescentes es importante diferenciar las conductas normales de las patológic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Para ello, hay que conocer muy bien el desarrollo normal: qué se espera a qué edad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ara poder analizar las conductas necesitamos varios observadores en distintos contexto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Y… en psiquiatría infantil, los diagnósticos son fundamentalmente clínic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e requiere especialmente una actitud ética y profesional, siempre pensando en beneficio del niñ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6"/>
          <p:cNvSpPr/>
          <p:nvPr/>
        </p:nvSpPr>
        <p:spPr>
          <a:xfrm>
            <a:off x="4192560" y="549360"/>
            <a:ext cx="3403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4011480" y="754200"/>
            <a:ext cx="19288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Picture 11" descr="Mafalda2"/>
          <p:cNvPicPr/>
          <p:nvPr/>
        </p:nvPicPr>
        <p:blipFill>
          <a:blip r:embed="rId1"/>
          <a:stretch/>
        </p:blipFill>
        <p:spPr>
          <a:xfrm>
            <a:off x="2411280" y="1557360"/>
            <a:ext cx="4248360" cy="28764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5"/>
          <p:cNvSpPr/>
          <p:nvPr/>
        </p:nvSpPr>
        <p:spPr>
          <a:xfrm>
            <a:off x="2214720" y="494172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2da2bf"/>
                </a:solidFill>
                <a:latin typeface="Tahoma"/>
              </a:rPr>
              <a:t>Muchas Gracia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ChildrenSeeChildrenDo.wmv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875376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213840"/>
            <a:ext cx="75438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Docentes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4800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. Ricardo García (Jefe Unidad de psiquiatría del niño y adolescente CPU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. Carlos Almo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Ps. Karla Alvarez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r. Elías Ara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ra. Muriel Halper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a. Ma José Vill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ra.  </a:t>
            </a: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Marcela Larraguib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Ps. María Elena Mont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. Juan Enrique Sepúlved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da2bf"/>
                </a:solidFill>
                <a:latin typeface="Perpetua"/>
              </a:rPr>
              <a:t>Becados psiquiatría infantil y de la adolescencia CPU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1" name="Picture 21" descr="doctor-cartoon"/>
          <p:cNvPicPr/>
          <p:nvPr/>
        </p:nvPicPr>
        <p:blipFill>
          <a:blip r:embed="rId1"/>
          <a:stretch/>
        </p:blipFill>
        <p:spPr>
          <a:xfrm>
            <a:off x="5468760" y="1643040"/>
            <a:ext cx="3143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Modalidad de trabajo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0040" y="1447560"/>
            <a:ext cx="39290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2 módulos paralelo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ardes: 04 agosto al 27 de Octub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ódulo teórico- prác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iércoles 14:00hrs a 17:00h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Clase expositiva: en auditorio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Taller práctico: en grupos pequeños: discusión casos clínicos, videos, etc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108400" y="1785960"/>
            <a:ext cx="3749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emana Práct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emana 21-24 de Septiembr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añanas (8:30-12:30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ctividad práctica con pacient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Realización de entrevistas, discusión casos clínicos, et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5" name="Picture 4" descr="opera"/>
          <p:cNvPicPr/>
          <p:nvPr/>
        </p:nvPicPr>
        <p:blipFill>
          <a:blip r:embed="rId1"/>
          <a:stretch/>
        </p:blipFill>
        <p:spPr>
          <a:xfrm>
            <a:off x="3857760" y="4714920"/>
            <a:ext cx="23587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Evaluación del curso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77" name="Picture 6" descr="mafalda_pacifista"/>
          <p:cNvPicPr/>
          <p:nvPr/>
        </p:nvPicPr>
        <p:blipFill>
          <a:blip r:embed="rId1"/>
          <a:stretch/>
        </p:blipFill>
        <p:spPr>
          <a:xfrm>
            <a:off x="900000" y="1928880"/>
            <a:ext cx="2943360" cy="4114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071960" y="1642680"/>
            <a:ext cx="4859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ueba I elección múltiple 50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ueba I desarrollo corto   2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ueba II desarrollo corto  2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sentación a examen     70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(E.M)                    30%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1403280" y="2214720"/>
            <a:ext cx="1656000" cy="934920"/>
          </a:xfrm>
          <a:prstGeom prst="ellipse">
            <a:avLst/>
          </a:prstGeom>
          <a:solidFill>
            <a:srgbClr val="d0ce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¡ay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7358040" y="307188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7715160" y="328608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Comunicación 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39765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lara y fluida entre docentes y alumn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ordinadoras y encargados de grupo a su disposición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udas o consultas: en persona o vía mail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elegado curs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Perpetua"/>
              </a:rPr>
              <a:t>Puente entre profesores y alumnos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Perpetua"/>
              </a:rPr>
              <a:t>Que tenga correo electrónico y lo lea todos los días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elegado grup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4" name="Picture 9" descr="principito"/>
          <p:cNvPicPr/>
          <p:nvPr/>
        </p:nvPicPr>
        <p:blipFill>
          <a:blip r:embed="rId1"/>
          <a:stretch/>
        </p:blipFill>
        <p:spPr>
          <a:xfrm>
            <a:off x="4915080" y="1928880"/>
            <a:ext cx="39574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2da2bf"/>
                </a:solidFill>
                <a:latin typeface="Franklin Gothic Book"/>
              </a:rPr>
              <a:t>Algunos “límites”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14240" y="1428840"/>
            <a:ext cx="78962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sistencia 100% obligatoria a actividades práctica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Inasistencias (2) justificadas a sus docente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Recuperación en la semana de las olimpiadas de la facultad y vacaciones septiembr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Recuperación pruebas: Modalidad D° corto y/u ora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ueb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tenidos: clases, talleres, </a:t>
            </a:r>
            <a:r>
              <a:rPr b="1" lang="es-CL" sz="2200" spc="-1" strike="noStrike">
                <a:solidFill>
                  <a:srgbClr val="000000"/>
                </a:solidFill>
                <a:latin typeface="Perpetua"/>
              </a:rPr>
              <a:t>estudio personal</a:t>
            </a: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, apunt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esarrollo normal: responsabilidad individua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tenido ES acumulativ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ctitud ética y profesion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 compañeros, docentes y pacient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21:01:15Z</dcterms:created>
  <dc:creator>marcela</dc:creator>
  <dc:description/>
  <dc:language>en-US</dc:language>
  <cp:lastModifiedBy>Marcela</cp:lastModifiedBy>
  <dcterms:modified xsi:type="dcterms:W3CDTF">2010-08-03T00:31:03Z</dcterms:modified>
  <cp:revision>59</cp:revision>
  <dc:subject/>
  <dc:title>Introducción Curso Psiquiatría Infantil y de la Adolescencia</dc:title>
</cp:coreProperties>
</file>