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6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0.png" ContentType="image/pn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37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42.jpeg" ContentType="image/jpeg"/>
  <Override PartName="/ppt/media/image1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4.png" ContentType="image/png"/>
  <Override PartName="/ppt/media/image3.png" ContentType="image/png"/>
  <Override PartName="/ppt/media/image1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C20A-7A43-4AEF-A20D-F2A05A00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E564-1506-4EE7-A0C3-6A4A284A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BCCE-CA4D-4038-981B-48A929EE3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B87B-D2DD-4199-8627-49D468F5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064A-159F-4F76-93DE-680F852F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212B-4239-467D-908B-FD401BD0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A22A-A5D7-498F-9ED5-AF80DE5D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0C63-28BD-4FBC-B3FB-64F0BAAA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A926-936E-41A3-99B5-06B83B4F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92B9-E82B-42F6-8C32-FE4F3CF3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AFB8-59C1-4506-A5F2-AE079478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C6D8-996E-4727-B604-11797253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6858-E001-4514-9997-0FF529A3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CD96-DF70-4E21-9EE5-01801A30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DCD7-94A0-4A82-8396-BD41CB19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BD31-2108-48E6-9635-862DABC53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80C1-821C-4E59-9DF8-E4B0C990E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B25FF-21A9-4261-A074-089B67BF9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71273-CA09-4E88-AC2A-94C9EE3D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40341-06AA-45B4-93FD-B4000F74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811BC-FED0-42A6-871B-BE190128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636D8-98F2-41F8-8084-BBFD4D69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2279-47AA-4A10-896E-8E4F8F26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527EA-2D4B-4581-A6E3-225E90F6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A323B-B346-4157-954E-96D578DA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91421-F763-4050-AD39-AF16F598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F1575-D65A-4C7B-8CA4-E409B918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638B8-BCC2-4F36-9135-58999154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92BD0-CA1C-4649-9CBE-D1ABD29F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03AC4-32E8-48EC-9009-48F9A59C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62A46-047F-4416-AD2E-B60A6044A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62B39-9B54-4663-A212-003C433B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5EADD-F2AE-432C-8360-DBC8C42A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522F-DEE5-493C-B2EA-12B44490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EF5CF-7B72-4E9C-B1ED-C24AD22C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D15CA-D29B-4123-B0F9-4D141421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0D790-29C8-4642-A39D-A5C9FC86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91203-9335-459A-BC59-E5C458A5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681AF-04D9-488B-A144-DB547927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72153-AC31-4A7D-BA79-4384C23A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2E7A3-C443-42EA-A005-186DCA66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1BECD-211D-424F-862E-0C9A46590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9CE29-2DB2-496F-8AC6-7CC1405F5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FB096-4BBB-4A09-B957-9EE2D158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E7D3-53F9-46AA-8F71-9016E6D9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59E7C-20C7-4EE3-A2DD-4A558FB5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4E4BD-2ABF-40A8-94B3-C5334A35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F21EE-AD1E-4264-9727-9A0926EB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6A79A-0DE9-4992-92B5-BDA8CE29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69388-3BCA-4DAA-812B-97A3698E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0DA1B-0892-44DB-B38F-51B117D4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A2B14-6D6A-4811-A664-0C95C4A4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A5930-BC37-49C9-8FC5-AAD491C9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164B5-A42C-4C51-A9CE-0DDA5FF6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F4B5E-62A4-4C5D-BA02-97DB0042B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99E2-128B-4533-99BB-1E2CEFAB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F4D6B-6D04-4189-9678-9A4839EE0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5FD19-2A7D-4D02-BA74-3D4171E09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C524D-6389-4C6D-A43F-1E7F65EE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E090B-DE93-41FE-9FD4-CEDDB7BC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6AEA9-0F58-4652-BD88-42BFDEA4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3AC06-2832-47B0-ADE6-CFB277CC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9BD87-D95C-4498-8A59-28138298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42B1F-09A1-49A3-8244-7E283206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E2908-70DF-4718-98E9-F444DBB7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E017A-CA85-4369-8CA3-DFD01AD9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A204-EE0D-40CB-A8A3-CF5B84EE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077F3-E3DA-4F0C-B45B-68B4E26F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A7F25-ADD6-4C8C-A482-AA53FA67B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BEF92-51E6-492B-9043-08D59599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A4645-7192-41FA-A23A-B13F4C00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3F9E8-2FE8-4684-8C23-1A94FA1A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90AF5-C3F8-404B-8EF9-41EB46DB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4B58E-070D-4E08-831B-36CA5EF9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9BDA7-00DF-454D-BD73-B5F1093F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F87FF-1EB9-496C-99DA-537CA7D4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F3212-7D18-4F58-B20A-1F6F3FC5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F9F8-640D-4C76-9623-ABCA151D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72F5D-AB77-4F32-9E1E-970696C3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4CE5C-34FC-472A-9B43-152BB936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1BFD7-2CE4-4815-9193-B8AE8929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8B8B0-0916-43B5-9E09-38230D6B2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B686C-2DD7-4B98-B54C-2ED8B0D93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D59F0-EDB0-49E9-B0C7-CA239D40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BB0CE-3297-470A-8562-904CCAB7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6E6C4-2C98-40E4-B3C9-4D667A43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5F1F7-ADB8-4792-9718-39E1E8C4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1C5B6-3B95-47BF-B17A-74AAAF2D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D5FE-5362-4A38-8122-8F35AA0C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BDDAB-13A5-40CC-B246-716327DA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F70E6-3C70-41C3-9C2D-6B176001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C47CF-8584-4675-B8F0-B70FFF33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EAEBD-1B57-4336-BCE1-568CA48F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84822-035B-425B-ADA8-5B3AB4DC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63E93-8B0F-4F28-A18A-34BC10E4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B10A4-E790-4B19-A108-433D0C04D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A0FB-210A-46AC-B929-680DA34F7012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9527-C3EB-4C8E-8555-2277671E8C70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DA57-DBD9-4989-8837-EF3940A93FB8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4BED-FD79-40FF-9DE6-94E5B609D57D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EBDA-91AA-472E-A9E0-4996C9F2FB89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984000" y="6315480"/>
            <a:ext cx="13474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BEE3-D1D9-4D71-A562-3300A3D2765E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984000" y="6315480"/>
            <a:ext cx="13474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6777-EA4D-4F46-BB4A-396CC72724AC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6865200" y="6314400"/>
            <a:ext cx="1508760" cy="3373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34D9-EF75-4F58-926A-D96D08CAB593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marceabufhele@gmail.com" TargetMode="External"/><Relationship Id="rId2" Type="http://schemas.openxmlformats.org/officeDocument/2006/relationships/hyperlink" Target="mailto:keryma.keryma@gmail.com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postgradofcm.edu.ar/Educacion/JuramentoHipocratico/image005.jpg&amp;imgrefurl=http://www.postgradofcm.edu.ar/index.php%3Fpagina%3D./Educacion/JuramentoHipocratico/Juramento.htm&amp;usg=__nOUSnWkF0zU14BN_UG1cq2juZoI=&amp;h=903&amp;w=627&amp;sz=146&amp;hl=es&amp;start=1&amp;tbnid=nlLwNT43ZXg0KM:&amp;tbnh=147&amp;tbnw=102&amp;prev=/images%3Fq%3Djuramento%2Bhipocratico%26gbv%3D2%26hl%3Des" TargetMode="External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066680" y="491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64646"/>
                </a:solidFill>
                <a:latin typeface="Perpetua"/>
              </a:rPr>
              <a:t>V Año Medicina 2010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64646"/>
                </a:solidFill>
                <a:latin typeface="Perpetua"/>
              </a:rPr>
              <a:t>Sede Nor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64646"/>
                </a:solidFill>
                <a:latin typeface="Perpetua"/>
              </a:rPr>
              <a:t>Clínica Psiquiátrica Universitari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1071360" y="1356840"/>
            <a:ext cx="7086600" cy="18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Franklin Gothic Book"/>
              </a:rPr>
              <a:t>Curso Psiquiatría Infantil y de la Adolescencia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graphicFrame>
        <p:nvGraphicFramePr>
          <p:cNvPr id="359" name="Object 4"/>
          <p:cNvGraphicFramePr/>
          <p:nvPr/>
        </p:nvGraphicFramePr>
        <p:xfrm>
          <a:off x="3975120" y="0"/>
          <a:ext cx="1025640" cy="13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75120" y="0"/>
                    <a:ext cx="102564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14292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2da2bf"/>
                </a:solidFill>
                <a:latin typeface="Franklin Gothic Book"/>
              </a:rPr>
              <a:t>Agradecimientos</a:t>
            </a:r>
            <a:endParaRPr b="0" lang="en-US" sz="48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99680" y="1356840"/>
            <a:ext cx="811044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A nuestros paciente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Quienes han sido muy generosos y nos han permitido filmar sesiones de entrevista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es hemos prometido que su uso será exclusivamente profesional y docente. Queremos pedir que se mantenga confidencialida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A los becados y profesionales docentes de la unidad de psiquiatría infantil  CPU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or su tiempo y motivación a colaborar en docencia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A ustedes: por sus deseos de aprender … y motivarnos a hacer una mejor docencia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da2bf"/>
                </a:solidFill>
                <a:latin typeface="Franklin Gothic Book"/>
              </a:rPr>
              <a:t>Al final del curso, les pediremos….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390" name="Picture 4" descr="m4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288900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7"/>
          <p:cNvSpPr/>
          <p:nvPr/>
        </p:nvSpPr>
        <p:spPr>
          <a:xfrm>
            <a:off x="428760" y="4929120"/>
            <a:ext cx="824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2da2bf"/>
                </a:solidFill>
                <a:latin typeface="Tahoma"/>
              </a:rPr>
              <a:t>…</a:t>
            </a:r>
            <a:r>
              <a:rPr b="1" lang="es-CL" sz="4400" spc="-1" strike="noStrike">
                <a:solidFill>
                  <a:srgbClr val="2da2bf"/>
                </a:solidFill>
                <a:latin typeface="Tahoma"/>
              </a:rPr>
              <a:t>una evaluación del proceso docent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2da2bf"/>
                </a:solidFill>
                <a:latin typeface="Franklin Gothic Book"/>
              </a:rPr>
              <a:t>Bibliografía</a:t>
            </a:r>
            <a:endParaRPr b="0" lang="en-US" sz="48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42960" y="1643040"/>
            <a:ext cx="796752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Perpetua"/>
              </a:rPr>
              <a:t>Psicopatología Infantil y del Adolescente”, de Almonte, Montt y Correa, publicado por Editorial Mediterráneo 2003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Perpetua"/>
              </a:rPr>
              <a:t>Capítulos indicados en el programa.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Perpetua"/>
              </a:rPr>
              <a:t>Apuntes adicionales diseñados por docente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Perpetua"/>
              </a:rPr>
              <a:t>Indicados en el programa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7" descr="mafalda"/>
          <p:cNvPicPr/>
          <p:nvPr/>
        </p:nvPicPr>
        <p:blipFill>
          <a:blip r:embed="rId1"/>
          <a:stretch/>
        </p:blipFill>
        <p:spPr>
          <a:xfrm>
            <a:off x="755640" y="142920"/>
            <a:ext cx="7095960" cy="5324400"/>
          </a:xfrm>
          <a:prstGeom prst="rect">
            <a:avLst/>
          </a:prstGeom>
          <a:ln w="0">
            <a:noFill/>
          </a:ln>
        </p:spPr>
      </p:pic>
      <p:sp>
        <p:nvSpPr>
          <p:cNvPr id="395" name="2 CuadroTexto"/>
          <p:cNvSpPr/>
          <p:nvPr/>
        </p:nvSpPr>
        <p:spPr>
          <a:xfrm>
            <a:off x="928800" y="521496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2da2bf"/>
                </a:solidFill>
                <a:latin typeface="Tahoma"/>
              </a:rPr>
              <a:t>Y que disfruten el curso…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295280" y="3543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464646"/>
                </a:solidFill>
                <a:latin typeface="Perpetua"/>
              </a:rPr>
              <a:t>Conceptos generale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Franklin Gothic Book"/>
              </a:rPr>
              <a:t>Psiquiatría de niños y adolescentes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video 1 TDHA.wmv" descr=""/>
          <p:cNvPicPr/>
          <p:nvPr/>
        </p:nvPicPr>
        <p:blipFill>
          <a:blip r:embed="rId1"/>
          <a:stretch/>
        </p:blipFill>
        <p:spPr>
          <a:xfrm>
            <a:off x="357120" y="231840"/>
            <a:ext cx="846936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5010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da2bf"/>
                </a:solidFill>
                <a:latin typeface="Franklin Gothic Book"/>
              </a:rPr>
              <a:t>Psiquiatría Infantil y del adolescente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71680" y="1642680"/>
            <a:ext cx="81151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specialidad primaria de la medicina cuyo campo de acción es prevención, diagnóstico, tratamiento y rehabilitación de enfermedades mentales del niño y adolescent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evención: promoción y fomento de salud mental y </a:t>
            </a:r>
            <a:r>
              <a:rPr b="1" lang="es-CL" sz="2400" spc="-1" strike="noStrike">
                <a:solidFill>
                  <a:srgbClr val="000000"/>
                </a:solidFill>
                <a:latin typeface="Perpetua"/>
              </a:rPr>
              <a:t>desarrollo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 san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Conociendo factores de riesgo y de protección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Diagnóstico, tratamiento y rehabilitación de las patologías mentales y problemas de salud mental que pueden alterar el </a:t>
            </a:r>
            <a:r>
              <a:rPr b="1" lang="es-CL" sz="2400" spc="-1" strike="noStrike">
                <a:solidFill>
                  <a:srgbClr val="000000"/>
                </a:solidFill>
                <a:latin typeface="Perpetua"/>
              </a:rPr>
              <a:t>desarrollo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 normal y sano de niños y adolescente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Comparte campo con neurología infantil y pediatría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da2bf"/>
                </a:solidFill>
                <a:latin typeface="Franklin Gothic Book"/>
              </a:rPr>
              <a:t>Desarrollo biopsicosocial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28400" y="1643040"/>
            <a:ext cx="8258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Adquisición de una identidad biológica, psicológica y social que equilibre las necesidades del individuo con las del contexto social en el que está inserto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Proceso de inducción sucesiva y recíproca entre diferentes sistemas (genética, neurobiología, ambiente familiar, sociocultural, entre otros) que conducen a la construcción  de una persona que es simultáneamente un </a:t>
            </a:r>
            <a:r>
              <a:rPr b="0" i="1" lang="es-ES" sz="2600" spc="-1" strike="noStrike">
                <a:solidFill>
                  <a:srgbClr val="2da2bf"/>
                </a:solidFill>
                <a:latin typeface="Perpetua"/>
              </a:rPr>
              <a:t>“organismo, un yo y un miembro de la sociedad”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da2bf"/>
                </a:solidFill>
                <a:latin typeface="Franklin Gothic Book"/>
              </a:rPr>
              <a:t>Desarrollo biopsicosocial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¿Por qué es necesario conocer el desarrollo normal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Permite diferenciar conductas normales y patológica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Permite impulsar aspectos preventivos que fomenten desarrollo integral del niño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Distintos logros en distintos periodos evolutiv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Bebé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, preescolar, escolar, adolescencia, adultez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Integración de distintos context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Individual, familiar, escolar, social, cultur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da2bf"/>
                </a:solidFill>
                <a:latin typeface="Franklin Gothic Book"/>
              </a:rPr>
              <a:t>¿Qué tipos de problemas aborda la Psiquiatría del niño y adolescente?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14400" y="17859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Alteración o desviación del desarrollo psicológico/psiquiátrico integral de niños y adolescent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nfermedades psiquiátricas de inicio en la infancia/adolescenci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nfermedades psiquiátricas que se inician a cualquier edad y también en infancia/adolescenci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Síntomas psicológicos originados por situaciones vitales y contextuales que afectan al niño/adolescen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Síntomas psicológicos que acompañan a enfermedades orgánica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07" name="Picture 3" descr="http://www.parisconchicos.fr/blog/wp-content/uploads/2007/08/cerebro.jpg"/>
          <p:cNvPicPr/>
          <p:nvPr/>
        </p:nvPicPr>
        <p:blipFill>
          <a:blip r:embed="rId1"/>
          <a:stretch/>
        </p:blipFill>
        <p:spPr>
          <a:xfrm>
            <a:off x="357120" y="1571760"/>
            <a:ext cx="1552680" cy="13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42960" y="7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2da2bf"/>
                </a:solidFill>
                <a:latin typeface="Franklin Gothic Book"/>
              </a:rPr>
              <a:t>Objetivo del curso</a:t>
            </a:r>
            <a:endParaRPr b="0" lang="en-US" sz="48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57120" y="1447560"/>
            <a:ext cx="43070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536400" indent="-223920">
              <a:lnSpc>
                <a:spcPct val="7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Perpetua"/>
              </a:rPr>
              <a:t>Formar al futuro médico en los conocimientos y habilidades básicas de la disciplina: 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7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Perpetua"/>
              </a:rPr>
              <a:t>Desempeñar un rol educativo y preventivo de la salud mental del niño y su familia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7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Perpetua"/>
              </a:rPr>
              <a:t>Diagnóstico y manejo inicial de la patología de la especialidad de consulta más frecuente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63" name="Picture 11" descr="life"/>
          <p:cNvPicPr/>
          <p:nvPr/>
        </p:nvPicPr>
        <p:blipFill>
          <a:blip r:embed="rId1"/>
          <a:stretch/>
        </p:blipFill>
        <p:spPr>
          <a:xfrm>
            <a:off x="4673520" y="1928880"/>
            <a:ext cx="43164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da2bf"/>
                </a:solidFill>
                <a:latin typeface="Franklin Gothic Book"/>
              </a:rPr>
              <a:t>Relevancia de psiquiatría infantil en Chile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914400" y="17859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Edad Adult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36% de la población tenía un trastorno psiquiátrico por lo menos 1 vez en la vid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22,6% refería 1 trastorno en los últimos 6 mes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Perpetua"/>
              </a:rPr>
              <a:t>Estudio Chileno de prevalencia de patología psiquiátrica. Vicente B., Rioseco P., Saldivia S., Kohn R., Torres S. Rev. Med. Chile. V.130, N°5, Mayo 2002. 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lvl="2" marL="272880" indent="-272880">
              <a:spcBef>
                <a:spcPts val="374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Niños y Adolescent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evalencia:  24,2% en escolares y 22,3% en niños mayores de 10 año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Perpetua"/>
              </a:rPr>
              <a:t>Toledo V., De la Barra F., López C., George M., Rodríguez J. en Psicopatología Infantil y de la Adolescencia de Almonte C., Montt M.E., Correa A. Editorial Mediterráneo. 2003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CL" sz="3600" spc="-1" strike="noStrike">
                <a:solidFill>
                  <a:srgbClr val="2da2bf"/>
                </a:solidFill>
                <a:latin typeface="Franklin Gothic Book"/>
              </a:rPr>
              <a:t> </a:t>
            </a:r>
            <a:r>
              <a:rPr b="0" lang="es-CL" sz="3600" spc="-1" strike="noStrike">
                <a:solidFill>
                  <a:srgbClr val="2da2bf"/>
                </a:solidFill>
                <a:latin typeface="Franklin Gothic Book"/>
              </a:rPr>
              <a:t>¿Qué tiene de diferente la Psiquiatría infantil y de la adolescencia?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714240" y="178596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os síntomas se producen en un ser en </a:t>
            </a:r>
            <a:r>
              <a:rPr b="0" lang="es-CL" sz="2600" spc="-1" strike="noStrike">
                <a:solidFill>
                  <a:srgbClr val="2da2bf"/>
                </a:solidFill>
                <a:latin typeface="Perpetua"/>
              </a:rPr>
              <a:t>desarroll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a importancia del</a:t>
            </a:r>
            <a:r>
              <a:rPr b="0" lang="es-CL" sz="2600" spc="-1" strike="noStrike">
                <a:solidFill>
                  <a:srgbClr val="2da2bf"/>
                </a:solidFill>
                <a:latin typeface="Perpetua"/>
              </a:rPr>
              <a:t> context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or lo tanto…..su importante rol </a:t>
            </a:r>
            <a:r>
              <a:rPr b="0" lang="es-CL" sz="2600" spc="-1" strike="noStrike">
                <a:solidFill>
                  <a:srgbClr val="2da2bf"/>
                </a:solidFill>
                <a:latin typeface="Perpetua"/>
              </a:rPr>
              <a:t>preventiv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12" name="5 Marcador de contenido" descr="untitled.bmp"/>
          <p:cNvPicPr/>
          <p:nvPr/>
        </p:nvPicPr>
        <p:blipFill>
          <a:blip r:embed="rId1"/>
          <a:stretch/>
        </p:blipFill>
        <p:spPr>
          <a:xfrm>
            <a:off x="4951440" y="1785960"/>
            <a:ext cx="37148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da2bf"/>
                </a:solidFill>
                <a:latin typeface="Franklin Gothic Book"/>
              </a:rPr>
              <a:t>Para analizar las conductas de los niños: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14" name="5 Marcador de contenido" descr="niños.jpg"/>
          <p:cNvPicPr/>
          <p:nvPr/>
        </p:nvPicPr>
        <p:blipFill>
          <a:blip r:embed="rId1"/>
          <a:stretch/>
        </p:blipFill>
        <p:spPr>
          <a:xfrm>
            <a:off x="5238720" y="2000160"/>
            <a:ext cx="3587760" cy="354348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6"/>
          <p:cNvSpPr/>
          <p:nvPr/>
        </p:nvSpPr>
        <p:spPr>
          <a:xfrm>
            <a:off x="500040" y="1773360"/>
            <a:ext cx="4319640" cy="521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ocer el desarrollo normal del niñ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nalizar el contexto en que se produce la conduc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ocer intensidad y características de la conduc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terminar incapacidad que produ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da2bf"/>
                </a:solidFill>
                <a:latin typeface="Franklin Gothic Book"/>
              </a:rPr>
              <a:t>¿Cómo diferenciar una conducta normal de un trastorno?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933800" y="164304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Frecuencia inusu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No acorde a edad de desarrollo del niño o adolescen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Ocurre en más de un contexto o ambien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Grado de discapacidad funcional que produce (severidad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iempo de duració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18" name="Picture 5" descr="34-1-thumb"/>
          <p:cNvPicPr/>
          <p:nvPr/>
        </p:nvPicPr>
        <p:blipFill>
          <a:blip r:embed="rId1"/>
          <a:stretch/>
        </p:blipFill>
        <p:spPr>
          <a:xfrm>
            <a:off x="357120" y="1928880"/>
            <a:ext cx="44690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00280" y="21384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da2bf"/>
                </a:solidFill>
                <a:latin typeface="Franklin Gothic Book"/>
              </a:rPr>
              <a:t>Análisis de la psicopatología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0" name="6 CuadroTexto"/>
          <p:cNvSpPr/>
          <p:nvPr/>
        </p:nvSpPr>
        <p:spPr>
          <a:xfrm>
            <a:off x="285840" y="1643040"/>
            <a:ext cx="10713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NIÑO/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D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7 CuadroTexto"/>
          <p:cNvSpPr/>
          <p:nvPr/>
        </p:nvSpPr>
        <p:spPr>
          <a:xfrm>
            <a:off x="2143080" y="1643040"/>
            <a:ext cx="16430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ESARROLL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8 CuadroTexto"/>
          <p:cNvSpPr/>
          <p:nvPr/>
        </p:nvSpPr>
        <p:spPr>
          <a:xfrm>
            <a:off x="4786200" y="1643040"/>
            <a:ext cx="13575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ONTEX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9 CuadroTexto"/>
          <p:cNvSpPr/>
          <p:nvPr/>
        </p:nvSpPr>
        <p:spPr>
          <a:xfrm>
            <a:off x="7143840" y="1571760"/>
            <a:ext cx="1357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INTOM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4" name="Picture 5" descr="mafalda%20sulla%20sedia"/>
          <p:cNvPicPr/>
          <p:nvPr/>
        </p:nvPicPr>
        <p:blipFill>
          <a:blip r:embed="rId1"/>
          <a:stretch/>
        </p:blipFill>
        <p:spPr>
          <a:xfrm>
            <a:off x="303120" y="2786040"/>
            <a:ext cx="971640" cy="13176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4" descr="manolito"/>
          <p:cNvPicPr/>
          <p:nvPr/>
        </p:nvPicPr>
        <p:blipFill>
          <a:blip r:embed="rId2"/>
          <a:stretch/>
        </p:blipFill>
        <p:spPr>
          <a:xfrm>
            <a:off x="285840" y="4714920"/>
            <a:ext cx="1155600" cy="14414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2" descr="familia"/>
          <p:cNvPicPr/>
          <p:nvPr/>
        </p:nvPicPr>
        <p:blipFill>
          <a:blip r:embed="rId3"/>
          <a:stretch/>
        </p:blipFill>
        <p:spPr>
          <a:xfrm>
            <a:off x="4786200" y="2214720"/>
            <a:ext cx="1289160" cy="11127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5" descr="profesor"/>
          <p:cNvPicPr/>
          <p:nvPr/>
        </p:nvPicPr>
        <p:blipFill>
          <a:blip r:embed="rId4"/>
          <a:stretch/>
        </p:blipFill>
        <p:spPr>
          <a:xfrm>
            <a:off x="4714920" y="4621320"/>
            <a:ext cx="1428840" cy="10224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0" descr="mafalda_amici"/>
          <p:cNvPicPr/>
          <p:nvPr/>
        </p:nvPicPr>
        <p:blipFill>
          <a:blip r:embed="rId5"/>
          <a:stretch/>
        </p:blipFill>
        <p:spPr>
          <a:xfrm>
            <a:off x="4581360" y="5715000"/>
            <a:ext cx="1776600" cy="9288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8" descr="dinero"/>
          <p:cNvPicPr/>
          <p:nvPr/>
        </p:nvPicPr>
        <p:blipFill>
          <a:blip r:embed="rId6"/>
          <a:stretch/>
        </p:blipFill>
        <p:spPr>
          <a:xfrm>
            <a:off x="4844880" y="3516480"/>
            <a:ext cx="1155960" cy="9842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" descr="http://blog.educastur.es/dcmo/files/2008/10/dibujo-de-corteza-cerebral.jpg"/>
          <p:cNvPicPr/>
          <p:nvPr/>
        </p:nvPicPr>
        <p:blipFill>
          <a:blip r:embed="rId7"/>
          <a:stretch/>
        </p:blipFill>
        <p:spPr>
          <a:xfrm>
            <a:off x="2214720" y="2857680"/>
            <a:ext cx="1373040" cy="11635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6" descr="bbarrosoir"/>
          <p:cNvPicPr/>
          <p:nvPr/>
        </p:nvPicPr>
        <p:blipFill>
          <a:blip r:embed="rId8"/>
          <a:stretch/>
        </p:blipFill>
        <p:spPr>
          <a:xfrm>
            <a:off x="2286000" y="4714920"/>
            <a:ext cx="1228680" cy="12110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2" descr="20051214183134-rayo"/>
          <p:cNvPicPr/>
          <p:nvPr/>
        </p:nvPicPr>
        <p:blipFill>
          <a:blip r:embed="rId9"/>
          <a:stretch/>
        </p:blipFill>
        <p:spPr>
          <a:xfrm>
            <a:off x="7215120" y="2643120"/>
            <a:ext cx="1117800" cy="12956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0" descr="illustration_02"/>
          <p:cNvPicPr/>
          <p:nvPr/>
        </p:nvPicPr>
        <p:blipFill>
          <a:blip r:embed="rId10"/>
          <a:stretch/>
        </p:blipFill>
        <p:spPr>
          <a:xfrm>
            <a:off x="7000920" y="4643280"/>
            <a:ext cx="1730160" cy="13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da2bf"/>
                </a:solidFill>
                <a:latin typeface="Franklin Gothic Book"/>
              </a:rPr>
              <a:t>El diagnóstico en Psiquiatría Infantil es (principalmente) clínico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914400" y="1838160"/>
            <a:ext cx="3749760" cy="43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equiere de una cuidadosa historia clínica y examen ment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36" name="5 Marcador de contenido" descr="niños jugando.bmp"/>
          <p:cNvPicPr/>
          <p:nvPr/>
        </p:nvPicPr>
        <p:blipFill>
          <a:blip r:embed="rId1"/>
          <a:stretch/>
        </p:blipFill>
        <p:spPr>
          <a:xfrm>
            <a:off x="5072040" y="1643040"/>
            <a:ext cx="320364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5" descr="padres"/>
          <p:cNvPicPr/>
          <p:nvPr/>
        </p:nvPicPr>
        <p:blipFill>
          <a:blip r:embed="rId1"/>
          <a:stretch/>
        </p:blipFill>
        <p:spPr>
          <a:xfrm>
            <a:off x="2195640" y="1989000"/>
            <a:ext cx="4752720" cy="344016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24"/>
          <p:cNvSpPr/>
          <p:nvPr/>
        </p:nvSpPr>
        <p:spPr>
          <a:xfrm>
            <a:off x="2700360" y="115920"/>
            <a:ext cx="433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da2bf"/>
                </a:solidFill>
                <a:latin typeface="Franklin Gothic Book"/>
              </a:rPr>
              <a:t>Y la información se obtiene (principalmente) de: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da2bf"/>
                </a:solidFill>
                <a:latin typeface="Franklin Gothic Book"/>
              </a:rPr>
              <a:t>Y de otras fuentes</a:t>
            </a:r>
            <a:r>
              <a:rPr b="0" lang="es-CL" sz="4000" spc="-1" strike="noStrike">
                <a:solidFill>
                  <a:srgbClr val="464646"/>
                </a:solidFill>
                <a:latin typeface="Franklin Gothic Book"/>
              </a:rPr>
              <a:t>…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41" name="6 Marcador de contenido" descr="profesores.gif"/>
          <p:cNvPicPr/>
          <p:nvPr/>
        </p:nvPicPr>
        <p:blipFill>
          <a:blip r:embed="rId1"/>
          <a:stretch/>
        </p:blipFill>
        <p:spPr>
          <a:xfrm>
            <a:off x="571680" y="1571760"/>
            <a:ext cx="2781000" cy="38764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7" descr="pediatra"/>
          <p:cNvPicPr/>
          <p:nvPr/>
        </p:nvPicPr>
        <p:blipFill>
          <a:blip r:embed="rId2"/>
          <a:stretch/>
        </p:blipFill>
        <p:spPr>
          <a:xfrm>
            <a:off x="5715000" y="1000080"/>
            <a:ext cx="2238480" cy="279720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0" descr="Resource2"/>
          <p:cNvPicPr/>
          <p:nvPr/>
        </p:nvPicPr>
        <p:blipFill>
          <a:blip r:embed="rId3"/>
          <a:stretch/>
        </p:blipFill>
        <p:spPr>
          <a:xfrm>
            <a:off x="5715000" y="4280040"/>
            <a:ext cx="1905120" cy="15048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C:\Users\usuario\Pictures\Abuelos2.jpg"/>
          <p:cNvPicPr/>
          <p:nvPr/>
        </p:nvPicPr>
        <p:blipFill>
          <a:blip r:embed="rId4"/>
          <a:stretch/>
        </p:blipFill>
        <p:spPr>
          <a:xfrm>
            <a:off x="3571920" y="4071960"/>
            <a:ext cx="22096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da2bf"/>
                </a:solidFill>
                <a:latin typeface="Franklin Gothic Book"/>
              </a:rPr>
              <a:t>Entrevista a niños y adolescentes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571680" y="1447560"/>
            <a:ext cx="4092480" cy="49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da2bf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Con actitud cálida y empática,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preguntar si sabe por qué viene a la consulta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spcBef>
                <a:spcPts val="499"/>
              </a:spcBef>
              <a:buClr>
                <a:srgbClr val="2da2bf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Hablar sobre áreas de interés del niño, acercándose discretamente al área problemática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spcBef>
                <a:spcPts val="499"/>
              </a:spcBef>
              <a:buClr>
                <a:srgbClr val="2da2bf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Niño pequeño: se puede jugar con el niño, dibujar con él, o dejarlo dibujar en forma libre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spcBef>
                <a:spcPts val="499"/>
              </a:spcBef>
              <a:buClr>
                <a:srgbClr val="2da2bf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Mientras se interactúa se va realizando examen mental del niño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47" name="Picture 6" descr="2005"/>
          <p:cNvPicPr/>
          <p:nvPr/>
        </p:nvPicPr>
        <p:blipFill>
          <a:blip r:embed="rId1"/>
          <a:stretch/>
        </p:blipFill>
        <p:spPr>
          <a:xfrm>
            <a:off x="4857840" y="1490760"/>
            <a:ext cx="3749760" cy="28670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6" descr="https://urvitw.blu.livefilestore.com/y1muHL79c-8bJPWzOI1t7M6ZAUgPwANTlFCJuFuwElGwchYMGDDKyaesEMwFL6ktDAN6JtTBnrP6P7qSW0oP56zQY5TL8zV9PHqZhBybRpWeGzy3UI3XvihwJzObdme6RTObJXs6AsYgGM/ni%C3%B1os%20jugando.jpg"/>
          <p:cNvPicPr/>
          <p:nvPr/>
        </p:nvPicPr>
        <p:blipFill>
          <a:blip r:embed="rId2"/>
          <a:stretch/>
        </p:blipFill>
        <p:spPr>
          <a:xfrm>
            <a:off x="5643720" y="4300560"/>
            <a:ext cx="316692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7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da2bf"/>
                </a:solidFill>
                <a:latin typeface="Franklin Gothic Book"/>
              </a:rPr>
              <a:t>Entrevista a niños y adolescentes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99680" y="1447560"/>
            <a:ext cx="416412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A mayor edad mayor uso de técnicas verbales de comunicació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Adecuar lenguaje a nivel de desarrollo del niño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Adolescentes: darles espacio, entrevistarlo solo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erpetua"/>
              </a:rPr>
              <a:t>Nunca entrevistar solo a los padr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Siempre preguntar en que le gustaría recibir ayuda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51" name="4 Marcador de contenido" descr="adolescentes.jpg"/>
          <p:cNvPicPr/>
          <p:nvPr/>
        </p:nvPicPr>
        <p:blipFill>
          <a:blip r:embed="rId1"/>
          <a:stretch/>
        </p:blipFill>
        <p:spPr>
          <a:xfrm>
            <a:off x="4933800" y="1477800"/>
            <a:ext cx="374976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2da2bf"/>
                </a:solidFill>
                <a:latin typeface="Franklin Gothic Book"/>
              </a:rPr>
              <a:t>Características generales</a:t>
            </a:r>
            <a:endParaRPr b="0" lang="en-US" sz="48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28760" y="1571400"/>
            <a:ext cx="846432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Perpetua"/>
              </a:rPr>
              <a:t>Este curso está organizado con la colaboración de las </a:t>
            </a:r>
            <a:r>
              <a:rPr b="0" lang="es-ES" sz="2800" spc="-1" strike="noStrike">
                <a:solidFill>
                  <a:srgbClr val="000000"/>
                </a:solidFill>
                <a:latin typeface="Perpetua"/>
              </a:rPr>
              <a:t>unidades docentes Norte, Oriente y Sur</a:t>
            </a:r>
            <a:r>
              <a:rPr b="0" lang="es-ES_tradnl" sz="2800" spc="-1" strike="noStrike">
                <a:solidFill>
                  <a:srgbClr val="000000"/>
                </a:solidFill>
                <a:latin typeface="Perpetua"/>
              </a:rPr>
              <a:t> de la Universidad de Chil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Perpetua"/>
              </a:rPr>
              <a:t>Impartiéndose un programa común para todos los campus de la Facultad de Medicina de la Universidad de Chil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Perpetua"/>
              </a:rPr>
              <a:t>Se ha realizado un esfuerzo por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Perpetua"/>
              </a:rPr>
              <a:t>Privilegiar las temáticas relevantes para el médico general, considerando el escaso tiempo disponibl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Perpetua"/>
              </a:rPr>
              <a:t>Privilegiar las actividades prácticas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da2bf"/>
                </a:solidFill>
                <a:latin typeface="Franklin Gothic Book"/>
              </a:rPr>
              <a:t>Entrevista a los padres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214200" y="1447560"/>
            <a:ext cx="478656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Perpetua"/>
              </a:rPr>
              <a:t>Motivo de consulta - anamnesi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604800" indent="-335520">
              <a:lnSpc>
                <a:spcPct val="80000"/>
              </a:lnSpc>
              <a:spcBef>
                <a:spcPts val="601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¿Desde cuándo se produce la conducta que les preocupa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74080" indent="-335520">
              <a:lnSpc>
                <a:spcPct val="80000"/>
              </a:lnSpc>
              <a:spcBef>
                <a:spcPts val="499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¿Desde “siempre” o desde un determinado momento?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604800" indent="-335520">
              <a:lnSpc>
                <a:spcPct val="80000"/>
              </a:lnSpc>
              <a:spcBef>
                <a:spcPts val="601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¿En qué contexto se produce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604800" indent="-335520">
              <a:lnSpc>
                <a:spcPct val="80000"/>
              </a:lnSpc>
              <a:spcBef>
                <a:spcPts val="601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¿A qué lo atribuyen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604800" indent="-335520">
              <a:lnSpc>
                <a:spcPct val="80000"/>
              </a:lnSpc>
              <a:spcBef>
                <a:spcPts val="601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¿Qué soluciones han intentado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604800" indent="-335520">
              <a:lnSpc>
                <a:spcPct val="80000"/>
              </a:lnSpc>
              <a:spcBef>
                <a:spcPts val="601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¿Por qué consultan ahora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604800" indent="-335520">
              <a:lnSpc>
                <a:spcPct val="80000"/>
              </a:lnSpc>
              <a:spcBef>
                <a:spcPts val="601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¿Qué esperan de la consulta?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5072040" y="1447920"/>
            <a:ext cx="3929040" cy="51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 u="sng">
                <a:solidFill>
                  <a:srgbClr val="000000"/>
                </a:solidFill>
                <a:uFillTx/>
                <a:latin typeface="Perpetua"/>
              </a:rPr>
              <a:t>Historia del desarroll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mbarazo- part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Temperamento-Vincul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Desarrollo psicomoto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Desarrollo evolutivo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05680" indent="-223920">
              <a:lnSpc>
                <a:spcPct val="90000"/>
              </a:lnSpc>
              <a:spcBef>
                <a:spcPts val="374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Lactant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05680" indent="-223920">
              <a:lnSpc>
                <a:spcPct val="90000"/>
              </a:lnSpc>
              <a:spcBef>
                <a:spcPts val="374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Preescola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05680" indent="-223920">
              <a:lnSpc>
                <a:spcPct val="90000"/>
              </a:lnSpc>
              <a:spcBef>
                <a:spcPts val="374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Escola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05680" indent="-223920">
              <a:lnSpc>
                <a:spcPct val="90000"/>
              </a:lnSpc>
              <a:spcBef>
                <a:spcPts val="374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Adolescenci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Antecedentes médicos y psiquiátrico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05680" indent="-223920">
              <a:lnSpc>
                <a:spcPct val="90000"/>
              </a:lnSpc>
              <a:spcBef>
                <a:spcPts val="374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Personales y familia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2da2bf"/>
                </a:solidFill>
                <a:latin typeface="Franklin Gothic Book"/>
              </a:rPr>
              <a:t>Examen mental</a:t>
            </a:r>
            <a:endParaRPr b="0" lang="en-US" sz="44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28592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Apariencia gener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Contacto y actitu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Conciencia y orientación TE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Sensopercepció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sicomotricidad -conducta motor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enguaj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ensamiento –cognición- Estimación CI – juicio realida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57" name="4 Marcador de contenido" descr="examen mental.bmp"/>
          <p:cNvPicPr/>
          <p:nvPr/>
        </p:nvPicPr>
        <p:blipFill>
          <a:blip r:embed="rId1"/>
          <a:stretch/>
        </p:blipFill>
        <p:spPr>
          <a:xfrm>
            <a:off x="4929120" y="1071720"/>
            <a:ext cx="2900520" cy="290016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Afectivida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Conciencia enfermeda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elación consigo mism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elación con otr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da2bf"/>
                </a:solidFill>
                <a:latin typeface="Franklin Gothic Book"/>
              </a:rPr>
              <a:t>Exploración Familiar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Funcionalidad familiar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omueve desarrollo de todos sus miembro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Adultos (padres) cuidan y protegen a niños (hijo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oporciona satisfacción de necesidades nutricias y normativa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61" name="4 Marcador de contenido" descr="familia.jpg"/>
          <p:cNvPicPr/>
          <p:nvPr/>
        </p:nvPicPr>
        <p:blipFill>
          <a:blip r:embed="rId1"/>
          <a:stretch/>
        </p:blipFill>
        <p:spPr>
          <a:xfrm>
            <a:off x="4992840" y="1571760"/>
            <a:ext cx="3079440" cy="230328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 txBox="1"/>
          <p:nvPr/>
        </p:nvSpPr>
        <p:spPr>
          <a:xfrm>
            <a:off x="4572000" y="400068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Subsistema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6120" indent="-27324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Conyuga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6120" indent="-27324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Parenta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6120" indent="-27324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parento-filia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6120" indent="-27324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Fratern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da2bf"/>
                </a:solidFill>
                <a:latin typeface="Franklin Gothic Book"/>
              </a:rPr>
              <a:t>Exploración Familiar: rol parental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64" name="Picture 4" descr="student_discipline_head_photo"/>
          <p:cNvPicPr/>
          <p:nvPr/>
        </p:nvPicPr>
        <p:blipFill>
          <a:blip r:embed="rId1"/>
          <a:stretch/>
        </p:blipFill>
        <p:spPr>
          <a:xfrm>
            <a:off x="4643280" y="2276640"/>
            <a:ext cx="4286520" cy="28288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Our%20Family%20Love"/>
          <p:cNvPicPr/>
          <p:nvPr/>
        </p:nvPicPr>
        <p:blipFill>
          <a:blip r:embed="rId2"/>
          <a:stretch/>
        </p:blipFill>
        <p:spPr>
          <a:xfrm>
            <a:off x="1116000" y="1413000"/>
            <a:ext cx="2914560" cy="473364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6"/>
          <p:cNvSpPr/>
          <p:nvPr/>
        </p:nvSpPr>
        <p:spPr>
          <a:xfrm>
            <a:off x="1426320" y="6286680"/>
            <a:ext cx="23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da2bf"/>
                </a:solidFill>
                <a:latin typeface="Tahoma"/>
              </a:rPr>
              <a:t>Rol nutricio/afectiv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7"/>
          <p:cNvSpPr/>
          <p:nvPr/>
        </p:nvSpPr>
        <p:spPr>
          <a:xfrm>
            <a:off x="5594400" y="62056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da2bf"/>
                </a:solidFill>
                <a:latin typeface="Tahoma"/>
              </a:rPr>
              <a:t>Rol normativ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57160" y="7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da2bf"/>
                </a:solidFill>
                <a:latin typeface="Franklin Gothic Book"/>
              </a:rPr>
              <a:t>Exploración familiar: crianza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914400" y="1447920"/>
            <a:ext cx="374976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oceso en que se logra que un bebé dependiente llegue a ser adulto independien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Familia debiera ser una plataforma de despegu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ero… lanzar un cohete al espacio (uno que funcione) implica realizar tareas muy demandant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70" name="4 Marcador de contenido" descr="cohete 3.jpg"/>
          <p:cNvPicPr/>
          <p:nvPr/>
        </p:nvPicPr>
        <p:blipFill>
          <a:blip r:embed="rId1"/>
          <a:stretch/>
        </p:blipFill>
        <p:spPr>
          <a:xfrm>
            <a:off x="5243400" y="1447920"/>
            <a:ext cx="3130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7128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da2bf"/>
                </a:solidFill>
                <a:latin typeface="Franklin Gothic Book"/>
              </a:rPr>
              <a:t>Exploración familiar: </a:t>
            </a:r>
            <a:br>
              <a:rPr sz="4000"/>
            </a:br>
            <a:r>
              <a:rPr b="0" lang="es-CL" sz="4000" spc="-1" strike="noStrike">
                <a:solidFill>
                  <a:srgbClr val="2da2bf"/>
                </a:solidFill>
                <a:latin typeface="Franklin Gothic Book"/>
              </a:rPr>
              <a:t>equilibrio crianza ¿dificil?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7200" y="2285640"/>
            <a:ext cx="40384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stilos de los pad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648320" y="2285640"/>
            <a:ext cx="40384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mperamento de los hij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74" name="7 Marcador de contenido" descr="niños equilibrio.jpg"/>
          <p:cNvPicPr/>
          <p:nvPr/>
        </p:nvPicPr>
        <p:blipFill>
          <a:blip r:embed="rId1"/>
          <a:stretch/>
        </p:blipFill>
        <p:spPr>
          <a:xfrm>
            <a:off x="1962000" y="3143160"/>
            <a:ext cx="48960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da2bf"/>
                </a:solidFill>
                <a:latin typeface="Franklin Gothic Book"/>
              </a:rPr>
              <a:t>Procedimientos diagnósticos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ntrevista clínica al niño y a los padre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Historia dificultades actuale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Historia del desarrollo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xamen ment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xamen neurológico y físic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xploración familiar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Informe escolar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valuación psicológica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valuación fonoaudiológica y T.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valuación por asistente social</a:t>
            </a: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648320" y="357192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Interconsulta a otros especialista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aboratorio y radiología: hormonas tiroídeas, EEG, TAC, RNM; Spect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79" name="Picture 5" descr="http://www.parisconchicos.fr/blog/wp-content/uploads/2007/08/cerebro.jpg"/>
          <p:cNvPicPr/>
          <p:nvPr/>
        </p:nvPicPr>
        <p:blipFill>
          <a:blip r:embed="rId1"/>
          <a:stretch/>
        </p:blipFill>
        <p:spPr>
          <a:xfrm>
            <a:off x="3571920" y="5286240"/>
            <a:ext cx="155268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da2bf"/>
                </a:solidFill>
                <a:latin typeface="Franklin Gothic Book"/>
              </a:rPr>
              <a:t>Psicopatología: interjuego entre: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2da2bf"/>
                </a:solidFill>
                <a:latin typeface="Franklin Gothic Book"/>
              </a:rPr>
              <a:t>Factores de riesg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2da2bf"/>
                </a:solidFill>
                <a:latin typeface="Franklin Gothic Book"/>
              </a:rPr>
              <a:t>Factores protector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6600ff"/>
                </a:solidFill>
                <a:latin typeface="Perpetua"/>
              </a:rPr>
              <a:t>Biológicos:</a:t>
            </a:r>
            <a:r>
              <a:rPr b="0" lang="es-CL" sz="1800" spc="-1" strike="noStrike">
                <a:solidFill>
                  <a:srgbClr val="000000"/>
                </a:solidFill>
                <a:latin typeface="Perpetua"/>
              </a:rPr>
              <a:t> Consumo sustancias tóxicas. Genética. Prematurez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6600ff"/>
                </a:solidFill>
                <a:latin typeface="Perpetua"/>
              </a:rPr>
              <a:t>Psicológicos:</a:t>
            </a:r>
            <a:r>
              <a:rPr b="0" lang="es-CL" sz="1800" spc="-1" strike="noStrike">
                <a:solidFill>
                  <a:srgbClr val="000000"/>
                </a:solidFill>
                <a:latin typeface="Perpetua"/>
              </a:rPr>
              <a:t> Disfunción  familiar, enfermedad mental de un padre, duelos en la familia, abuso o maltrato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6600ff"/>
                </a:solidFill>
                <a:latin typeface="Perpetua"/>
              </a:rPr>
              <a:t>Sociales:</a:t>
            </a:r>
            <a:r>
              <a:rPr b="0" lang="es-CL" sz="1800" spc="-1" strike="noStrike">
                <a:solidFill>
                  <a:srgbClr val="000000"/>
                </a:solidFill>
                <a:latin typeface="Perpetua"/>
              </a:rPr>
              <a:t> crianza en instituciones o en situación de aislamiento o peligro. Pobreza, marginalidad. Sufrir discriminación, persecución. Ser testigo de violencia social. Catástrofes.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95288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Inteligencia normal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Temperamento “fácil”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Talento especi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Relación significativa cálida y amorosa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Contar con red de apoyo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Tener oportunidad de experiencias positivas en un setting diferent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2da2bf"/>
                </a:solidFill>
                <a:latin typeface="Franklin Gothic Book"/>
              </a:rPr>
              <a:t>Psicopatología</a:t>
            </a:r>
            <a:endParaRPr b="0" lang="en-US" sz="4800" spc="-1" strike="noStrike">
              <a:solidFill>
                <a:srgbClr val="464646"/>
              </a:solidFill>
              <a:latin typeface="Franklin Gothic Book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214200" y="2394000"/>
          <a:ext cx="8786880" cy="2820960"/>
        </p:xfrm>
        <a:graphic>
          <a:graphicData uri="http://schemas.openxmlformats.org/drawingml/2006/table">
            <a:tbl>
              <a:tblPr/>
              <a:tblGrid>
                <a:gridCol w="1928880"/>
                <a:gridCol w="1585800"/>
                <a:gridCol w="1757520"/>
                <a:gridCol w="1355760"/>
                <a:gridCol w="2158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FACT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iológ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sicológ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Famili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ociocultu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79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redispon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recipita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erpetua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rotect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da2bf"/>
                </a:solidFill>
                <a:latin typeface="Franklin Gothic Book"/>
              </a:rPr>
              <a:t>Diagnósticos en psiquiatría infantil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Cuadros clínicos difíciles de delimita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72880">
              <a:lnSpc>
                <a:spcPct val="80000"/>
              </a:lnSpc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erpetua"/>
              </a:rPr>
              <a:t>… </a:t>
            </a:r>
            <a:r>
              <a:rPr b="0" lang="es-CL" sz="1800" spc="-1" strike="noStrike">
                <a:solidFill>
                  <a:srgbClr val="000000"/>
                </a:solidFill>
                <a:latin typeface="Perpetua"/>
              </a:rPr>
              <a:t>y de encontrar un caso “puro”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Síntomas se superponen de un cuadro a otro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72880">
              <a:lnSpc>
                <a:spcPct val="80000"/>
              </a:lnSpc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erpetua"/>
              </a:rPr>
              <a:t>Alta comorbilidad (46.7%)”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Diagnóstico es clínico, basado en la historia y en exámenes psicológico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No hay exámenes de laboratorio que nos permitan definir el diagnóstic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Diagnósticos han variado con el tiempo y cultur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89" name="8 Marcador de contenido" descr="psiquiatria.jpg"/>
          <p:cNvPicPr/>
          <p:nvPr/>
        </p:nvPicPr>
        <p:blipFill>
          <a:blip r:embed="rId1"/>
          <a:stretch/>
        </p:blipFill>
        <p:spPr>
          <a:xfrm>
            <a:off x="4933800" y="2214720"/>
            <a:ext cx="397044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5438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2da2bf"/>
                </a:solidFill>
                <a:latin typeface="Franklin Gothic Book"/>
              </a:rPr>
              <a:t>Docentes</a:t>
            </a:r>
            <a:endParaRPr b="0" lang="en-US" sz="48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14200" y="1285920"/>
            <a:ext cx="4572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PEC: Dra. Margarita Maida (sede Oriente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Coordinadores Sede Norte: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Dra. Marcela Abufhel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siquiatra Infantil CPU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8119"/>
                </a:solidFill>
                <a:uFillTx/>
                <a:latin typeface="Perpetua"/>
                <a:hlinkClick r:id="rId1"/>
              </a:rPr>
              <a:t>marceabufhele@gmail.co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Dra. Gloria Toledo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siquiatra Infant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8119"/>
                </a:solidFill>
                <a:uFillTx/>
                <a:latin typeface="Perpetua"/>
                <a:hlinkClick r:id="rId2"/>
              </a:rPr>
              <a:t>keryma.keryma@gmail.co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68" name="Picture 5" descr="escuela"/>
          <p:cNvPicPr/>
          <p:nvPr/>
        </p:nvPicPr>
        <p:blipFill>
          <a:blip r:embed="rId3"/>
          <a:stretch/>
        </p:blipFill>
        <p:spPr>
          <a:xfrm>
            <a:off x="4941720" y="1571760"/>
            <a:ext cx="37735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70920"/>
            <a:ext cx="77724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da2bf"/>
                </a:solidFill>
                <a:latin typeface="Franklin Gothic Book"/>
              </a:rPr>
              <a:t>Diagnóstico Multiaxial CIE-10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57120" y="1213920"/>
            <a:ext cx="650088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2da2bf"/>
                </a:solidFill>
                <a:latin typeface="Perpetua"/>
              </a:rPr>
              <a:t>Eje I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Sd psiquiátrico clínic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2da2bf"/>
                </a:solidFill>
                <a:latin typeface="Perpetua"/>
              </a:rPr>
              <a:t>Eje II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: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r. Específicos del desarrollo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2da2bf"/>
                </a:solidFill>
                <a:latin typeface="Perpetua"/>
              </a:rPr>
              <a:t>Eje III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: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Nivel intelectu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2da2bf"/>
                </a:solidFill>
                <a:latin typeface="Perpetua"/>
              </a:rPr>
              <a:t>Eje IV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: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nfermedad médica asociad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2da2bf"/>
                </a:solidFill>
                <a:latin typeface="Perpetua"/>
              </a:rPr>
              <a:t>Eje V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: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stresores psicosocia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2da2bf"/>
                </a:solidFill>
                <a:latin typeface="Perpetua"/>
              </a:rPr>
              <a:t>Eje VI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Discapacidad soci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92" name="Picture 21" descr="doctor-cartoon"/>
          <p:cNvPicPr/>
          <p:nvPr/>
        </p:nvPicPr>
        <p:blipFill>
          <a:blip r:embed="rId1"/>
          <a:stretch/>
        </p:blipFill>
        <p:spPr>
          <a:xfrm>
            <a:off x="6572160" y="1785960"/>
            <a:ext cx="25005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da2bf"/>
                </a:solidFill>
                <a:latin typeface="Franklin Gothic Book"/>
              </a:rPr>
              <a:t>Elementos de tratamiento en Psiquiatría Infantil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571680" y="1643040"/>
            <a:ext cx="4092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575"/>
              </a:spcBef>
              <a:buClr>
                <a:srgbClr val="2da2bf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Psicoeducación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25800" indent="-325800">
              <a:spcBef>
                <a:spcPts val="575"/>
              </a:spcBef>
              <a:buClr>
                <a:srgbClr val="2da2bf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Manejo conductual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25800" indent="-325800">
              <a:spcBef>
                <a:spcPts val="575"/>
              </a:spcBef>
              <a:buClr>
                <a:srgbClr val="2da2bf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Psicoterapia individual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25800" indent="-325800">
              <a:spcBef>
                <a:spcPts val="575"/>
              </a:spcBef>
              <a:buClr>
                <a:srgbClr val="2da2bf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Psicoterapia de grupo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25800" indent="-325800">
              <a:spcBef>
                <a:spcPts val="575"/>
              </a:spcBef>
              <a:buClr>
                <a:srgbClr val="2da2bf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Terapia de familia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25800" indent="-325800">
              <a:spcBef>
                <a:spcPts val="575"/>
              </a:spcBef>
              <a:buClr>
                <a:srgbClr val="2da2bf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Hospitalizacione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25800" indent="-325800">
              <a:spcBef>
                <a:spcPts val="575"/>
              </a:spcBef>
              <a:buClr>
                <a:srgbClr val="2da2bf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Psicofarmacoterapia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25800" indent="-325800">
              <a:spcBef>
                <a:spcPts val="575"/>
              </a:spcBef>
              <a:buClr>
                <a:srgbClr val="2da2bf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Rehabilitación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95" name="Picture 9" descr="tzun203l"/>
          <p:cNvPicPr/>
          <p:nvPr/>
        </p:nvPicPr>
        <p:blipFill>
          <a:blip r:embed="rId1"/>
          <a:stretch/>
        </p:blipFill>
        <p:spPr>
          <a:xfrm>
            <a:off x="4734000" y="1571760"/>
            <a:ext cx="399420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7128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da2bf"/>
                </a:solidFill>
                <a:latin typeface="Franklin Gothic Book"/>
              </a:rPr>
              <a:t>Epidemiología psiquiátrica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71424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evalencia trastornos psiquiátricos: 24,2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atologías más frecuentes: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Trastornos adaptativos y déficit atenciona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Diferencias por géner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Varones: trastornos del desarrollo y de conducta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Mujeres: emocionales e intentos suicida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965480" y="1447920"/>
            <a:ext cx="374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Diferencias según período evolutiv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Preescolares: madurez SNC y proceso de individuació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Escolares: inserción al sistema escolar, integración a nuevos grupos, rendimiento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Disfunción familiar: 53% ambulatorio y 67% hospitalizado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9" name="6 CuadroTexto"/>
          <p:cNvSpPr/>
          <p:nvPr/>
        </p:nvSpPr>
        <p:spPr>
          <a:xfrm>
            <a:off x="3000240" y="6181560"/>
            <a:ext cx="592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Psicopatología Infantil y de la Adolescencia de Almonte C., Montt M.E., Correa A. Editorial Mediterráneo. 2003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da2bf"/>
                </a:solidFill>
                <a:latin typeface="Franklin Gothic Book"/>
              </a:rPr>
              <a:t>Conducta ética con el paciente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64296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Nuestro paciente es el niño….pero depende de adultos que lo cuida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espetar sus derechos y cuidar su bienest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Dilemas éticos que surgen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consentimient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confidencialidad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02" name="Picture 14" descr="http://t0.gstatic.com/images?q=tbn:nlLwNT43ZXg0KM:http://www.postgradofcm.edu.ar/Educacion/JuramentoHipocratico/image00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57880" y="1643040"/>
            <a:ext cx="328608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da2bf"/>
                </a:solidFill>
                <a:latin typeface="Franklin Gothic Book"/>
              </a:rPr>
              <a:t>Consentimiento en psiquiatría infantil y de la adolescencia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642600" y="1857240"/>
            <a:ext cx="4071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Debido a las limitaciones de la experiencia y del desarrollo cognitivo y moral, el consentimiento, desde el punto de vista legal, es concedido por los padres….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l médico,  desde la perspectiva bioética, debiera promover la participación del niño y del adolescente en la medida que su desarrollo y su capacidad lo permit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05" name="Picture 2" descr="http://www.logosdictionary.org/bimbi/images/pediatra.jpg"/>
          <p:cNvPicPr/>
          <p:nvPr/>
        </p:nvPicPr>
        <p:blipFill>
          <a:blip r:embed="rId1"/>
          <a:stretch/>
        </p:blipFill>
        <p:spPr>
          <a:xfrm>
            <a:off x="4908600" y="2214720"/>
            <a:ext cx="352116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da2bf"/>
                </a:solidFill>
                <a:latin typeface="Franklin Gothic Book"/>
              </a:rPr>
              <a:t>Consentimiento en psiquiatría infantil y de la adolescencia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933800" y="164304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¿Qué pasa en el caso que los padres a cargo del niño no actúen en pos del bienestar del menor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No se puede permitir que un paciente sufra daño porque sus padres rechazan el tratamiento o insisten en tratamiento innecesari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08" name="Picture 6" descr="http://2.bp.blogspot.com/_59isc3X5Ehk/R-Z-lYTsbII/AAAAAAAAAuE/RnLgXP9mDCI/s400/ni%C3%B1o+bu.jpg"/>
          <p:cNvPicPr/>
          <p:nvPr/>
        </p:nvPicPr>
        <p:blipFill>
          <a:blip r:embed="rId1"/>
          <a:stretch/>
        </p:blipFill>
        <p:spPr>
          <a:xfrm>
            <a:off x="785880" y="1571760"/>
            <a:ext cx="3429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da2bf"/>
                </a:solidFill>
                <a:latin typeface="Franklin Gothic Book"/>
              </a:rPr>
              <a:t>Confidencialidad en psiquiatría de niños y adolescentes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785880" y="1714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Respetar siempre autonomía del paciente y derecho a su confidencialida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Límites confidencialidad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Contenidos revelados constituyen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Amenaza a la integridad física propia o ajena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374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Suicidalidad – homicidi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374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Conductas de riesg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Se refieren a hechos delictuales (maltratos y abusos sexuales)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38160">
            <a:solidFill>
              <a:srgbClr val="2da2bf"/>
            </a:solidFill>
            <a:miter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da2bf"/>
                </a:solidFill>
                <a:latin typeface="Franklin Gothic Book"/>
              </a:rPr>
              <a:t>RECAPITULANDO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914400" y="16430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ara abordar la salud mental de niños y adolescentes es importante diferenciar las conductas normales de las patológica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72880">
              <a:lnSpc>
                <a:spcPct val="90000"/>
              </a:lnSpc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Para ello, hay que conocer muy bien el desarrollo normal: qué se espera a qué edad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ara poder analizar las conductas necesitamos varios observadores en distintos contexto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Y… en psiquiatría infantil, los diagnósticos son fundamentalmente clínic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Se requiere especialmente una actitud ética y profesional, siempre pensando en beneficio del niño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6"/>
          <p:cNvSpPr/>
          <p:nvPr/>
        </p:nvSpPr>
        <p:spPr>
          <a:xfrm>
            <a:off x="4192560" y="549360"/>
            <a:ext cx="3403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Text Box 7"/>
          <p:cNvSpPr/>
          <p:nvPr/>
        </p:nvSpPr>
        <p:spPr>
          <a:xfrm>
            <a:off x="4011480" y="754200"/>
            <a:ext cx="19288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Picture 11" descr="Mafalda2"/>
          <p:cNvPicPr/>
          <p:nvPr/>
        </p:nvPicPr>
        <p:blipFill>
          <a:blip r:embed="rId1"/>
          <a:stretch/>
        </p:blipFill>
        <p:spPr>
          <a:xfrm>
            <a:off x="2411280" y="1557360"/>
            <a:ext cx="4248360" cy="287640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15"/>
          <p:cNvSpPr/>
          <p:nvPr/>
        </p:nvSpPr>
        <p:spPr>
          <a:xfrm>
            <a:off x="2214720" y="4941720"/>
            <a:ext cx="38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2da2bf"/>
                </a:solidFill>
                <a:latin typeface="Tahoma"/>
              </a:rPr>
              <a:t>Muchas Gracias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ChildrenSeeChildrenDo.wmv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8753760" cy="65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517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517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5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66320" y="213840"/>
            <a:ext cx="7543800" cy="10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2da2bf"/>
                </a:solidFill>
                <a:latin typeface="Franklin Gothic Book"/>
              </a:rPr>
              <a:t>Docentes</a:t>
            </a:r>
            <a:endParaRPr b="0" lang="en-US" sz="48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56760" y="1428840"/>
            <a:ext cx="4800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Perpetua"/>
              </a:rPr>
              <a:t>Dr. Ricardo García (Jefe Unidad de psiquiatría del niño y adolescente CPU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Perpetua"/>
              </a:rPr>
              <a:t>Dr. Carlos Almon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Ps. Karla Alvarez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Dr. Elías Arab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Dra. Muriel Halper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Perpetua"/>
              </a:rPr>
              <a:t>Dra. Ma José Villa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Dra.  </a:t>
            </a:r>
            <a:r>
              <a:rPr b="0" lang="es-ES_tradnl" sz="2400" spc="-1" strike="noStrike">
                <a:solidFill>
                  <a:srgbClr val="000000"/>
                </a:solidFill>
                <a:latin typeface="Perpetua"/>
              </a:rPr>
              <a:t>Marcela Larraguibe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Perpetua"/>
              </a:rPr>
              <a:t>Ps. María Elena Mont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Perpetua"/>
              </a:rPr>
              <a:t>Dr. Juan Enrique Sepúlved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da2bf"/>
                </a:solidFill>
                <a:latin typeface="Perpetua"/>
              </a:rPr>
              <a:t>Becados psiquiatría infantil y de la adolescencia CPU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1" name="Picture 21" descr="doctor-cartoon"/>
          <p:cNvPicPr/>
          <p:nvPr/>
        </p:nvPicPr>
        <p:blipFill>
          <a:blip r:embed="rId1"/>
          <a:stretch/>
        </p:blipFill>
        <p:spPr>
          <a:xfrm>
            <a:off x="5468760" y="1643040"/>
            <a:ext cx="31435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7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2da2bf"/>
                </a:solidFill>
                <a:latin typeface="Franklin Gothic Book"/>
              </a:rPr>
              <a:t>Modalidad de trabajo</a:t>
            </a:r>
            <a:endParaRPr b="0" lang="en-US" sz="48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00040" y="1447560"/>
            <a:ext cx="39290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2 módulos paralelo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Tardes: 04 agosto al 27 de Octub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Módulo teórico- práctic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Miércoles 14:00hrs a 17:00hr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lnSpc>
                <a:spcPct val="90000"/>
              </a:lnSpc>
              <a:spcBef>
                <a:spcPts val="374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erpetua"/>
              </a:rPr>
              <a:t>Clase expositiva: en auditorio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lnSpc>
                <a:spcPct val="90000"/>
              </a:lnSpc>
              <a:spcBef>
                <a:spcPts val="374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erpetua"/>
              </a:rPr>
              <a:t>Taller práctico: en grupos pequeños: discusión casos clínicos, videos, etc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108400" y="1785960"/>
            <a:ext cx="3749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Semana Práctic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semana 21-24 de Septiembre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Mañanas (8:30-12:30)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lnSpc>
                <a:spcPct val="90000"/>
              </a:lnSpc>
              <a:spcBef>
                <a:spcPts val="374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Actividad práctica con pacient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lnSpc>
                <a:spcPct val="90000"/>
              </a:lnSpc>
              <a:spcBef>
                <a:spcPts val="374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Realización de entrevistas, discusión casos clínicos, etc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5" name="Picture 4" descr="opera"/>
          <p:cNvPicPr/>
          <p:nvPr/>
        </p:nvPicPr>
        <p:blipFill>
          <a:blip r:embed="rId1"/>
          <a:stretch/>
        </p:blipFill>
        <p:spPr>
          <a:xfrm>
            <a:off x="3857760" y="4714920"/>
            <a:ext cx="235872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2da2bf"/>
                </a:solidFill>
                <a:latin typeface="Franklin Gothic Book"/>
              </a:rPr>
              <a:t>Evaluación del curso</a:t>
            </a:r>
            <a:endParaRPr b="0" lang="en-US" sz="48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377" name="Picture 6" descr="mafalda_pacifista"/>
          <p:cNvPicPr/>
          <p:nvPr/>
        </p:nvPicPr>
        <p:blipFill>
          <a:blip r:embed="rId1"/>
          <a:stretch/>
        </p:blipFill>
        <p:spPr>
          <a:xfrm>
            <a:off x="900000" y="1928880"/>
            <a:ext cx="2943360" cy="41148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071960" y="1642680"/>
            <a:ext cx="48592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ueba I elección múltiple 50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ueba I desarrollo corto   25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ueba II desarrollo corto  25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esentación a examen     70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xamen (E.M)                    30%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9" name="Oval 8"/>
          <p:cNvSpPr/>
          <p:nvPr/>
        </p:nvSpPr>
        <p:spPr>
          <a:xfrm>
            <a:off x="1403280" y="2214720"/>
            <a:ext cx="1656000" cy="934920"/>
          </a:xfrm>
          <a:prstGeom prst="ellipse">
            <a:avLst/>
          </a:prstGeom>
          <a:solidFill>
            <a:srgbClr val="d0ce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¡ay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Line 9"/>
          <p:cNvSpPr/>
          <p:nvPr/>
        </p:nvSpPr>
        <p:spPr>
          <a:xfrm>
            <a:off x="7358040" y="3071880"/>
            <a:ext cx="14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Text Box 10"/>
          <p:cNvSpPr/>
          <p:nvPr/>
        </p:nvSpPr>
        <p:spPr>
          <a:xfrm>
            <a:off x="7715160" y="3286080"/>
            <a:ext cx="10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2da2bf"/>
                </a:solidFill>
                <a:latin typeface="Franklin Gothic Book"/>
              </a:rPr>
              <a:t>Comunicación </a:t>
            </a:r>
            <a:endParaRPr b="0" lang="en-US" sz="48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39765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Clara y fluida entre docentes y alumn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Coordinadoras y encargados de grupo a su disposición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Dudas o consultas: en persona o vía mail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Delegado curso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Perpetua"/>
              </a:rPr>
              <a:t>Puente entre profesores y alumnos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Perpetua"/>
              </a:rPr>
              <a:t>Que tenga correo electrónico y lo lea todos los días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Delegado grupo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84" name="Picture 9" descr="principito"/>
          <p:cNvPicPr/>
          <p:nvPr/>
        </p:nvPicPr>
        <p:blipFill>
          <a:blip r:embed="rId1"/>
          <a:stretch/>
        </p:blipFill>
        <p:spPr>
          <a:xfrm>
            <a:off x="4915080" y="1928880"/>
            <a:ext cx="395748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2da2bf"/>
                </a:solidFill>
                <a:latin typeface="Franklin Gothic Book"/>
              </a:rPr>
              <a:t>Algunos “límites”</a:t>
            </a:r>
            <a:endParaRPr b="0" lang="en-US" sz="48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14240" y="1428840"/>
            <a:ext cx="78962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Asistencia 100% obligatoria a actividades práctica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Inasistencias (2) justificadas a sus docentes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Recuperación en la semana de las olimpiadas de la facultad y vacaciones septiembre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Recuperación pruebas: Modalidad D° corto y/u oral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rueba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Contenidos: clases, talleres, </a:t>
            </a:r>
            <a:r>
              <a:rPr b="1" lang="es-CL" sz="2200" spc="-1" strike="noStrike">
                <a:solidFill>
                  <a:srgbClr val="000000"/>
                </a:solidFill>
                <a:latin typeface="Perpetua"/>
              </a:rPr>
              <a:t>estudio personal</a:t>
            </a: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, apunte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Desarrollo normal: responsabilidad individual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Contenido ES acumulativo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Actitud ética y profesion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Con compañeros, docentes y paciente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3T21:01:15Z</dcterms:created>
  <dc:creator>marcela</dc:creator>
  <dc:description/>
  <dc:language>en-US</dc:language>
  <cp:lastModifiedBy>Marcela</cp:lastModifiedBy>
  <dcterms:modified xsi:type="dcterms:W3CDTF">2010-08-03T00:31:03Z</dcterms:modified>
  <cp:revision>59</cp:revision>
  <dc:subject/>
  <dc:title>Introducción Curso Psiquiatría Infantil y de la Adolescencia</dc:title>
</cp:coreProperties>
</file>