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19D-2995-47AE-ADAB-AFB1826791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2EC-382F-4DBB-AD92-E54F85DEED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28CF-20FA-4A82-89CE-7887ACC7C0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38D-8D80-4AE5-BC4E-2A487E49C4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38D0-74B0-4A54-BE95-967DC34774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2F0-69F0-4B18-BE99-EFAE110596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E83-D1E3-4D2F-8A13-3444DA67C9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D26-CDFF-482A-8B18-AA048F9668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6A7-7895-4FF2-96C6-B091AB118C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F2D-57FA-490D-9956-ACC98D30DD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57D-D4FE-4AE1-856C-C24E34A23C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BD5-93EF-490D-B4AA-1EA8F79C26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32C4-79A1-4BE8-A0A9-8C7BD60F02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1FD0-AD54-4AD0-B65E-E5A54E56BA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A23-5E9D-4AF8-87CC-AB4609B816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B24C-090C-4FF7-BC2C-9AE5FBAE8C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224-3FA4-49C7-B99B-B5F46D986A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E02-4889-40DD-A762-A9BF6D5858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E171-53ED-4807-A367-CD049CE097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A16-456B-4C15-BDE7-01785E1546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7B8-F7A5-47C4-9C58-96BB3622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EA0-1445-46CA-9C9A-7E09C7E1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CDA-2FEF-4393-955D-C9579B2C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F37-E148-45BC-99EB-E888E27D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860-6DED-45E9-B485-47CEDAD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D2D-F9C6-4DE9-8607-24D9D25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B38-DA36-4494-89AA-8FE65CC9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075-DE5E-4296-9CCC-232F61B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5C9-2916-4211-9068-D073452C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FAE-D706-4CB8-898F-72D20D0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63B-3093-45A4-8D03-420AD7F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51D-C0BE-4BB8-8AD4-3B90553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DA72-7F9A-4802-987C-016155C9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381880" cy="3671640"/>
          </a:xfrm>
          <a:prstGeom prst="rect">
            <a:avLst/>
          </a:prstGeom>
          <a:noFill/>
          <a:ln w="139680">
            <a:solidFill>
              <a:srgbClr val="bbe0e3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VíAS DE  ADMINISTRACIÓN  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DE FÁRMA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661000"/>
            <a:ext cx="5327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rof. María Elena Quintanilla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INESIOLOGÍ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Factores que influyen en la absorción oral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9649080" cy="32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1702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66ff"/>
                </a:solidFill>
                <a:uFillTx/>
                <a:latin typeface="Comic Sans MS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coeficiente partición lípido/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grado de ionización: buena absorción F no ionizados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tamaño partículas: buena absorción F peso molecular baj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- forma farmacéutica. Líquidas mejor absorsión que sól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2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-1er paso hepátic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94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4805280"/>
            <a:ext cx="6566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66ff"/>
                </a:solidFill>
                <a:uFillTx/>
                <a:latin typeface="Comic Sans MS"/>
              </a:rPr>
              <a:t>Factores de la via de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superficie de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velocidad vaciamient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11400" y="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ff"/>
                </a:solidFill>
                <a:latin typeface="Tahoma"/>
              </a:rPr>
              <a:t>1.- </a:t>
            </a:r>
            <a:r>
              <a:rPr b="1" lang="es-ES_tradnl" sz="3600" spc="-1" strike="noStrike" u="sng">
                <a:solidFill>
                  <a:srgbClr val="3366ff"/>
                </a:solidFill>
                <a:uFillTx/>
                <a:latin typeface="Tahoma"/>
              </a:rPr>
              <a:t>VIA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66ff"/>
                </a:solidFill>
                <a:latin typeface="Tahoma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2343240"/>
            <a:ext cx="5761080" cy="451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58160" y="87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CP lípido/agu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ejor absorsión F liposolu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5000"/>
            <a:ext cx="939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mer paso hepát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mejor absorsión F escaso primer pas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mala absorción F primer paso hepático grand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3366ff"/>
                </a:solidFill>
                <a:latin typeface="Tahoma"/>
              </a:rPr>
              <a:t>Factores propio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897280"/>
            <a:ext cx="835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300" spc="-1" strike="noStrike">
                <a:solidFill>
                  <a:srgbClr val="0066ff"/>
                </a:solidFill>
                <a:latin typeface="Tahoma"/>
              </a:rPr>
              <a:t>Factores propios de la vía  administ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67000" y="3141720"/>
            <a:ext cx="7986240" cy="2985840"/>
            <a:chOff x="567000" y="3141720"/>
            <a:chExt cx="7986240" cy="2985840"/>
          </a:xfrm>
        </p:grpSpPr>
        <p:sp>
          <p:nvSpPr>
            <p:cNvPr id="95" name=""/>
            <p:cNvSpPr/>
            <p:nvPr/>
          </p:nvSpPr>
          <p:spPr>
            <a:xfrm>
              <a:off x="965880" y="3141720"/>
              <a:ext cx="7587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 u="sng">
                  <a:solidFill>
                    <a:srgbClr val="333399"/>
                  </a:solidFill>
                  <a:uFillTx/>
                  <a:latin typeface="Comic Sans MS"/>
                </a:rPr>
                <a:t>ESTÓMAG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               </a:t>
              </a:r>
              <a:r>
                <a:rPr b="1" lang="es-ES_tradnl" sz="2400" spc="-1" strike="noStrike" u="sng">
                  <a:solidFill>
                    <a:srgbClr val="3366ff"/>
                  </a:solidFill>
                  <a:uFillTx/>
                  <a:latin typeface="Comic Sans MS"/>
                </a:rPr>
                <a:t>INTESTINO DEL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333399"/>
                  </a:solidFill>
                  <a:latin typeface="Comic Sans MS"/>
                </a:rPr>
                <a:t>pH 3.0 (ácido)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0" lang="es-ES_tradnl" sz="3600" spc="-1" strike="noStrike">
                  <a:solidFill>
                    <a:srgbClr val="3366ff"/>
                  </a:solidFill>
                  <a:latin typeface="Comic Sans MS"/>
                </a:rPr>
                <a:t>pH 5.3 (+alcalino)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8560" y="4438440"/>
              <a:ext cx="1584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HA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9280" y="47988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0920" y="5014800"/>
              <a:ext cx="934560" cy="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7000" y="5302080"/>
              <a:ext cx="17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lip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5840" y="5302080"/>
              <a:ext cx="198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hidr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6640" y="4365720"/>
              <a:ext cx="8773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Comic Sans MS"/>
                </a:rPr>
                <a:t>H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722560" y="4941720"/>
              <a:ext cx="100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22920" y="4726080"/>
              <a:ext cx="100764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9000" y="5302080"/>
              <a:ext cx="174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lip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2200" y="5302080"/>
              <a:ext cx="198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Aspi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6600"/>
                  </a:solidFill>
                  <a:latin typeface="Comic Sans MS"/>
                </a:rPr>
                <a:t>hidrosolu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2520" y="409248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66"/>
                  </a:solidFill>
                  <a:latin typeface="Verdana"/>
                </a:rPr>
                <a:t>ASPIRINA :ácido déb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70800" y="4557600"/>
              <a:ext cx="11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3300"/>
                  </a:solidFill>
                  <a:latin typeface="Comic Sans MS"/>
                </a:rPr>
                <a:t>A</a:t>
              </a:r>
              <a:r>
                <a:rPr b="1" lang="es-ES_tradnl" sz="2800" spc="-1" strike="noStrike" baseline="30000">
                  <a:solidFill>
                    <a:srgbClr val="cc3300"/>
                  </a:solidFill>
                  <a:latin typeface="Comic Sans MS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Comic Sans MS"/>
                </a:rPr>
                <a:t>+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9880" y="4486320"/>
              <a:ext cx="117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3300"/>
                  </a:solidFill>
                  <a:latin typeface="Comic Sans MS"/>
                </a:rPr>
                <a:t>A</a:t>
              </a:r>
              <a:r>
                <a:rPr b="1" lang="es-ES_tradnl" sz="2800" spc="-1" strike="noStrike" baseline="30000">
                  <a:solidFill>
                    <a:srgbClr val="cc3300"/>
                  </a:solidFill>
                  <a:latin typeface="Comic Sans MS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Comic Sans MS"/>
                </a:rPr>
                <a:t>+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15280" y="67140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fluencia del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125360"/>
            <a:ext cx="88200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pH ácido del estómago favorece que los F ácidos déb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e absorban mejor en el estómago que en intestino (pH 5.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ionización de los F ácidos y bases débiles  depende 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pKa del Fármaco y el pH de la vía de administración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5013360"/>
            <a:ext cx="0" cy="43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501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5013360"/>
            <a:ext cx="0" cy="36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1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83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erficie de la zona de absor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1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300" spc="-1" strike="noStrike">
                <a:solidFill>
                  <a:srgbClr val="0066ff"/>
                </a:solidFill>
                <a:latin typeface="Tahoma"/>
              </a:rPr>
              <a:t>Factores propios de la vía  administ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" y="1557360"/>
            <a:ext cx="915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ran superficie de absorción del intestino del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ermina que los ácidos y bases débiles se abso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mayor cantidad allí que en el estómag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http://www.cartage.org.lb/en/themes/sciences/LifeScience/GeneralBiology/Physiology/DigestiveSystem/ComponentsDigestive/humdigest_2.gif"/>
          <p:cNvPicPr/>
          <p:nvPr/>
        </p:nvPicPr>
        <p:blipFill>
          <a:blip r:embed="rId1"/>
          <a:stretch/>
        </p:blipFill>
        <p:spPr>
          <a:xfrm>
            <a:off x="2195640" y="2952720"/>
            <a:ext cx="43527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5520" y="2590920"/>
            <a:ext cx="82612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058840"/>
            <a:ext cx="37083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ff"/>
                </a:solidFill>
                <a:uFillTx/>
                <a:latin typeface="Times New Roman"/>
              </a:rPr>
              <a:t>DESVENTAJAS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Lenta velocidad d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-N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cons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ar en eme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- No se puede usar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ctes incon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- No usar pctes gastr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3816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Comparación Vía Oral con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vía endovenosa (ev), intramuscular (im) y subcutánea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80" y="1001880"/>
            <a:ext cx="9196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66ff"/>
                </a:solidFill>
                <a:uFillTx/>
                <a:latin typeface="Times New Roman"/>
              </a:rPr>
              <a:t>VENTAJAS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ás cómoda y económica, poco riesgo, útil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amientos crón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40036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3400" y="33336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al desventaja de la vía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2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 varios factores que pueden disminu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biodisponibilidad del F que son los siguien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960" y="2492280"/>
            <a:ext cx="806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 Falta de solubilidad del fárm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2.- Formación de complejos con ali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 otros fárma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3.- Destrucción por pH estomacal,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stinales o bacterias de algunos F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4.- Primer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2.-VIA REC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sventaja respecto a la oral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bsorción es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 incompleta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-F empl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Supos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En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765000"/>
            <a:ext cx="78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sitio de absorción es la porción terminal del intestino gru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40" y="2205000"/>
            <a:ext cx="90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entaja respecto a la via or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caso efecto de 1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4067280" y="4941720"/>
            <a:ext cx="2881080" cy="1916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95640" y="6165720"/>
            <a:ext cx="1655640" cy="0"/>
          </a:xfrm>
          <a:prstGeom prst="line">
            <a:avLst/>
          </a:prstGeom>
          <a:ln w="136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9272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3.-VÍA SUBLIN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328920"/>
            <a:ext cx="5796000" cy="33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17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entajas respecto vi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Solo es posible administ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 que se disuelv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áp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no se pueden administ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 irr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995640" cy="258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552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125360"/>
            <a:ext cx="608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ntajas respecto a vía or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No h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o hepático. F entra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a cava a aurícula derecha h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egar a órg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VÍA INHALA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3473280"/>
            <a:ext cx="7093080" cy="33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NTAJAS en administración sist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orción muy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mbrana alvéolo capilar muy del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fecto 1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aso hepá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dificultad para regular 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- algunos fármacos irritan tracto respi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907920"/>
            <a:ext cx="73677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FECTO LOCAL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Ejm:a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eficacia no depende de la absor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32400" y="2370240"/>
            <a:ext cx="8981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ara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FECTO SISTEMICO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jm anestésicos gene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absorción si importa para la eficacia terapéu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72360" y="3645000"/>
            <a:ext cx="2771640" cy="269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80000" y="1989000"/>
            <a:ext cx="1008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91520" cy="5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ÍAS 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2025720"/>
            <a:ext cx="559116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2064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zonas del organismo que sirven como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receptácu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que allí depositamos el medicamento o F-F para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inicie el proceso de 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9120" y="1197000"/>
            <a:ext cx="850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La via Inhalatoria no solo es 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via de administración de fármac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también es una via de elimi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e fárma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91520" cy="62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5.- PIEL</a:t>
            </a: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8280" y="692280"/>
            <a:ext cx="84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 córnea de la epidermis limita la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eable a sustancias químicas en condicio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520" y="2205000"/>
            <a:ext cx="891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6ff"/>
                </a:solidFill>
                <a:uFillTx/>
                <a:latin typeface="Times New Roman"/>
              </a:rPr>
              <a:t>Acción local o tóp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acción endodérm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ulaciones de antiinflamatorios y de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6ff"/>
                </a:solidFill>
                <a:uFillTx/>
                <a:latin typeface="Times New Roman"/>
              </a:rPr>
              <a:t>Acción General o sistém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acción transdérm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istemas terapéuticos transdérmicos(hormo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6000" y="4379760"/>
            <a:ext cx="3809880" cy="247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19280" y="4437000"/>
            <a:ext cx="576360" cy="79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http://diario.iol.pt/multimedia/oratvi/multimedia/imagem/id/12792235/235"/>
          <p:cNvPicPr/>
          <p:nvPr/>
        </p:nvPicPr>
        <p:blipFill>
          <a:blip r:embed="rId2"/>
          <a:stretch/>
        </p:blipFill>
        <p:spPr>
          <a:xfrm>
            <a:off x="6588000" y="4653000"/>
            <a:ext cx="223848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71640" y="691920"/>
            <a:ext cx="7200720" cy="30970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792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VÍAS “PARENTERALES”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6000" spc="-1" strike="noStrike">
                <a:solidFill>
                  <a:srgbClr val="000000"/>
                </a:solidFill>
                <a:latin typeface="Tahoma"/>
              </a:rPr>
              <a:t>             ARTIFICI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5280" y="4437000"/>
            <a:ext cx="4691880" cy="155628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DOVENOSA (e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UTÁNEA (s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AMUSCULAR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VÍAS “PARENTERALE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63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VENTAJAS RESPECTO A LA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Vías absorción ráp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in 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ministración en caso de F inactivados por vía ent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so en pacientes incons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Times New Roman"/>
              </a:rPr>
              <a:t>INCONVEN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cesitan de un operador capaci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erial estéril y asepsia adecu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eneralmente doloro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86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ahoma"/>
              </a:rPr>
              <a:t>VÍA ENDOV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6840" y="974880"/>
            <a:ext cx="58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Ventajas respecto a la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7040" y="1477800"/>
            <a:ext cx="805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La biodisponibilidad es de un 100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que no existe el proceso de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El inicio del efecto es muy rápido. Son 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merg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 posible tener gran exactitud en la 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Es posible administrar grandes volú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920" y="4581360"/>
            <a:ext cx="63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Desventajas respecto a la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5360" y="5013360"/>
            <a:ext cx="770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No es posible administrar suspensiones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oleosas. Solo soluciones acu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igeramente ácidas, alcalinas o irrita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9080" y="836640"/>
            <a:ext cx="45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Times New Roman"/>
              </a:rPr>
              <a:t>Dosis única “Bolus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fecto es co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0"/>
            <a:ext cx="92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y dos tipos de administración endov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76120" y="2349360"/>
          <a:ext cx="6024600" cy="44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349360"/>
                    <a:ext cx="6024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3527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4320" y="47520"/>
            <a:ext cx="91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2.- 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Times New Roman"/>
              </a:rPr>
              <a:t>Infusión endovenosa continua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(Efecto lar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76720" y="2322360"/>
            <a:ext cx="4067280" cy="45356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0" y="2584440"/>
            <a:ext cx="5105160" cy="4274640"/>
            <a:chOff x="0" y="2584440"/>
            <a:chExt cx="5105160" cy="4274640"/>
          </a:xfrm>
        </p:grpSpPr>
        <p:sp>
          <p:nvSpPr>
            <p:cNvPr id="171" name=""/>
            <p:cNvSpPr/>
            <p:nvPr/>
          </p:nvSpPr>
          <p:spPr>
            <a:xfrm>
              <a:off x="838080" y="2584440"/>
              <a:ext cx="0" cy="369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6277680"/>
              <a:ext cx="426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883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9880" y="627768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d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7160" y="3981600"/>
              <a:ext cx="3733560" cy="2270880"/>
            </a:xfrm>
            <a:custGeom>
              <a:avLst/>
              <a:gdLst/>
              <a:ahLst/>
              <a:rect l="l" t="t" r="r" b="b"/>
              <a:pathLst>
                <a:path w="2352" h="1092">
                  <a:moveTo>
                    <a:pt x="0" y="1092"/>
                  </a:moveTo>
                  <a:cubicBezTo>
                    <a:pt x="38" y="726"/>
                    <a:pt x="76" y="360"/>
                    <a:pt x="468" y="180"/>
                  </a:cubicBezTo>
                  <a:cubicBezTo>
                    <a:pt x="860" y="0"/>
                    <a:pt x="2038" y="40"/>
                    <a:pt x="2352" y="12"/>
                  </a:cubicBezTo>
                </a:path>
              </a:pathLst>
            </a:custGeom>
            <a:noFill/>
            <a:ln w="88920">
              <a:solidFill>
                <a:srgbClr val="0066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4081680"/>
              <a:ext cx="14288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340000" y="41702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ee  o 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149720"/>
            <a:ext cx="1297080" cy="2087640"/>
          </a:xfrm>
          <a:custGeom>
            <a:avLst/>
            <a:gdLst/>
            <a:ahLst/>
            <a:rect l="l" t="t" r="r" b="b"/>
            <a:pathLst>
              <a:path w="2359" h="1230">
                <a:moveTo>
                  <a:pt x="0" y="0"/>
                </a:moveTo>
                <a:cubicBezTo>
                  <a:pt x="41" y="104"/>
                  <a:pt x="86" y="438"/>
                  <a:pt x="247" y="626"/>
                </a:cubicBezTo>
                <a:cubicBezTo>
                  <a:pt x="408" y="814"/>
                  <a:pt x="615" y="1030"/>
                  <a:pt x="967" y="1130"/>
                </a:cubicBezTo>
                <a:cubicBezTo>
                  <a:pt x="1319" y="1230"/>
                  <a:pt x="2069" y="1204"/>
                  <a:pt x="2359" y="1224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19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fecto dura mientras dura la administración (días)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3760" y="765000"/>
            <a:ext cx="83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administrar por goteo grandes volúm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6160" y="2133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(fleboc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516720" y="2565360"/>
            <a:ext cx="71928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12200" y="53928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720" y="350028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us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-360"/>
            <a:ext cx="4427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VÍA INTRA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http://www.infermeravirtual.com/es-es/problemas-de-salud/tratamientos/medicamentos/medicamentos/imagenes-medicamentos/imagenes/intramuscular.2.jpg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6551640" y="0"/>
            <a:ext cx="2592360" cy="2576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4653000"/>
            <a:ext cx="51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 posible adminis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oluciones acuosas, ole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microcris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6640"/>
            <a:ext cx="63723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gran irrigación muscular per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sorción más rápida que por vía subcutánea, oral y rec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raindica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acientes con shock, hemofilia o que están siendo tratados con anticoagu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932360" y="3767040"/>
            <a:ext cx="421164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ahoma"/>
              </a:rPr>
              <a:t>VÍA SUBCUTÁNEA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eptáculo: tejido celular sub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posible administ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ones acuosas, oleosas, suspensiones, pellets y minibombas osm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ENTA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absorción más rápida que por vía oral o re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CONVENIENT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o se pueden administrar fármacos irritantes pues producen nec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http://www.hghnews.us/images/subcutaneous/hgh-news-subcutaneous-injection-basic.jpg"/>
          <p:cNvPicPr/>
          <p:nvPr/>
        </p:nvPicPr>
        <p:blipFill>
          <a:blip r:embed="rId1"/>
          <a:stretch/>
        </p:blipFill>
        <p:spPr>
          <a:xfrm>
            <a:off x="7012080" y="0"/>
            <a:ext cx="213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086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PERIODO DE LATENCIA</a:t>
            </a:r>
            <a:br>
              <a:rPr sz="36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e menor a may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do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halatoria – Sub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tra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bcut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4392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FORMAS   FARMACÉUTICAS  SÓL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327672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bletas o comprim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ag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ps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si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Óv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51280" y="119700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ttp://www.mipediatra.com/imagenes/supositorio4.jpg"/>
          <p:cNvPicPr/>
          <p:nvPr/>
        </p:nvPicPr>
        <p:blipFill>
          <a:blip r:embed="rId2"/>
          <a:stretch/>
        </p:blipFill>
        <p:spPr>
          <a:xfrm>
            <a:off x="6443640" y="3716280"/>
            <a:ext cx="2459160" cy="249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27640" y="981000"/>
            <a:ext cx="2916360" cy="218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9200" y="-27000"/>
            <a:ext cx="806760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VÍAS ADMINISTRACIÓN LO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93440" cy="2305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990099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RATECAL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pacio subaracnoid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jm Baclofeno intratecal en tratamiento espasticidad sev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 para efecto LOCAL. La eficacia terapéutica depende directamente de la dosis y no de la farmacocin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3789360"/>
            <a:ext cx="8767800" cy="1995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990000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ra Articular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ápsula artic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omic Sans MS"/>
              </a:rPr>
              <a:t>Ejm: inyección corticoides. Es para tener efecto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omic Sans MS"/>
              </a:rPr>
              <a:t>La eficacia terapéutica depende directamente de la dosis y no de la farmacocinética.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59920"/>
            <a:ext cx="899172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S FARMACÉUTICAS SEMISÓ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MISÓ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ttp://img.webmd.com/dtmcms/live/webmd/consumer_assets/site_images/articles/health_tools/winter_skin_hazards_slideshow/getty_rf_photo_of_hands_holding_face_cream.jpg"/>
          <p:cNvPicPr/>
          <p:nvPr/>
        </p:nvPicPr>
        <p:blipFill>
          <a:blip r:embed="rId1"/>
          <a:stretch/>
        </p:blipFill>
        <p:spPr>
          <a:xfrm>
            <a:off x="3564000" y="2349360"/>
            <a:ext cx="519912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ORMAS   FARMACÉUTICAS LIQU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8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Soluciones acuosas: colirios, 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spen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Jara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luciones ole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98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ulsiones (aceite/ag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luciones alcohólicas (tintu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ttp://www.pharmacy.cuhk.edu.hk/ampoule/en/about/ampoule.jpg"/>
          <p:cNvPicPr/>
          <p:nvPr/>
        </p:nvPicPr>
        <p:blipFill>
          <a:blip r:embed="rId1"/>
          <a:stretch/>
        </p:blipFill>
        <p:spPr>
          <a:xfrm>
            <a:off x="6156360" y="1268280"/>
            <a:ext cx="29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FORMAS   FARMACÉU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4787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-79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O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s transdérmicos (S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0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iposoma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vesículas muy pequeñ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ttp://www.educa.madrid.org/web/cc.nsdelasabiduria.madrid/Ejercicios/2b/Biologia/Lipidos/figuras_lipidos/liposoma.jpg"/>
          <p:cNvPicPr/>
          <p:nvPr/>
        </p:nvPicPr>
        <p:blipFill>
          <a:blip r:embed="rId1"/>
          <a:stretch/>
        </p:blipFill>
        <p:spPr>
          <a:xfrm>
            <a:off x="7162920" y="5292720"/>
            <a:ext cx="1981080" cy="156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4680" y="836640"/>
            <a:ext cx="24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ha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http://diario.iol.pt/multimedia/oratvi/multimedia/imagem/id/12792235/235"/>
          <p:cNvPicPr/>
          <p:nvPr/>
        </p:nvPicPr>
        <p:blipFill>
          <a:blip r:embed="rId3"/>
          <a:stretch/>
        </p:blipFill>
        <p:spPr>
          <a:xfrm>
            <a:off x="6516720" y="3213000"/>
            <a:ext cx="2238480" cy="183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88000" y="6021360"/>
            <a:ext cx="23050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4292640"/>
            <a:ext cx="23050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581360"/>
            <a:ext cx="12240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5734080"/>
            <a:ext cx="2303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73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23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VÍAS NATUR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(fácil acc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vía oral                         4-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vía rectal                      5-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vía sub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ff"/>
                </a:solidFill>
                <a:latin typeface="Times New Roman"/>
              </a:rPr>
              <a:t>VÍAS“PARENTERALES” o ARTIF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ía endove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vía subcut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3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Vía intra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5040" y="112680"/>
            <a:ext cx="77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 de las Vías 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43920"/>
            <a:ext cx="7086600" cy="7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66ff"/>
                </a:solidFill>
                <a:latin typeface="Tahoma"/>
              </a:rPr>
              <a:t>Objetivo al elegir una vía</a:t>
            </a:r>
            <a:r>
              <a:rPr b="1" lang="es-ES_tradnl" sz="3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2720" cy="19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vía elegida debe permitir que el fármaco alcance </a:t>
            </a:r>
            <a:r>
              <a:rPr b="1" lang="es-ES_tradnl" sz="3200" spc="-1" strike="noStrike">
                <a:solidFill>
                  <a:srgbClr val="3366ff"/>
                </a:solidFill>
                <a:latin typeface="Arial"/>
              </a:rPr>
              <a:t>una concentración suficiente en el órgano blanc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ara producir un efecto farmac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852640"/>
            <a:ext cx="576000" cy="792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357720"/>
            <a:ext cx="788508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ff"/>
                </a:solidFill>
                <a:latin typeface="Comic Sans MS"/>
              </a:rPr>
              <a:t>Factores que influyen la elección de una vía de administración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del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piedades físico-químicas del fárm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-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ormas farmacéutica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19280" y="1679400"/>
            <a:ext cx="5832360" cy="2471400"/>
          </a:xfrm>
          <a:prstGeom prst="rect">
            <a:avLst/>
          </a:prstGeom>
          <a:noFill/>
          <a:ln w="1396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Tahoma"/>
              </a:rPr>
              <a:t>VÍAS NATU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42:42Z</dcterms:created>
  <dc:creator>Usuario</dc:creator>
  <dc:description/>
  <dc:language>en-US</dc:language>
  <cp:lastModifiedBy>Facultad de Medicina</cp:lastModifiedBy>
  <dcterms:modified xsi:type="dcterms:W3CDTF">2010-08-03T16:08:03Z</dcterms:modified>
  <cp:revision>23</cp:revision>
  <dc:subject/>
  <dc:title>VíAS DE  ADMINISTRACIÓN  DE FÁRMACOS</dc:title>
</cp:coreProperties>
</file>