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14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87C-2F18-4D38-955D-401FC204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45C-CC38-4828-85F7-EACCFE33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FBA-96F4-4A51-95C7-A99EE6DB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E3D-6D92-4142-9B77-45E1C6DE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9E9-7B5F-4C79-982E-426B013F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FC2-969A-4C1A-936A-3D637D16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A8A-5ACA-4013-B9E8-81ADB514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032-8492-460D-8015-22214E01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B82-A674-43B5-B77A-2BAFD006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8F9-4A43-467D-A681-6E85F5DA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AA8-36B2-488B-AE94-DA1BA617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8B9-32BC-428C-B10F-C205C664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FF76-91F8-42EB-9D95-A5A8D6E67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3720" y="3454560"/>
            <a:ext cx="7653240" cy="344160"/>
          </a:xfrm>
          <a:custGeom>
            <a:avLst/>
            <a:gdLst/>
            <a:ahLst/>
            <a:rect l="l" t="t" r="r" b="b"/>
            <a:pathLst>
              <a:path w="4821" h="217">
                <a:moveTo>
                  <a:pt x="185" y="58"/>
                </a:moveTo>
                <a:lnTo>
                  <a:pt x="194" y="58"/>
                </a:lnTo>
                <a:lnTo>
                  <a:pt x="211" y="58"/>
                </a:lnTo>
                <a:lnTo>
                  <a:pt x="244" y="54"/>
                </a:lnTo>
                <a:lnTo>
                  <a:pt x="286" y="54"/>
                </a:lnTo>
                <a:lnTo>
                  <a:pt x="337" y="50"/>
                </a:lnTo>
                <a:lnTo>
                  <a:pt x="404" y="46"/>
                </a:lnTo>
                <a:lnTo>
                  <a:pt x="480" y="42"/>
                </a:lnTo>
                <a:lnTo>
                  <a:pt x="572" y="38"/>
                </a:lnTo>
                <a:lnTo>
                  <a:pt x="665" y="34"/>
                </a:lnTo>
                <a:lnTo>
                  <a:pt x="774" y="31"/>
                </a:lnTo>
                <a:lnTo>
                  <a:pt x="892" y="27"/>
                </a:lnTo>
                <a:lnTo>
                  <a:pt x="1010" y="23"/>
                </a:lnTo>
                <a:lnTo>
                  <a:pt x="1144" y="19"/>
                </a:lnTo>
                <a:lnTo>
                  <a:pt x="1287" y="15"/>
                </a:lnTo>
                <a:lnTo>
                  <a:pt x="1599" y="7"/>
                </a:lnTo>
                <a:lnTo>
                  <a:pt x="1927" y="4"/>
                </a:lnTo>
                <a:lnTo>
                  <a:pt x="2288" y="0"/>
                </a:lnTo>
                <a:lnTo>
                  <a:pt x="2675" y="0"/>
                </a:lnTo>
                <a:lnTo>
                  <a:pt x="3070" y="4"/>
                </a:lnTo>
                <a:lnTo>
                  <a:pt x="3491" y="7"/>
                </a:lnTo>
                <a:lnTo>
                  <a:pt x="3928" y="19"/>
                </a:lnTo>
                <a:lnTo>
                  <a:pt x="4366" y="34"/>
                </a:lnTo>
                <a:lnTo>
                  <a:pt x="4820" y="58"/>
                </a:lnTo>
                <a:lnTo>
                  <a:pt x="4820" y="61"/>
                </a:lnTo>
                <a:lnTo>
                  <a:pt x="4820" y="69"/>
                </a:lnTo>
                <a:lnTo>
                  <a:pt x="4820" y="85"/>
                </a:lnTo>
                <a:lnTo>
                  <a:pt x="4820" y="104"/>
                </a:lnTo>
                <a:lnTo>
                  <a:pt x="4820" y="150"/>
                </a:lnTo>
                <a:lnTo>
                  <a:pt x="4820" y="200"/>
                </a:lnTo>
                <a:lnTo>
                  <a:pt x="4433" y="177"/>
                </a:lnTo>
                <a:lnTo>
                  <a:pt x="4055" y="162"/>
                </a:lnTo>
                <a:lnTo>
                  <a:pt x="3684" y="150"/>
                </a:lnTo>
                <a:lnTo>
                  <a:pt x="3314" y="146"/>
                </a:lnTo>
                <a:lnTo>
                  <a:pt x="2953" y="146"/>
                </a:lnTo>
                <a:lnTo>
                  <a:pt x="2608" y="146"/>
                </a:lnTo>
                <a:lnTo>
                  <a:pt x="2263" y="154"/>
                </a:lnTo>
                <a:lnTo>
                  <a:pt x="1943" y="162"/>
                </a:lnTo>
                <a:lnTo>
                  <a:pt x="1632" y="169"/>
                </a:lnTo>
                <a:lnTo>
                  <a:pt x="1338" y="181"/>
                </a:lnTo>
                <a:lnTo>
                  <a:pt x="1060" y="193"/>
                </a:lnTo>
                <a:lnTo>
                  <a:pt x="799" y="200"/>
                </a:lnTo>
                <a:lnTo>
                  <a:pt x="564" y="208"/>
                </a:lnTo>
                <a:lnTo>
                  <a:pt x="354" y="212"/>
                </a:lnTo>
                <a:lnTo>
                  <a:pt x="160" y="216"/>
                </a:lnTo>
                <a:lnTo>
                  <a:pt x="0" y="212"/>
                </a:lnTo>
                <a:lnTo>
                  <a:pt x="185" y="58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3720" y="3454560"/>
            <a:ext cx="7653240" cy="344160"/>
          </a:xfrm>
          <a:custGeom>
            <a:avLst/>
            <a:gdLst/>
            <a:ahLst/>
            <a:rect l="l" t="t" r="r" b="b"/>
            <a:pathLst>
              <a:path w="4821" h="217">
                <a:moveTo>
                  <a:pt x="185" y="58"/>
                </a:moveTo>
                <a:lnTo>
                  <a:pt x="194" y="58"/>
                </a:lnTo>
                <a:lnTo>
                  <a:pt x="211" y="58"/>
                </a:lnTo>
                <a:lnTo>
                  <a:pt x="244" y="54"/>
                </a:lnTo>
                <a:lnTo>
                  <a:pt x="286" y="54"/>
                </a:lnTo>
                <a:lnTo>
                  <a:pt x="337" y="50"/>
                </a:lnTo>
                <a:lnTo>
                  <a:pt x="404" y="46"/>
                </a:lnTo>
                <a:lnTo>
                  <a:pt x="480" y="42"/>
                </a:lnTo>
                <a:lnTo>
                  <a:pt x="572" y="38"/>
                </a:lnTo>
                <a:lnTo>
                  <a:pt x="665" y="34"/>
                </a:lnTo>
                <a:lnTo>
                  <a:pt x="774" y="31"/>
                </a:lnTo>
                <a:lnTo>
                  <a:pt x="892" y="27"/>
                </a:lnTo>
                <a:lnTo>
                  <a:pt x="1010" y="23"/>
                </a:lnTo>
                <a:lnTo>
                  <a:pt x="1144" y="19"/>
                </a:lnTo>
                <a:lnTo>
                  <a:pt x="1287" y="15"/>
                </a:lnTo>
                <a:lnTo>
                  <a:pt x="1599" y="7"/>
                </a:lnTo>
                <a:lnTo>
                  <a:pt x="1927" y="4"/>
                </a:lnTo>
                <a:lnTo>
                  <a:pt x="2288" y="0"/>
                </a:lnTo>
                <a:lnTo>
                  <a:pt x="2675" y="0"/>
                </a:lnTo>
                <a:lnTo>
                  <a:pt x="3070" y="4"/>
                </a:lnTo>
                <a:lnTo>
                  <a:pt x="3491" y="7"/>
                </a:lnTo>
                <a:lnTo>
                  <a:pt x="3928" y="19"/>
                </a:lnTo>
                <a:lnTo>
                  <a:pt x="4366" y="34"/>
                </a:lnTo>
                <a:lnTo>
                  <a:pt x="4820" y="58"/>
                </a:lnTo>
                <a:lnTo>
                  <a:pt x="4820" y="61"/>
                </a:lnTo>
                <a:lnTo>
                  <a:pt x="4820" y="69"/>
                </a:lnTo>
                <a:lnTo>
                  <a:pt x="4820" y="85"/>
                </a:lnTo>
                <a:lnTo>
                  <a:pt x="4820" y="104"/>
                </a:lnTo>
                <a:lnTo>
                  <a:pt x="4820" y="150"/>
                </a:lnTo>
                <a:lnTo>
                  <a:pt x="4820" y="200"/>
                </a:lnTo>
                <a:lnTo>
                  <a:pt x="4433" y="177"/>
                </a:lnTo>
                <a:lnTo>
                  <a:pt x="4055" y="162"/>
                </a:lnTo>
                <a:lnTo>
                  <a:pt x="3684" y="150"/>
                </a:lnTo>
                <a:lnTo>
                  <a:pt x="3314" y="146"/>
                </a:lnTo>
                <a:lnTo>
                  <a:pt x="2953" y="146"/>
                </a:lnTo>
                <a:lnTo>
                  <a:pt x="2608" y="146"/>
                </a:lnTo>
                <a:lnTo>
                  <a:pt x="2263" y="154"/>
                </a:lnTo>
                <a:lnTo>
                  <a:pt x="1943" y="162"/>
                </a:lnTo>
                <a:lnTo>
                  <a:pt x="1632" y="169"/>
                </a:lnTo>
                <a:lnTo>
                  <a:pt x="1338" y="181"/>
                </a:lnTo>
                <a:lnTo>
                  <a:pt x="1060" y="193"/>
                </a:lnTo>
                <a:lnTo>
                  <a:pt x="799" y="200"/>
                </a:lnTo>
                <a:lnTo>
                  <a:pt x="564" y="208"/>
                </a:lnTo>
                <a:lnTo>
                  <a:pt x="354" y="212"/>
                </a:lnTo>
                <a:lnTo>
                  <a:pt x="160" y="216"/>
                </a:lnTo>
                <a:lnTo>
                  <a:pt x="0" y="212"/>
                </a:lnTo>
                <a:lnTo>
                  <a:pt x="185" y="58"/>
                </a:lnTo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584520"/>
            <a:ext cx="7845480" cy="73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5877000"/>
            <a:ext cx="40431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rof. María Elena Quintan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Kinesiologí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6520" y="1603440"/>
            <a:ext cx="619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PARÁMETROS FARMACOCI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REGÍMENES DE DOS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03240" y="440064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31960" y="528156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31960" y="344484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5080" y="41400"/>
            <a:ext cx="4402080" cy="5814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cc"/>
                </a:solidFill>
                <a:uFillTx/>
                <a:latin typeface="Calibri"/>
              </a:rPr>
              <a:t>¿PARA QUE SIRVE EL V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1268280"/>
            <a:ext cx="7108920" cy="6782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cc"/>
                </a:solidFill>
                <a:latin typeface="Calibri"/>
              </a:rPr>
              <a:t>Dosis de carga es la dosis con la cual se alcanz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cc"/>
                </a:solidFill>
                <a:latin typeface="Calibri"/>
              </a:rPr>
              <a:t>concentración plasmática esperada en forma ráp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2205000"/>
            <a:ext cx="8039160" cy="509400"/>
          </a:xfrm>
          <a:prstGeom prst="roundRect">
            <a:avLst>
              <a:gd name="adj" fmla="val 16667"/>
            </a:avLst>
          </a:prstGeom>
          <a:solidFill>
            <a:srgbClr val="cef9fe"/>
          </a:solidFill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Times New Roman"/>
              </a:rPr>
              <a:t>Dosis  de carga</a:t>
            </a:r>
            <a:r>
              <a:rPr b="0" lang="es-ES_tradnl" sz="2400" spc="-1" strike="noStrike">
                <a:solidFill>
                  <a:srgbClr val="990099"/>
                </a:solidFill>
                <a:latin typeface="Times New Roman"/>
              </a:rPr>
              <a:t> (mg)= </a:t>
            </a:r>
            <a:r>
              <a:rPr b="1" lang="es-ES_tradnl" sz="2400" spc="-1" strike="noStrike">
                <a:solidFill>
                  <a:srgbClr val="990099"/>
                </a:solidFill>
                <a:latin typeface="Times New Roman"/>
              </a:rPr>
              <a:t>Cp esperada (mg/litro)  x   Vd (li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35160" y="2852640"/>
            <a:ext cx="7653240" cy="3648960"/>
            <a:chOff x="1235160" y="2852640"/>
            <a:chExt cx="7653240" cy="3648960"/>
          </a:xfrm>
        </p:grpSpPr>
        <p:grpSp>
          <p:nvGrpSpPr>
            <p:cNvPr id="138" name=""/>
            <p:cNvGrpSpPr/>
            <p:nvPr/>
          </p:nvGrpSpPr>
          <p:grpSpPr>
            <a:xfrm>
              <a:off x="1235160" y="2852640"/>
              <a:ext cx="7653240" cy="3238560"/>
              <a:chOff x="1235160" y="2852640"/>
              <a:chExt cx="7653240" cy="3238560"/>
            </a:xfrm>
          </p:grpSpPr>
          <p:sp>
            <p:nvSpPr>
              <p:cNvPr id="139" name=""/>
              <p:cNvSpPr/>
              <p:nvPr/>
            </p:nvSpPr>
            <p:spPr>
              <a:xfrm rot="16200000">
                <a:off x="41040" y="4415760"/>
                <a:ext cx="278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 Unicode MS"/>
                  </a:rPr>
                  <a:t>mg fármaco/ 100 m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7240" y="4933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18120" y="4105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94360" y="3149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79640" y="5300640"/>
                <a:ext cx="4537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35280" y="3500280"/>
                <a:ext cx="4537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90880" y="4908600"/>
                <a:ext cx="968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CM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08800" y="3284640"/>
                <a:ext cx="94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CM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50920" y="4437000"/>
                <a:ext cx="453564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0320" y="4149720"/>
                <a:ext cx="200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p esperad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1911240" y="2852640"/>
                <a:ext cx="4679640" cy="3238560"/>
                <a:chOff x="1911240" y="2852640"/>
                <a:chExt cx="4679640" cy="323856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911240" y="4005360"/>
                  <a:ext cx="4679640" cy="2085840"/>
                  <a:chOff x="1911240" y="4005360"/>
                  <a:chExt cx="4679640" cy="20858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2018880" y="4352400"/>
                    <a:ext cx="4392720" cy="169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1" h="1656">
                        <a:moveTo>
                          <a:pt x="0" y="1656"/>
                        </a:moveTo>
                        <a:cubicBezTo>
                          <a:pt x="215" y="1486"/>
                          <a:pt x="431" y="1316"/>
                          <a:pt x="590" y="1067"/>
                        </a:cubicBezTo>
                        <a:cubicBezTo>
                          <a:pt x="749" y="818"/>
                          <a:pt x="825" y="318"/>
                          <a:pt x="953" y="159"/>
                        </a:cubicBezTo>
                        <a:cubicBezTo>
                          <a:pt x="1081" y="0"/>
                          <a:pt x="1255" y="53"/>
                          <a:pt x="1361" y="114"/>
                        </a:cubicBezTo>
                        <a:cubicBezTo>
                          <a:pt x="1467" y="175"/>
                          <a:pt x="1505" y="378"/>
                          <a:pt x="1588" y="522"/>
                        </a:cubicBezTo>
                        <a:cubicBezTo>
                          <a:pt x="1671" y="666"/>
                          <a:pt x="1769" y="840"/>
                          <a:pt x="1860" y="976"/>
                        </a:cubicBezTo>
                        <a:cubicBezTo>
                          <a:pt x="1951" y="1112"/>
                          <a:pt x="2004" y="1241"/>
                          <a:pt x="2132" y="1339"/>
                        </a:cubicBezTo>
                        <a:cubicBezTo>
                          <a:pt x="2260" y="1437"/>
                          <a:pt x="2445" y="1501"/>
                          <a:pt x="2631" y="1566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1911240" y="4005360"/>
                    <a:ext cx="4679640" cy="2085840"/>
                    <a:chOff x="1911240" y="4005360"/>
                    <a:chExt cx="4679640" cy="208584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947600" y="4005360"/>
                      <a:ext cx="0" cy="2085840"/>
                    </a:xfrm>
                    <a:prstGeom prst="line">
                      <a:avLst/>
                    </a:prstGeom>
                    <a:ln w="7632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911240" y="6091200"/>
                      <a:ext cx="4679640" cy="0"/>
                    </a:xfrm>
                    <a:prstGeom prst="line">
                      <a:avLst/>
                    </a:prstGeom>
                    <a:ln w="7632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"/>
                <p:cNvSpPr/>
                <p:nvPr/>
              </p:nvSpPr>
              <p:spPr>
                <a:xfrm flipV="1">
                  <a:off x="1943280" y="2852640"/>
                  <a:ext cx="0" cy="1224000"/>
                </a:xfrm>
                <a:prstGeom prst="line">
                  <a:avLst/>
                </a:prstGeom>
                <a:ln w="7632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4767480" y="60418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124000" y="708120"/>
            <a:ext cx="4930920" cy="43164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 anchorCtr="1">
            <a:noAutofit/>
          </a:bodyPr>
          <a:p>
            <a:pPr algn="ctr">
              <a:lnSpc>
                <a:spcPct val="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Sirve para calcular Dosis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http://www.deep-vein-thrombosis.co.uk/images/circulation-in-the-human-and-mammals.gif"/>
          <p:cNvPicPr/>
          <p:nvPr/>
        </p:nvPicPr>
        <p:blipFill>
          <a:blip r:embed="rId1"/>
          <a:stretch/>
        </p:blipFill>
        <p:spPr>
          <a:xfrm>
            <a:off x="324000" y="1700280"/>
            <a:ext cx="4319280" cy="48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4896000" y="1700280"/>
          <a:ext cx="4248000" cy="3521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96000" y="1700280"/>
                    <a:ext cx="424800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920680" y="31752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2200" y="501336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Tiempo: (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2120" y="5734080"/>
            <a:ext cx="437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2.-Volumen de plasma acla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fármaco en unidad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(C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37440" cy="4942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58920" y="309600"/>
            <a:ext cx="648000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Vida Media (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½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961920"/>
            <a:ext cx="8481960" cy="7063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½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 es el tiempo necesario para que la concent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anguínea de fármaco en la fase descendente baje a la mitad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1704960" y="836640"/>
            <a:ext cx="6595920" cy="1424160"/>
            <a:chOff x="1704960" y="836640"/>
            <a:chExt cx="6595920" cy="1424160"/>
          </a:xfrm>
        </p:grpSpPr>
        <p:sp>
          <p:nvSpPr>
            <p:cNvPr id="168" name=""/>
            <p:cNvSpPr/>
            <p:nvPr/>
          </p:nvSpPr>
          <p:spPr>
            <a:xfrm>
              <a:off x="1704960" y="1125360"/>
              <a:ext cx="113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4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n-US" sz="44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½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5760" y="836640"/>
              <a:ext cx="14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ff"/>
                  </a:solidFill>
                  <a:latin typeface="Tahoma"/>
                </a:rPr>
                <a:t>0.69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1960" y="1557360"/>
              <a:ext cx="781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ff"/>
                  </a:solidFill>
                  <a:latin typeface="Tahoma"/>
                </a:rPr>
                <a:t>K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0520" y="1577880"/>
              <a:ext cx="15112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91560" y="1298520"/>
              <a:ext cx="342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ff"/>
                  </a:solidFill>
                  <a:latin typeface="Tahoma"/>
                </a:rPr>
                <a:t>=minutos (hora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95800" y="907920"/>
              <a:ext cx="41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ff"/>
                  </a:solidFill>
                  <a:latin typeface="Comic Sans MS"/>
                </a:rPr>
                <a:t>(logaritmo natural de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43080" y="3392640"/>
            <a:ext cx="7570800" cy="3466800"/>
            <a:chOff x="1243080" y="3392640"/>
            <a:chExt cx="7570800" cy="3466800"/>
          </a:xfrm>
        </p:grpSpPr>
        <p:grpSp>
          <p:nvGrpSpPr>
            <p:cNvPr id="175" name=""/>
            <p:cNvGrpSpPr/>
            <p:nvPr/>
          </p:nvGrpSpPr>
          <p:grpSpPr>
            <a:xfrm>
              <a:off x="1243080" y="3392640"/>
              <a:ext cx="5829120" cy="3466800"/>
              <a:chOff x="1243080" y="3392640"/>
              <a:chExt cx="5829120" cy="3466800"/>
            </a:xfrm>
          </p:grpSpPr>
          <p:sp>
            <p:nvSpPr>
              <p:cNvPr id="176" name=""/>
              <p:cNvSpPr/>
              <p:nvPr/>
            </p:nvSpPr>
            <p:spPr>
              <a:xfrm>
                <a:off x="2863800" y="3587760"/>
                <a:ext cx="0" cy="2903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41480" y="6491160"/>
                <a:ext cx="3159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97600" y="64911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19320" y="48070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97000" y="3392640"/>
                <a:ext cx="83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728800" y="3587760"/>
                <a:ext cx="44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773440" y="5075280"/>
                <a:ext cx="460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33840" y="64911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46680" y="6491160"/>
                <a:ext cx="1015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60600" y="64911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728800" y="64659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11480" y="3586320"/>
                <a:ext cx="2665440" cy="2847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54520" y="5051520"/>
                <a:ext cx="15332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87760" y="5075280"/>
                <a:ext cx="0" cy="1343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64080" y="478944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243080" y="4168800"/>
                <a:ext cx="138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ff"/>
                    </a:solidFill>
                    <a:latin typeface="Comic Sans MS"/>
                  </a:rPr>
                  <a:t>logn</a:t>
                </a:r>
                <a:r>
                  <a:rPr b="1" lang="es-ES_tradnl" sz="2800" spc="-1" strike="noStrike">
                    <a:solidFill>
                      <a:srgbClr val="0000ff"/>
                    </a:solidFill>
                    <a:latin typeface="Comic Sans MS"/>
                  </a:rPr>
                  <a:t> [F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82880" y="5743440"/>
                <a:ext cx="2176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97600" y="5757840"/>
                <a:ext cx="0" cy="746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882880" y="6087960"/>
                <a:ext cx="2459160" cy="14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68480" y="6303960"/>
                <a:ext cx="269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91000" y="6062760"/>
                <a:ext cx="0" cy="411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81800" y="6202440"/>
                <a:ext cx="25200" cy="269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24320" y="543708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54800" y="580536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62520" y="605628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omic Sans MS"/>
                  </a:rPr>
                  <a:t>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984560" y="3645000"/>
              <a:ext cx="382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Constante de eliminación (K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         </a:t>
              </a:r>
              <a:r>
                <a:rPr b="1" lang="es-ES_tradnl" sz="2000" spc="-1" strike="noStrike">
                  <a:solidFill>
                    <a:srgbClr val="0000ff"/>
                  </a:solidFill>
                  <a:latin typeface="Arial"/>
                </a:rPr>
                <a:t>pendiente de la rec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763440" y="3860640"/>
              <a:ext cx="1297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83160" y="268200"/>
            <a:ext cx="3001680" cy="52056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Cálculo de la t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½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2276640"/>
            <a:ext cx="8069400" cy="96408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Para calcular la constante de eliminación (Ke) el fármaco se administra via endovenosa. Se dibuja un gráfico semilog de la fase descendente. El valor de la pendiente es la 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260280"/>
            <a:ext cx="374472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Vida Media (t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½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907920"/>
            <a:ext cx="8269560" cy="93528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 anchorCtr="1">
            <a:noAutofit/>
          </a:bodyPr>
          <a:p>
            <a:pPr algn="ctr">
              <a:lnSpc>
                <a:spcPct val="35000"/>
              </a:lnSpc>
              <a:spcBef>
                <a:spcPts val="15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La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 es constante no cambia al cambiar la dosis ni la v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500"/>
              </a:spcBef>
              <a:buClr>
                <a:srgbClr val="0000ff"/>
              </a:buClr>
              <a:buSzPct val="11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La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 se prolonga si hay daño hepático o 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4560" y="2781360"/>
            <a:ext cx="5461200" cy="6426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ff"/>
                </a:solidFill>
                <a:uFillTx/>
                <a:latin typeface="Arial"/>
              </a:rPr>
              <a:t>¿PARA QUE SIRVE LA </a:t>
            </a:r>
            <a:r>
              <a:rPr b="1" lang="es-ES_tradnl" sz="3600" spc="-1" strike="noStrike" u="sng">
                <a:solidFill>
                  <a:srgbClr val="0000ff"/>
                </a:solidFill>
                <a:uFillTx/>
                <a:latin typeface="Arial"/>
              </a:rPr>
              <a:t>t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½</a:t>
            </a:r>
            <a:r>
              <a:rPr b="1" lang="es-ES_tradnl" sz="3200" spc="-1" strike="noStrike" u="sng">
                <a:solidFill>
                  <a:srgbClr val="3333ff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32760" y="3890880"/>
            <a:ext cx="69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1.- Establecer el intervalo entre dosis (se elige una t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7800" y="441468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2.- Comparar velocidad de eliminación entre fárma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36360" y="4917960"/>
            <a:ext cx="92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3.-Conocer el tiempo que demora un fármaco en eliminarse tot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46080" y="5516640"/>
            <a:ext cx="843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4.- Conocer el tiempo que demora en alcanzarse la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      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es estado de equilibrio (Cee) en un régimen de do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-960480" y="2313000"/>
            <a:ext cx="10072440" cy="4286520"/>
            <a:chOff x="-960480" y="2313000"/>
            <a:chExt cx="10072440" cy="4286520"/>
          </a:xfrm>
        </p:grpSpPr>
        <p:grpSp>
          <p:nvGrpSpPr>
            <p:cNvPr id="216" name=""/>
            <p:cNvGrpSpPr/>
            <p:nvPr/>
          </p:nvGrpSpPr>
          <p:grpSpPr>
            <a:xfrm>
              <a:off x="-960480" y="2679840"/>
              <a:ext cx="6265800" cy="3919680"/>
              <a:chOff x="-960480" y="2679840"/>
              <a:chExt cx="6265800" cy="3919680"/>
            </a:xfrm>
          </p:grpSpPr>
          <p:sp>
            <p:nvSpPr>
              <p:cNvPr id="217" name=""/>
              <p:cNvSpPr/>
              <p:nvPr/>
            </p:nvSpPr>
            <p:spPr>
              <a:xfrm>
                <a:off x="3468600" y="58514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ahoma"/>
                  </a:rPr>
                  <a:t>t`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1160" y="2874960"/>
                <a:ext cx="0" cy="290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8840" y="5778360"/>
                <a:ext cx="3159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74960" y="5778360"/>
                <a:ext cx="1015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-384480" y="4094280"/>
                <a:ext cx="89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-311400" y="2679840"/>
                <a:ext cx="102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06160" y="2874960"/>
                <a:ext cx="4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80600" y="4329000"/>
                <a:ext cx="142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1200" y="57783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24040" y="5778360"/>
                <a:ext cx="1015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37960" y="5778360"/>
                <a:ext cx="10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6160" y="57531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88840" y="2873520"/>
                <a:ext cx="2665440" cy="28479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31880" y="4338720"/>
                <a:ext cx="1533240" cy="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65120" y="4362480"/>
                <a:ext cx="0" cy="134316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41440" y="4076640"/>
                <a:ext cx="13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Tahoma"/>
                  </a:rPr>
                  <a:t>Una 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-960480" y="2898720"/>
                <a:ext cx="81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7880" y="6200640"/>
                <a:ext cx="432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ahoma"/>
                  </a:rPr>
                  <a:t>Expresión semilogarítmic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0240" y="5030640"/>
                <a:ext cx="2176560" cy="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74960" y="5045040"/>
                <a:ext cx="0" cy="74628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660240" y="5375160"/>
                <a:ext cx="2459160" cy="1440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5840" y="5591160"/>
                <a:ext cx="2692440" cy="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168360" y="5349960"/>
                <a:ext cx="0" cy="41112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359160" y="5489640"/>
                <a:ext cx="25200" cy="26964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001680" y="4724280"/>
                <a:ext cx="13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Tahoma"/>
                  </a:rPr>
                  <a:t>Dos 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332160" y="5092560"/>
                <a:ext cx="168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Tahoma"/>
                  </a:rPr>
                  <a:t>Tres t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39880" y="5343480"/>
                <a:ext cx="17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Tahoma"/>
                  </a:rPr>
                  <a:t>Cuatro  1/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0960" y="2889360"/>
                <a:ext cx="215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3830040" y="3859200"/>
              <a:ext cx="259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ff"/>
                  </a:solidFill>
                  <a:latin typeface="Arial"/>
                </a:rPr>
                <a:t>(</a:t>
              </a:r>
              <a:r>
                <a:rPr b="1" lang="es-ES_tradnl" sz="28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</a:t>
              </a:r>
              <a:r>
                <a:rPr b="1" lang="es-ES_tradnl" sz="28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00ff"/>
                  </a:solidFill>
                  <a:latin typeface="Arial"/>
                </a:rPr>
                <a:t>50% de Cmá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28640" y="4595760"/>
              <a:ext cx="478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ff"/>
                  </a:solidFill>
                  <a:latin typeface="Times New Roman"/>
                </a:rPr>
                <a:t>(</a:t>
              </a:r>
              <a:r>
                <a:rPr b="1" lang="es-ES_tradnl" sz="2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</a:t>
              </a:r>
              <a:r>
                <a:rPr b="1" lang="es-ES_tradnl" sz="2400" spc="-1" strike="noStrike">
                  <a:solidFill>
                    <a:srgbClr val="ff00ff"/>
                  </a:solidFill>
                  <a:latin typeface="Times New Roman"/>
                </a:rPr>
                <a:t> 50% de C anterior y 75% Cma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520" y="23130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79640" y="5051520"/>
              <a:ext cx="4416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ff00ff"/>
                  </a:solidFill>
                  <a:latin typeface="Times New Roman"/>
                </a:rPr>
                <a:t>(</a:t>
              </a:r>
              <a:r>
                <a:rPr b="1" lang="es-ES_tradnl" sz="21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</a:t>
              </a:r>
              <a:r>
                <a:rPr b="1" lang="es-ES_tradnl" sz="2100" spc="-1" strike="noStrike">
                  <a:solidFill>
                    <a:srgbClr val="ff00ff"/>
                  </a:solidFill>
                  <a:latin typeface="Times New Roman"/>
                </a:rPr>
                <a:t> 50% de C anterior y 87.5% Cmax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0240" y="5375160"/>
              <a:ext cx="41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ff"/>
                  </a:solidFill>
                  <a:latin typeface="Times New Roman"/>
                </a:rPr>
                <a:t>(</a:t>
              </a:r>
              <a:r>
                <a:rPr b="1" lang="es-ES_tradnl" sz="20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</a:t>
              </a:r>
              <a:r>
                <a:rPr b="1" lang="es-ES_tradnl" sz="2000" spc="-1" strike="noStrike">
                  <a:solidFill>
                    <a:srgbClr val="ff00ff"/>
                  </a:solidFill>
                  <a:latin typeface="Times New Roman"/>
                </a:rPr>
                <a:t> 50% de C anterior y 93.8%Cmax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7880" y="3716280"/>
              <a:ext cx="113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12600" y="4471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16640" y="4951440"/>
              <a:ext cx="12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7.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16640" y="5262480"/>
              <a:ext cx="12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3.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-360" y="34920"/>
            <a:ext cx="8963640" cy="5508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3333ff"/>
                </a:solidFill>
                <a:uFillTx/>
                <a:latin typeface="Calibri"/>
              </a:rPr>
              <a:t>¿Cuánto demora un fármaco en eliminarse totalmente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Calibri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92360" y="1484280"/>
            <a:ext cx="6303960" cy="17071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1.- En una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 se elimina 50% de C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2.- En dos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 elimina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  75% de C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3.- En tres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 elimina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  87.5% de C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4.- En cuatro 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½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 elimina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  93.8% de C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63840" y="63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560" y="765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n fármaco demora en eliminarse 4-5 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840360" cy="4653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771640" y="260280"/>
            <a:ext cx="431964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4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CLEARANCE  (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836640"/>
            <a:ext cx="8481960" cy="7063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learance: Es el volumen de plasma o sangre que es acla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de fármaco en unidad d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90520" y="1793880"/>
            <a:ext cx="7267680" cy="333720"/>
          </a:xfrm>
          <a:prstGeom prst="roundRect">
            <a:avLst>
              <a:gd name="adj" fmla="val 16667"/>
            </a:avLst>
          </a:prstGeom>
          <a:solidFill>
            <a:srgbClr val="e7ffe7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 = Cl hepático + Cl renal + Cl en otros órganos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3184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686480" cy="3819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990520" y="0"/>
            <a:ext cx="2530800" cy="52056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álculo del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620640"/>
            <a:ext cx="7120080" cy="54000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0" anchor="ctr">
            <a:no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l=Vd x Ke= (litros/hora; mL/minu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5516640"/>
            <a:ext cx="5329440" cy="107964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learance: No cambia al camb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la dosis ni la vía de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Disminuye por daño hepático o 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834200" y="260280"/>
            <a:ext cx="5312160" cy="5814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¿PARA QUE SIRVE EL C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1773360"/>
            <a:ext cx="4916520" cy="8395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ara calcular dosis de mante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n un régimen de do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40800" y="621720"/>
            <a:ext cx="5606640" cy="54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3333ff"/>
                </a:solidFill>
                <a:latin typeface="Calibri"/>
              </a:rPr>
              <a:t>Regímenes de dos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240" y="5157360"/>
            <a:ext cx="8915400" cy="136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452160" indent="-2714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Cuanto fármaco ?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osis a usar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osis de mantención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160" indent="-2714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Cuan a menudo?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tervalo entre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16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Cuanto tiempo?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tamiento c/ [ ] terapéuticas</a:t>
            </a:r>
            <a:r>
              <a:rPr b="0" lang="es-ES_tradnl" sz="2800" spc="-1" strike="noStrike">
                <a:solidFill>
                  <a:srgbClr val="bbe0e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1339920"/>
            <a:ext cx="784548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560" y="1695600"/>
            <a:ext cx="72169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La mayoría de los tratamientos  requieren de la mantención de una concentración sanguínea por un periodo determinado. Ejm: semanas, m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76764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22760" y="357120"/>
            <a:ext cx="5179320" cy="5814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arámetros Farmacoci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6160" y="19209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6880" y="278604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284720" y="436536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1440" y="1281240"/>
            <a:ext cx="1346760" cy="520560"/>
          </a:xfrm>
          <a:prstGeom prst="rect">
            <a:avLst/>
          </a:prstGeom>
          <a:solidFill>
            <a:srgbClr val="fae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90520" y="1209600"/>
            <a:ext cx="1896840" cy="520560"/>
          </a:xfrm>
          <a:prstGeom prst="rect">
            <a:avLst/>
          </a:prstGeom>
          <a:solidFill>
            <a:srgbClr val="fae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227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3068640"/>
            <a:ext cx="57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3400" y="1994040"/>
            <a:ext cx="32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1.- Bio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3040" y="278604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2.- Volumen de Ditribución (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4120" y="429912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3.- Vida Media (t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Times New Roman"/>
              </a:rPr>
              <a:t>½</a:t>
            </a: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5920" y="501804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alibri"/>
              </a:rPr>
              <a:t>4.- Clearance (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4941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19040" y="4586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li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1240" y="506880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iotransformación + Excre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38280" y="588960"/>
            <a:ext cx="516636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3366ff"/>
                </a:solidFill>
                <a:latin typeface="Tahoma"/>
              </a:rPr>
              <a:t>Sistemas de dos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Dosis múlt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administración a intervalos de tiempo l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1268280"/>
            <a:ext cx="784548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09800" y="4419720"/>
            <a:ext cx="1904760" cy="1644480"/>
          </a:xfrm>
          <a:custGeom>
            <a:avLst/>
            <a:gdLst/>
            <a:ahLst/>
            <a:rect l="l" t="t" r="r" b="b"/>
            <a:pathLst>
              <a:path w="1200" h="1036">
                <a:moveTo>
                  <a:pt x="0" y="1032"/>
                </a:moveTo>
                <a:cubicBezTo>
                  <a:pt x="53" y="993"/>
                  <a:pt x="106" y="954"/>
                  <a:pt x="156" y="864"/>
                </a:cubicBezTo>
                <a:cubicBezTo>
                  <a:pt x="206" y="774"/>
                  <a:pt x="264" y="592"/>
                  <a:pt x="300" y="492"/>
                </a:cubicBezTo>
                <a:cubicBezTo>
                  <a:pt x="336" y="392"/>
                  <a:pt x="342" y="344"/>
                  <a:pt x="372" y="264"/>
                </a:cubicBezTo>
                <a:cubicBezTo>
                  <a:pt x="402" y="184"/>
                  <a:pt x="434" y="24"/>
                  <a:pt x="480" y="12"/>
                </a:cubicBezTo>
                <a:cubicBezTo>
                  <a:pt x="526" y="0"/>
                  <a:pt x="596" y="114"/>
                  <a:pt x="648" y="192"/>
                </a:cubicBezTo>
                <a:cubicBezTo>
                  <a:pt x="700" y="270"/>
                  <a:pt x="724" y="354"/>
                  <a:pt x="792" y="480"/>
                </a:cubicBezTo>
                <a:cubicBezTo>
                  <a:pt x="860" y="606"/>
                  <a:pt x="988" y="860"/>
                  <a:pt x="1056" y="948"/>
                </a:cubicBezTo>
                <a:cubicBezTo>
                  <a:pt x="1124" y="1036"/>
                  <a:pt x="1176" y="998"/>
                  <a:pt x="1200" y="10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4419720"/>
            <a:ext cx="1905120" cy="1644480"/>
          </a:xfrm>
          <a:custGeom>
            <a:avLst/>
            <a:gdLst/>
            <a:ahLst/>
            <a:rect l="l" t="t" r="r" b="b"/>
            <a:pathLst>
              <a:path w="1200" h="1036">
                <a:moveTo>
                  <a:pt x="0" y="1032"/>
                </a:moveTo>
                <a:cubicBezTo>
                  <a:pt x="53" y="993"/>
                  <a:pt x="106" y="954"/>
                  <a:pt x="156" y="864"/>
                </a:cubicBezTo>
                <a:cubicBezTo>
                  <a:pt x="206" y="774"/>
                  <a:pt x="264" y="592"/>
                  <a:pt x="300" y="492"/>
                </a:cubicBezTo>
                <a:cubicBezTo>
                  <a:pt x="336" y="392"/>
                  <a:pt x="342" y="344"/>
                  <a:pt x="372" y="264"/>
                </a:cubicBezTo>
                <a:cubicBezTo>
                  <a:pt x="402" y="184"/>
                  <a:pt x="434" y="24"/>
                  <a:pt x="480" y="12"/>
                </a:cubicBezTo>
                <a:cubicBezTo>
                  <a:pt x="526" y="0"/>
                  <a:pt x="596" y="114"/>
                  <a:pt x="648" y="192"/>
                </a:cubicBezTo>
                <a:cubicBezTo>
                  <a:pt x="700" y="270"/>
                  <a:pt x="724" y="354"/>
                  <a:pt x="792" y="480"/>
                </a:cubicBezTo>
                <a:cubicBezTo>
                  <a:pt x="860" y="606"/>
                  <a:pt x="988" y="860"/>
                  <a:pt x="1056" y="948"/>
                </a:cubicBezTo>
                <a:cubicBezTo>
                  <a:pt x="1124" y="1036"/>
                  <a:pt x="1176" y="998"/>
                  <a:pt x="1200" y="10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86360" y="3656160"/>
            <a:ext cx="38577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Grandes fluctu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47680" y="3276720"/>
            <a:ext cx="5029200" cy="3396960"/>
            <a:chOff x="247680" y="3276720"/>
            <a:chExt cx="5029200" cy="3396960"/>
          </a:xfrm>
        </p:grpSpPr>
        <p:sp>
          <p:nvSpPr>
            <p:cNvPr id="285" name=""/>
            <p:cNvSpPr/>
            <p:nvPr/>
          </p:nvSpPr>
          <p:spPr>
            <a:xfrm>
              <a:off x="4419720" y="615312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t`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47680" y="3276720"/>
              <a:ext cx="4724280" cy="2819160"/>
              <a:chOff x="247680" y="3276720"/>
              <a:chExt cx="4724280" cy="2819160"/>
            </a:xfrm>
          </p:grpSpPr>
          <p:sp>
            <p:nvSpPr>
              <p:cNvPr id="287" name=""/>
              <p:cNvSpPr/>
              <p:nvPr/>
            </p:nvSpPr>
            <p:spPr>
              <a:xfrm>
                <a:off x="990720" y="3276720"/>
                <a:ext cx="0" cy="281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09800" y="6076800"/>
                <a:ext cx="3962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90720" y="5486400"/>
                <a:ext cx="3981240" cy="0"/>
              </a:xfrm>
              <a:prstGeom prst="line">
                <a:avLst/>
              </a:prstGeom>
              <a:ln w="57240">
                <a:solidFill>
                  <a:srgbClr val="ff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90720" y="4000680"/>
                <a:ext cx="3867120" cy="0"/>
              </a:xfrm>
              <a:prstGeom prst="line">
                <a:avLst/>
              </a:prstGeom>
              <a:ln w="57240">
                <a:solidFill>
                  <a:srgbClr val="ff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7680" y="35434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ffffff"/>
                    </a:solidFill>
                    <a:latin typeface="Times New Roman"/>
                  </a:rPr>
                  <a:t>[F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4986360" y="4437000"/>
            <a:ext cx="38577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eriodos s/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39720" y="633240"/>
            <a:ext cx="5177880" cy="5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3366ff"/>
                </a:solidFill>
                <a:latin typeface="Tahoma"/>
              </a:rPr>
              <a:t>Sistemas de dos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8534520" cy="13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lvl="1" marL="47628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Dosis múlt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administración cada t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1339920"/>
            <a:ext cx="784548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908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70720" y="4292640"/>
            <a:ext cx="3473280" cy="475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Menores fluctu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4824360"/>
            <a:ext cx="1904760" cy="1644840"/>
          </a:xfrm>
          <a:custGeom>
            <a:avLst/>
            <a:gdLst/>
            <a:ahLst/>
            <a:rect l="l" t="t" r="r" b="b"/>
            <a:pathLst>
              <a:path w="1200" h="1036">
                <a:moveTo>
                  <a:pt x="0" y="1032"/>
                </a:moveTo>
                <a:cubicBezTo>
                  <a:pt x="53" y="993"/>
                  <a:pt x="106" y="954"/>
                  <a:pt x="156" y="864"/>
                </a:cubicBezTo>
                <a:cubicBezTo>
                  <a:pt x="206" y="774"/>
                  <a:pt x="264" y="592"/>
                  <a:pt x="300" y="492"/>
                </a:cubicBezTo>
                <a:cubicBezTo>
                  <a:pt x="336" y="392"/>
                  <a:pt x="342" y="344"/>
                  <a:pt x="372" y="264"/>
                </a:cubicBezTo>
                <a:cubicBezTo>
                  <a:pt x="402" y="184"/>
                  <a:pt x="434" y="24"/>
                  <a:pt x="480" y="12"/>
                </a:cubicBezTo>
                <a:cubicBezTo>
                  <a:pt x="526" y="0"/>
                  <a:pt x="596" y="114"/>
                  <a:pt x="648" y="192"/>
                </a:cubicBezTo>
                <a:cubicBezTo>
                  <a:pt x="700" y="270"/>
                  <a:pt x="724" y="354"/>
                  <a:pt x="792" y="480"/>
                </a:cubicBezTo>
                <a:cubicBezTo>
                  <a:pt x="860" y="606"/>
                  <a:pt x="988" y="860"/>
                  <a:pt x="1056" y="948"/>
                </a:cubicBezTo>
                <a:cubicBezTo>
                  <a:pt x="1124" y="1036"/>
                  <a:pt x="1176" y="998"/>
                  <a:pt x="1200" y="10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21040" y="4121280"/>
            <a:ext cx="1904760" cy="1644480"/>
          </a:xfrm>
          <a:custGeom>
            <a:avLst/>
            <a:gdLst/>
            <a:ahLst/>
            <a:rect l="l" t="t" r="r" b="b"/>
            <a:pathLst>
              <a:path w="1200" h="1036">
                <a:moveTo>
                  <a:pt x="0" y="1032"/>
                </a:moveTo>
                <a:cubicBezTo>
                  <a:pt x="53" y="993"/>
                  <a:pt x="106" y="954"/>
                  <a:pt x="156" y="864"/>
                </a:cubicBezTo>
                <a:cubicBezTo>
                  <a:pt x="206" y="774"/>
                  <a:pt x="264" y="592"/>
                  <a:pt x="300" y="492"/>
                </a:cubicBezTo>
                <a:cubicBezTo>
                  <a:pt x="336" y="392"/>
                  <a:pt x="342" y="344"/>
                  <a:pt x="372" y="264"/>
                </a:cubicBezTo>
                <a:cubicBezTo>
                  <a:pt x="402" y="184"/>
                  <a:pt x="434" y="24"/>
                  <a:pt x="480" y="12"/>
                </a:cubicBezTo>
                <a:cubicBezTo>
                  <a:pt x="526" y="0"/>
                  <a:pt x="596" y="114"/>
                  <a:pt x="648" y="192"/>
                </a:cubicBezTo>
                <a:cubicBezTo>
                  <a:pt x="700" y="270"/>
                  <a:pt x="724" y="354"/>
                  <a:pt x="792" y="480"/>
                </a:cubicBezTo>
                <a:cubicBezTo>
                  <a:pt x="860" y="606"/>
                  <a:pt x="988" y="860"/>
                  <a:pt x="1056" y="948"/>
                </a:cubicBezTo>
                <a:cubicBezTo>
                  <a:pt x="1124" y="1036"/>
                  <a:pt x="1176" y="998"/>
                  <a:pt x="1200" y="10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2824200"/>
            <a:ext cx="5029200" cy="4035240"/>
            <a:chOff x="0" y="2824200"/>
            <a:chExt cx="5029200" cy="4035240"/>
          </a:xfrm>
        </p:grpSpPr>
        <p:sp>
          <p:nvSpPr>
            <p:cNvPr id="303" name=""/>
            <p:cNvSpPr/>
            <p:nvPr/>
          </p:nvSpPr>
          <p:spPr>
            <a:xfrm>
              <a:off x="684360" y="2968560"/>
              <a:ext cx="3981240" cy="0"/>
            </a:xfrm>
            <a:prstGeom prst="line">
              <a:avLst/>
            </a:prstGeom>
            <a:ln w="5724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5640" y="3616200"/>
              <a:ext cx="3867120" cy="0"/>
            </a:xfrm>
            <a:prstGeom prst="line">
              <a:avLst/>
            </a:prstGeom>
            <a:ln w="5724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72040" y="633888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Comic Sans MS"/>
                </a:rPr>
                <a:t>t`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3960" y="2824200"/>
              <a:ext cx="0" cy="3645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120" y="6481800"/>
              <a:ext cx="396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29685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Comic Sans MS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611600" y="4049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55976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va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63960" y="40496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[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5491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[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339640" y="5661000"/>
            <a:ext cx="1079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058920" y="4149720"/>
            <a:ext cx="93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64040" y="5334120"/>
            <a:ext cx="393696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a [F] en sangre se eleva con 2ª dosis por acu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66280" y="601200"/>
            <a:ext cx="7430400" cy="49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ff"/>
                </a:solidFill>
                <a:latin typeface="Tahoma"/>
              </a:rPr>
              <a:t>Curva Concentración sanguínea/tiempo</a:t>
            </a:r>
            <a:r>
              <a:rPr b="0" i="1" lang="es-ES_tradnl" sz="4400" spc="-1" strike="noStrike">
                <a:solidFill>
                  <a:srgbClr val="0000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2880" y="126828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4514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4514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692360" y="2908080"/>
            <a:ext cx="1371600" cy="36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35434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998520" y="1582560"/>
            <a:ext cx="1800" cy="10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70520" y="1631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ahoma"/>
              </a:rPr>
              <a:t>C 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8160" y="5592600"/>
            <a:ext cx="70772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 máx: la concentración que entra  es = a la que sa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95280" y="1695600"/>
            <a:ext cx="7429680" cy="3679920"/>
            <a:chOff x="1295280" y="1695600"/>
            <a:chExt cx="7429680" cy="3679920"/>
          </a:xfrm>
        </p:grpSpPr>
        <p:sp>
          <p:nvSpPr>
            <p:cNvPr id="328" name=""/>
            <p:cNvSpPr/>
            <p:nvPr/>
          </p:nvSpPr>
          <p:spPr>
            <a:xfrm>
              <a:off x="2019240" y="497664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ff00"/>
                  </a:solidFill>
                  <a:latin typeface="Tahoma"/>
                </a:rPr>
                <a:t>Periodo de late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86680" y="30481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ff00"/>
                  </a:solidFill>
                  <a:latin typeface="Tahoma"/>
                </a:rPr>
                <a:t>Nivel Út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114640" y="4686480"/>
              <a:ext cx="1066680" cy="152280"/>
              <a:chOff x="2114640" y="4686480"/>
              <a:chExt cx="1066680" cy="152280"/>
            </a:xfrm>
          </p:grpSpPr>
          <p:sp>
            <p:nvSpPr>
              <p:cNvPr id="331" name=""/>
              <p:cNvSpPr/>
              <p:nvPr/>
            </p:nvSpPr>
            <p:spPr>
              <a:xfrm>
                <a:off x="2133720" y="4762440"/>
                <a:ext cx="1047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114640" y="4686480"/>
                <a:ext cx="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62240" y="4686480"/>
                <a:ext cx="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295280" y="1695600"/>
              <a:ext cx="6496200" cy="3278880"/>
              <a:chOff x="1295280" y="1695600"/>
              <a:chExt cx="6496200" cy="3278880"/>
            </a:xfrm>
          </p:grpSpPr>
          <p:sp>
            <p:nvSpPr>
              <p:cNvPr id="335" name=""/>
              <p:cNvSpPr/>
              <p:nvPr/>
            </p:nvSpPr>
            <p:spPr>
              <a:xfrm>
                <a:off x="2133720" y="1695600"/>
                <a:ext cx="0" cy="281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133720" y="4514760"/>
                <a:ext cx="5657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295280" y="19242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ffffff"/>
                    </a:solidFill>
                    <a:latin typeface="Times New Roman"/>
                  </a:rPr>
                  <a:t>[F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05520" y="45147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iemp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33720" y="2000160"/>
                <a:ext cx="4190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133720" y="3295800"/>
                <a:ext cx="4190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152800" y="2158920"/>
                <a:ext cx="4572000" cy="2336760"/>
              </a:xfrm>
              <a:custGeom>
                <a:avLst/>
                <a:gdLst/>
                <a:ahLst/>
                <a:rect l="l" t="t" r="r" b="b"/>
                <a:pathLst>
                  <a:path w="2880" h="1472">
                    <a:moveTo>
                      <a:pt x="0" y="1472"/>
                    </a:moveTo>
                    <a:cubicBezTo>
                      <a:pt x="137" y="1401"/>
                      <a:pt x="274" y="1330"/>
                      <a:pt x="372" y="1208"/>
                    </a:cubicBezTo>
                    <a:cubicBezTo>
                      <a:pt x="470" y="1086"/>
                      <a:pt x="514" y="916"/>
                      <a:pt x="588" y="740"/>
                    </a:cubicBezTo>
                    <a:cubicBezTo>
                      <a:pt x="662" y="564"/>
                      <a:pt x="710" y="272"/>
                      <a:pt x="816" y="152"/>
                    </a:cubicBezTo>
                    <a:cubicBezTo>
                      <a:pt x="922" y="32"/>
                      <a:pt x="1090" y="0"/>
                      <a:pt x="1224" y="20"/>
                    </a:cubicBezTo>
                    <a:cubicBezTo>
                      <a:pt x="1358" y="40"/>
                      <a:pt x="1456" y="102"/>
                      <a:pt x="1620" y="272"/>
                    </a:cubicBezTo>
                    <a:cubicBezTo>
                      <a:pt x="1784" y="442"/>
                      <a:pt x="1998" y="848"/>
                      <a:pt x="2208" y="1040"/>
                    </a:cubicBezTo>
                    <a:cubicBezTo>
                      <a:pt x="2418" y="1232"/>
                      <a:pt x="2764" y="1356"/>
                      <a:pt x="2880" y="1424"/>
                    </a:cubicBezTo>
                  </a:path>
                </a:pathLst>
              </a:custGeom>
              <a:noFill/>
              <a:ln w="38160">
                <a:solidFill>
                  <a:srgbClr val="ffff66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943600" y="23432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li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38720" y="2837880"/>
            <a:ext cx="1371600" cy="36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12440" y="646920"/>
            <a:ext cx="8074800" cy="5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ff"/>
                </a:solidFill>
                <a:latin typeface="Tahoma"/>
              </a:rPr>
              <a:t>Concentración en estado de equilibrio (C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853452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se obtiene al igualarse la cantidad de F que entra con la que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339920"/>
            <a:ext cx="784512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0" y="4437000"/>
            <a:ext cx="9144000" cy="1917720"/>
            <a:chOff x="0" y="4437000"/>
            <a:chExt cx="9144000" cy="1917720"/>
          </a:xfrm>
        </p:grpSpPr>
        <p:sp>
          <p:nvSpPr>
            <p:cNvPr id="348" name=""/>
            <p:cNvSpPr/>
            <p:nvPr/>
          </p:nvSpPr>
          <p:spPr>
            <a:xfrm>
              <a:off x="1692360" y="4508640"/>
              <a:ext cx="1601640" cy="5094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entr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5194440"/>
              <a:ext cx="5110200" cy="5349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Dosis  mantención / intervalo de t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43640" y="4437000"/>
              <a:ext cx="1452600" cy="50940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ahoma"/>
                </a:rPr>
                <a:t>sal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62720" y="5194440"/>
              <a:ext cx="3581280" cy="509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Cee      x     clea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86440" y="5157720"/>
              <a:ext cx="493560" cy="628920"/>
            </a:xfrm>
            <a:custGeom>
              <a:avLst/>
              <a:gdLst>
                <a:gd name="textAreaLeft" fmla="*/ 23760 w 493560"/>
                <a:gd name="textAreaRight" fmla="*/ 469800 w 493560"/>
                <a:gd name="textAreaTop" fmla="*/ 23760 h 628920"/>
                <a:gd name="textAreaBottom" fmla="*/ 605160 h 628920"/>
              </a:gdLst>
              <a:ahLst/>
              <a:rect l="textAreaLeft" t="textAreaTop" r="textAreaRight" b="textAreaBottom"/>
              <a:pathLst>
                <a:path w="21600" h="27520">
                  <a:moveTo>
                    <a:pt x="3600" y="0"/>
                  </a:moveTo>
                  <a:arcTo wR="3600" hR="3600" stAng="16200000" swAng="-5400000"/>
                  <a:lnTo>
                    <a:pt x="0" y="23920"/>
                  </a:lnTo>
                  <a:arcTo wR="3600" hR="3600" stAng="10800000" swAng="-5400000"/>
                  <a:lnTo>
                    <a:pt x="18000" y="275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ffff"/>
                  </a:solidFill>
                  <a:latin typeface="Tahoma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92360" y="5805360"/>
              <a:ext cx="3406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mg     /       h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86440" y="5845320"/>
              <a:ext cx="394956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mg/litro   x    litro/h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492360" y="2637000"/>
            <a:ext cx="280692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Sistemas de dos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209556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Infusión endovenosa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be0e3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1280" y="175428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43040" y="6137280"/>
            <a:ext cx="7905600" cy="459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ee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:  La velocidad de entrada es igual a la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560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90840" y="560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90840" y="5600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028880" y="2781360"/>
            <a:ext cx="5105160" cy="3279240"/>
            <a:chOff x="1028880" y="2781360"/>
            <a:chExt cx="5105160" cy="3279240"/>
          </a:xfrm>
        </p:grpSpPr>
        <p:sp>
          <p:nvSpPr>
            <p:cNvPr id="364" name=""/>
            <p:cNvSpPr/>
            <p:nvPr/>
          </p:nvSpPr>
          <p:spPr>
            <a:xfrm>
              <a:off x="1866960" y="2781360"/>
              <a:ext cx="0" cy="281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66960" y="5600880"/>
              <a:ext cx="4267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28880" y="30099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38760" y="5600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Tiemp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86040" y="3848040"/>
              <a:ext cx="3733560" cy="1733760"/>
            </a:xfrm>
            <a:custGeom>
              <a:avLst/>
              <a:gdLst/>
              <a:ahLst/>
              <a:rect l="l" t="t" r="r" b="b"/>
              <a:pathLst>
                <a:path w="2352" h="1092">
                  <a:moveTo>
                    <a:pt x="0" y="1092"/>
                  </a:moveTo>
                  <a:cubicBezTo>
                    <a:pt x="38" y="726"/>
                    <a:pt x="76" y="360"/>
                    <a:pt x="468" y="180"/>
                  </a:cubicBezTo>
                  <a:cubicBezTo>
                    <a:pt x="860" y="0"/>
                    <a:pt x="2038" y="40"/>
                    <a:pt x="2352" y="1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66960" y="3924360"/>
              <a:ext cx="14288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734080" y="361944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ahoma"/>
              </a:rPr>
              <a:t>Cee  o  Pl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12440" y="646920"/>
            <a:ext cx="8074800" cy="5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ff"/>
                </a:solidFill>
                <a:latin typeface="Tahoma"/>
              </a:rPr>
              <a:t>Cálculo de la Dosis de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339920"/>
            <a:ext cx="784512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6920" y="4076640"/>
            <a:ext cx="7069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osis de Mantención = Cl x Cee x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4360" y="2133720"/>
            <a:ext cx="7154640" cy="112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¿Qué dosis debo administrar para tener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ee de 10 mg/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28240" y="1923840"/>
            <a:ext cx="8534520" cy="13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Dosis múlt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para obtener la C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4360" y="1339920"/>
            <a:ext cx="7845120" cy="730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3429000"/>
            <a:ext cx="709632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e administran dosis mantención cada t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4292640"/>
            <a:ext cx="7204320" cy="1536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Y se necesitan 4 a 5  t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j: t 1/2 = 6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ee   = 24  a 30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12440" y="646920"/>
            <a:ext cx="8074800" cy="5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00ff"/>
                </a:solidFill>
                <a:latin typeface="Tahoma"/>
              </a:rPr>
              <a:t>Concentración en estado de equilibrio (C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716040" y="633960"/>
            <a:ext cx="8397000" cy="5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66ff"/>
                </a:solidFill>
                <a:latin typeface="Tahoma"/>
              </a:rPr>
              <a:t>Concentración en estado de equilibrio (C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5800" y="1625400"/>
            <a:ext cx="76867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ahoma"/>
              </a:rPr>
              <a:t>Dosis múlt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administración cada t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133992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908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7680" y="6068880"/>
            <a:ext cx="67946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e eleva la concentración plasmática hasta 4 a 5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897440" y="3827520"/>
            <a:ext cx="2266920" cy="793800"/>
            <a:chOff x="4897440" y="3827520"/>
            <a:chExt cx="2266920" cy="793800"/>
          </a:xfrm>
        </p:grpSpPr>
        <p:sp>
          <p:nvSpPr>
            <p:cNvPr id="390" name=""/>
            <p:cNvSpPr/>
            <p:nvPr/>
          </p:nvSpPr>
          <p:spPr>
            <a:xfrm>
              <a:off x="4897440" y="3965400"/>
              <a:ext cx="914400" cy="6559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83240" y="3895560"/>
              <a:ext cx="914400" cy="6559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9960" y="3827520"/>
              <a:ext cx="914400" cy="6555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908000" y="2924280"/>
            <a:ext cx="4929480" cy="2825640"/>
            <a:chOff x="1908000" y="2924280"/>
            <a:chExt cx="4929480" cy="2825640"/>
          </a:xfrm>
        </p:grpSpPr>
        <p:sp>
          <p:nvSpPr>
            <p:cNvPr id="394" name=""/>
            <p:cNvSpPr/>
            <p:nvPr/>
          </p:nvSpPr>
          <p:spPr>
            <a:xfrm>
              <a:off x="2573280" y="3151080"/>
              <a:ext cx="0" cy="2598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92360" y="5748480"/>
              <a:ext cx="3962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8000" y="2924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27280" y="3849840"/>
              <a:ext cx="421020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8000" y="364500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12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659480" y="5840280"/>
            <a:ext cx="85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016640" y="4797360"/>
            <a:ext cx="2490120" cy="935280"/>
            <a:chOff x="1016640" y="4797360"/>
            <a:chExt cx="2490120" cy="935280"/>
          </a:xfrm>
        </p:grpSpPr>
        <p:sp>
          <p:nvSpPr>
            <p:cNvPr id="401" name=""/>
            <p:cNvSpPr/>
            <p:nvPr/>
          </p:nvSpPr>
          <p:spPr>
            <a:xfrm>
              <a:off x="2592360" y="5076720"/>
              <a:ext cx="914400" cy="6559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73280" y="5030640"/>
              <a:ext cx="52560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9736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6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6640" y="47973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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017360" y="4508640"/>
            <a:ext cx="3061080" cy="946080"/>
            <a:chOff x="1017360" y="4508640"/>
            <a:chExt cx="3061080" cy="946080"/>
          </a:xfrm>
        </p:grpSpPr>
        <p:sp>
          <p:nvSpPr>
            <p:cNvPr id="406" name=""/>
            <p:cNvSpPr/>
            <p:nvPr/>
          </p:nvSpPr>
          <p:spPr>
            <a:xfrm>
              <a:off x="3164040" y="4799160"/>
              <a:ext cx="914400" cy="6555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0000" y="450864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9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25840" y="4772160"/>
              <a:ext cx="93492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7360" y="45226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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7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933840" y="3933720"/>
            <a:ext cx="4287600" cy="827280"/>
            <a:chOff x="933840" y="3933720"/>
            <a:chExt cx="4287600" cy="827280"/>
          </a:xfrm>
        </p:grpSpPr>
        <p:sp>
          <p:nvSpPr>
            <p:cNvPr id="411" name=""/>
            <p:cNvSpPr/>
            <p:nvPr/>
          </p:nvSpPr>
          <p:spPr>
            <a:xfrm>
              <a:off x="4307040" y="4105440"/>
              <a:ext cx="914400" cy="6555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57440" y="4105440"/>
              <a:ext cx="215892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8000" y="39337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11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33840" y="3956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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94%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018080" y="4221000"/>
            <a:ext cx="3631680" cy="863640"/>
            <a:chOff x="1018080" y="4221000"/>
            <a:chExt cx="3631680" cy="863640"/>
          </a:xfrm>
        </p:grpSpPr>
        <p:sp>
          <p:nvSpPr>
            <p:cNvPr id="416" name=""/>
            <p:cNvSpPr/>
            <p:nvPr/>
          </p:nvSpPr>
          <p:spPr>
            <a:xfrm>
              <a:off x="3735360" y="4429080"/>
              <a:ext cx="914400" cy="6555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25840" y="4456080"/>
              <a:ext cx="1512720" cy="0"/>
            </a:xfrm>
            <a:prstGeom prst="line">
              <a:avLst/>
            </a:prstGeom>
            <a:ln w="76320">
              <a:solidFill>
                <a:srgbClr val="ff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09440" y="42228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1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18080" y="42210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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8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52440" y="633240"/>
            <a:ext cx="8511480" cy="5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00ff"/>
                </a:solidFill>
                <a:latin typeface="Tahoma"/>
              </a:rPr>
              <a:t>Concentración en estado de equilibrio (C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08000" y="1892160"/>
            <a:ext cx="8972640" cy="32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F t 1/2 = 6 h          Dosis  1000mg c/6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t`       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66"/>
                </a:solidFill>
                <a:latin typeface="Tahoma"/>
              </a:rPr>
              <a:t>    1d         2d          3d          4d         5d           6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bbe0e3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00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50 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87.5 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 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93.7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t 1/2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96.87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9640" y="133992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68360" y="5505480"/>
            <a:ext cx="5894280" cy="903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ee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: dosis administrada 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liminación &gt; a &gt; concen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83120" y="481320"/>
            <a:ext cx="5069520" cy="5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cc"/>
                </a:solidFill>
                <a:latin typeface="Tahoma"/>
              </a:rPr>
              <a:t>Cálculo de dosis de C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28240" y="1568160"/>
            <a:ext cx="8534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76280" indent="-285840" algn="just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Dosis de 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be0e3"/>
                </a:solidFill>
                <a:latin typeface="Tahoma"/>
              </a:rPr>
              <a:t>• 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para obtener más rápido la C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240" y="1268280"/>
            <a:ext cx="7845480" cy="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908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78160" y="62928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47680" y="4148280"/>
            <a:ext cx="4416120" cy="2214360"/>
            <a:chOff x="247680" y="4148280"/>
            <a:chExt cx="4416120" cy="2214360"/>
          </a:xfrm>
        </p:grpSpPr>
        <p:sp>
          <p:nvSpPr>
            <p:cNvPr id="436" name=""/>
            <p:cNvSpPr/>
            <p:nvPr/>
          </p:nvSpPr>
          <p:spPr>
            <a:xfrm>
              <a:off x="942120" y="4148280"/>
              <a:ext cx="0" cy="221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60120" y="6347520"/>
              <a:ext cx="3703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42120" y="5883840"/>
              <a:ext cx="372168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42120" y="4716720"/>
              <a:ext cx="361512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60120" y="4791600"/>
              <a:ext cx="854640" cy="154620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7680" y="4357800"/>
              <a:ext cx="64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[F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94000" y="5195520"/>
              <a:ext cx="854640" cy="7081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74960" y="5076000"/>
              <a:ext cx="854640" cy="76788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62480" y="5001120"/>
              <a:ext cx="854640" cy="70812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14720" y="4970880"/>
              <a:ext cx="854640" cy="648360"/>
            </a:xfrm>
            <a:custGeom>
              <a:avLst/>
              <a:gdLst/>
              <a:ahLst/>
              <a:rect l="l" t="t" r="r" b="b"/>
              <a:pathLst>
                <a:path w="1200" h="1036">
                  <a:moveTo>
                    <a:pt x="0" y="1032"/>
                  </a:moveTo>
                  <a:cubicBezTo>
                    <a:pt x="53" y="993"/>
                    <a:pt x="106" y="954"/>
                    <a:pt x="156" y="864"/>
                  </a:cubicBezTo>
                  <a:cubicBezTo>
                    <a:pt x="206" y="774"/>
                    <a:pt x="264" y="592"/>
                    <a:pt x="300" y="492"/>
                  </a:cubicBezTo>
                  <a:cubicBezTo>
                    <a:pt x="336" y="392"/>
                    <a:pt x="342" y="344"/>
                    <a:pt x="372" y="264"/>
                  </a:cubicBezTo>
                  <a:cubicBezTo>
                    <a:pt x="402" y="184"/>
                    <a:pt x="434" y="24"/>
                    <a:pt x="480" y="12"/>
                  </a:cubicBezTo>
                  <a:cubicBezTo>
                    <a:pt x="526" y="0"/>
                    <a:pt x="596" y="114"/>
                    <a:pt x="648" y="192"/>
                  </a:cubicBezTo>
                  <a:cubicBezTo>
                    <a:pt x="700" y="270"/>
                    <a:pt x="724" y="354"/>
                    <a:pt x="792" y="480"/>
                  </a:cubicBezTo>
                  <a:cubicBezTo>
                    <a:pt x="860" y="606"/>
                    <a:pt x="988" y="860"/>
                    <a:pt x="1056" y="948"/>
                  </a:cubicBezTo>
                  <a:cubicBezTo>
                    <a:pt x="1124" y="1036"/>
                    <a:pt x="1176" y="998"/>
                    <a:pt x="1200" y="100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5114880" y="5086440"/>
            <a:ext cx="3279960" cy="441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 pasar a dosis tóx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8360" y="2681280"/>
            <a:ext cx="276048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sis 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73720" y="2681280"/>
            <a:ext cx="23018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p   x   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763800" y="269712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57400" y="3286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g  x 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1160" y="338760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g/litro  x    li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10040" y="1424160"/>
            <a:ext cx="2955960" cy="11912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</a:rPr>
              <a:t>La cantidad absorb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e refleja en el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ajo la curva (A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5400" y="295200"/>
            <a:ext cx="32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Calibri"/>
              </a:rPr>
              <a:t>1.- Bio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95640" y="1267920"/>
            <a:ext cx="5678640" cy="3415320"/>
            <a:chOff x="3995640" y="1267920"/>
            <a:chExt cx="5678640" cy="3415320"/>
          </a:xfrm>
        </p:grpSpPr>
        <p:sp>
          <p:nvSpPr>
            <p:cNvPr id="68" name=""/>
            <p:cNvSpPr/>
            <p:nvPr/>
          </p:nvSpPr>
          <p:spPr>
            <a:xfrm>
              <a:off x="4024440" y="1795320"/>
              <a:ext cx="4572000" cy="2336760"/>
            </a:xfrm>
            <a:custGeom>
              <a:avLst/>
              <a:gdLst/>
              <a:ahLst/>
              <a:rect l="l" t="t" r="r" b="b"/>
              <a:pathLst>
                <a:path w="2880" h="1472">
                  <a:moveTo>
                    <a:pt x="0" y="1472"/>
                  </a:moveTo>
                  <a:cubicBezTo>
                    <a:pt x="137" y="1401"/>
                    <a:pt x="274" y="1330"/>
                    <a:pt x="372" y="1208"/>
                  </a:cubicBezTo>
                  <a:cubicBezTo>
                    <a:pt x="470" y="1086"/>
                    <a:pt x="514" y="916"/>
                    <a:pt x="588" y="740"/>
                  </a:cubicBezTo>
                  <a:cubicBezTo>
                    <a:pt x="662" y="564"/>
                    <a:pt x="710" y="272"/>
                    <a:pt x="816" y="152"/>
                  </a:cubicBezTo>
                  <a:cubicBezTo>
                    <a:pt x="922" y="32"/>
                    <a:pt x="1090" y="0"/>
                    <a:pt x="1224" y="20"/>
                  </a:cubicBezTo>
                  <a:cubicBezTo>
                    <a:pt x="1358" y="40"/>
                    <a:pt x="1456" y="102"/>
                    <a:pt x="1620" y="272"/>
                  </a:cubicBezTo>
                  <a:cubicBezTo>
                    <a:pt x="1784" y="442"/>
                    <a:pt x="1998" y="848"/>
                    <a:pt x="2208" y="1040"/>
                  </a:cubicBezTo>
                  <a:cubicBezTo>
                    <a:pt x="2418" y="1232"/>
                    <a:pt x="2764" y="1356"/>
                    <a:pt x="2880" y="14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995640" y="1267920"/>
              <a:ext cx="5678640" cy="3415320"/>
              <a:chOff x="3995640" y="1267920"/>
              <a:chExt cx="5678640" cy="341532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3995640" y="1268280"/>
                <a:ext cx="5678640" cy="3414960"/>
                <a:chOff x="3995640" y="1268280"/>
                <a:chExt cx="5678640" cy="3414960"/>
              </a:xfrm>
            </p:grpSpPr>
            <p:sp>
              <p:nvSpPr>
                <p:cNvPr id="71" name=""/>
                <p:cNvSpPr/>
                <p:nvPr/>
              </p:nvSpPr>
              <p:spPr>
                <a:xfrm flipV="1">
                  <a:off x="4597560" y="3141360"/>
                  <a:ext cx="2609640" cy="1028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3995640" y="1268280"/>
                  <a:ext cx="5678640" cy="3414960"/>
                  <a:chOff x="3995640" y="1268280"/>
                  <a:chExt cx="5678640" cy="3414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4005360" y="1331640"/>
                    <a:ext cx="0" cy="28195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>
                    <a:off x="3995640" y="4108320"/>
                    <a:ext cx="5678640" cy="777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977160" y="4151160"/>
                    <a:ext cx="1295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iemp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005360" y="1795320"/>
                    <a:ext cx="4191120" cy="0"/>
                  </a:xfrm>
                  <a:prstGeom prst="line">
                    <a:avLst/>
                  </a:prstGeom>
                  <a:ln w="76320">
                    <a:solidFill>
                      <a:srgbClr val="6666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4005360" y="2931840"/>
                    <a:ext cx="4191120" cy="0"/>
                  </a:xfrm>
                  <a:prstGeom prst="line">
                    <a:avLst/>
                  </a:prstGeom>
                  <a:ln w="76320">
                    <a:solidFill>
                      <a:srgbClr val="6666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V="1">
                    <a:off x="5243400" y="1902960"/>
                    <a:ext cx="800280" cy="3236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V="1">
                    <a:off x="5129280" y="2017080"/>
                    <a:ext cx="1162080" cy="4762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5052960" y="2170080"/>
                    <a:ext cx="1409760" cy="5904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V="1">
                    <a:off x="5014800" y="2283840"/>
                    <a:ext cx="1676520" cy="64764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V="1">
                    <a:off x="4957920" y="2474640"/>
                    <a:ext cx="1866960" cy="7048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V="1">
                    <a:off x="4824360" y="2684160"/>
                    <a:ext cx="2000520" cy="7048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V="1">
                    <a:off x="4672080" y="2798280"/>
                    <a:ext cx="2247840" cy="8190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4176720" y="2988720"/>
                    <a:ext cx="2876760" cy="10666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205600" y="3274560"/>
                    <a:ext cx="2133360" cy="8571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flipV="1">
                    <a:off x="5738760" y="3427200"/>
                    <a:ext cx="1676520" cy="7048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V="1">
                    <a:off x="6176880" y="3560400"/>
                    <a:ext cx="1371600" cy="5713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>
                    <a:off x="6653160" y="3655800"/>
                    <a:ext cx="1086120" cy="4572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V="1">
                    <a:off x="7453440" y="3903480"/>
                    <a:ext cx="628560" cy="2095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V="1">
                    <a:off x="7034400" y="3770280"/>
                    <a:ext cx="876240" cy="342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V="1">
                    <a:off x="7872480" y="3941640"/>
                    <a:ext cx="419040" cy="2095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894280" y="1795320"/>
                    <a:ext cx="0" cy="24940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942160" y="1268280"/>
                    <a:ext cx="2438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6666ff"/>
                        </a:solidFill>
                        <a:latin typeface="Comic Sans MS"/>
                      </a:rPr>
                      <a:t>C má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488560" y="4284360"/>
                    <a:ext cx="845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6666ff"/>
                        </a:solidFill>
                        <a:latin typeface="Arial"/>
                      </a:rPr>
                      <a:t>t má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" name=""/>
              <p:cNvSpPr/>
              <p:nvPr/>
            </p:nvSpPr>
            <p:spPr>
              <a:xfrm flipV="1">
                <a:off x="4005360" y="1267920"/>
                <a:ext cx="0" cy="1368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684360" y="5445000"/>
            <a:ext cx="8188200" cy="50940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Biodisponibilidad = cantidad de fármaco absor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79280" y="2954160"/>
            <a:ext cx="891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2133720"/>
            <a:ext cx="2016000" cy="9349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236000" cy="11430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Cálculo de la Biodisponibilidad de fármacos administrado vía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060640"/>
            <a:ext cx="8483400" cy="91476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Se divide el ABC del F adm. vía oral,</a:t>
            </a:r>
            <a:r>
              <a:rPr b="0" lang="es-ES_tradnl" sz="24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por el ABC del mismo F adm. por vía endove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5160" y="422604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Biodispon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72000" y="401004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Calibri"/>
              </a:rPr>
              <a:t>ABC fármaco (Z)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451332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ABC fármaco (Z) endo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2160" y="40813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X 100 =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3280" y="333360"/>
            <a:ext cx="648036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Calibri"/>
              </a:rPr>
              <a:t>Volumen de Distribución (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927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7080" y="907920"/>
            <a:ext cx="7631280" cy="7063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Vd= es el volumen de líquido corporal en el cual la d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de fármaco se disue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4330800"/>
            <a:ext cx="2986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79640" y="333360"/>
            <a:ext cx="6121440" cy="45648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2.-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Volumen de Distribución  (Vd)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468360" y="1268280"/>
            <a:ext cx="78850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176720" cy="3470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8472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15920"/>
            <a:ext cx="9144000" cy="52056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Calibri"/>
              </a:rPr>
              <a:t>Clasificación de los fármacos según su cinética de eli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981000"/>
            <a:ext cx="6829560" cy="50940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1.-Fármacos con Cinética de 1er orden (la mayo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600" y="5668920"/>
            <a:ext cx="9117000" cy="74592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 anchorCtr="1">
            <a:spAutoFit/>
          </a:bodyPr>
          <a:p>
            <a:pPr algn="ctr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33ff"/>
                </a:solidFill>
                <a:latin typeface="Calibri"/>
              </a:rPr>
              <a:t>Curva exponencial: Se elimina un % constante ( o una fracción constante)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es-ES_tradnl" sz="2200" spc="-1" strike="noStrike">
                <a:solidFill>
                  <a:srgbClr val="3333ff"/>
                </a:solidFill>
                <a:latin typeface="Calibri"/>
              </a:rPr>
              <a:t>la concentración plasmática de fármaco en unidad de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838760" cy="3543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95640" y="692280"/>
            <a:ext cx="4446360" cy="44136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2.-Fármacos Cinética de orden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7760" y="5199120"/>
            <a:ext cx="6886440" cy="108180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Línea recta: Se elimina una cantidad constante </a:t>
            </a: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                </a:t>
            </a: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fármaco en unidad de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                </a:t>
            </a:r>
            <a:r>
              <a:rPr b="1" lang="es-ES_tradnl" sz="1800" spc="-1" strike="noStrike">
                <a:solidFill>
                  <a:srgbClr val="3333ff"/>
                </a:solidFill>
                <a:latin typeface="Comic Sans MS"/>
              </a:rPr>
              <a:t>Se saturan los sistemas de eli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87480" y="6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85800" y="620640"/>
            <a:ext cx="4333320" cy="1149840"/>
            <a:chOff x="2485800" y="620640"/>
            <a:chExt cx="4333320" cy="1149840"/>
          </a:xfrm>
        </p:grpSpPr>
        <p:sp>
          <p:nvSpPr>
            <p:cNvPr id="122" name=""/>
            <p:cNvSpPr/>
            <p:nvPr/>
          </p:nvSpPr>
          <p:spPr>
            <a:xfrm>
              <a:off x="2485800" y="877680"/>
              <a:ext cx="112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cc"/>
                  </a:solidFill>
                  <a:latin typeface="Calibri"/>
                </a:rPr>
                <a:t>Vd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63520" y="620640"/>
              <a:ext cx="126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cc"/>
                  </a:solidFill>
                  <a:latin typeface="Tahoma"/>
                </a:rPr>
                <a:t>Do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30840" y="1189080"/>
              <a:ext cx="9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cc"/>
                  </a:solidFill>
                  <a:latin typeface="Tahoma"/>
                </a:rPr>
                <a:t>Cp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08360" y="1209600"/>
              <a:ext cx="1511280" cy="0"/>
            </a:xfrm>
            <a:prstGeom prst="line">
              <a:avLst/>
            </a:prstGeom>
            <a:ln w="982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1080" y="920520"/>
              <a:ext cx="168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cc"/>
                  </a:solidFill>
                  <a:latin typeface="Tahoma"/>
                </a:rPr>
                <a:t> </a:t>
              </a:r>
              <a:r>
                <a:rPr b="1" lang="es-ES_tradnl" sz="3200" spc="-1" strike="noStrike">
                  <a:solidFill>
                    <a:srgbClr val="0000cc"/>
                  </a:solidFill>
                  <a:latin typeface="Tahoma"/>
                </a:rPr>
                <a:t>=Litr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987640" y="-3240"/>
            <a:ext cx="2570400" cy="581400"/>
          </a:xfrm>
          <a:prstGeom prst="rect">
            <a:avLst/>
          </a:prstGeom>
          <a:solidFill>
            <a:srgbClr val="ce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álculo del 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086440" cy="3933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1914480"/>
            <a:ext cx="8296560" cy="79236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Calibri"/>
              </a:rPr>
              <a:t>Para calcular la concentración plasmática a tiempo 0 el fármaco se debe administrar por vía endove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5229360"/>
            <a:ext cx="4471920" cy="718560"/>
          </a:xfrm>
          <a:prstGeom prst="roundRect">
            <a:avLst>
              <a:gd name="adj" fmla="val 16667"/>
            </a:avLst>
          </a:prstGeom>
          <a:solidFill>
            <a:srgbClr val="fae6fe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El Vd es constante no cambi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Comic Sans MS"/>
              </a:rPr>
              <a:t>cambiar la dosis o la vía de a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20:32:18Z</dcterms:created>
  <dc:creator>Usuario</dc:creator>
  <dc:description/>
  <dc:language>en-US</dc:language>
  <cp:lastModifiedBy>Facultad de Medicina</cp:lastModifiedBy>
  <dcterms:modified xsi:type="dcterms:W3CDTF">2010-08-12T22:01:10Z</dcterms:modified>
  <cp:revision>123</cp:revision>
  <dc:subject/>
  <dc:title>Niveles Sanguíneos Parámetros Fármacocinéticos </dc:title>
</cp:coreProperties>
</file>