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0.png" ContentType="image/png"/>
  <Override PartName="/ppt/media/image2.wmf" ContentType="image/x-wmf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3.gif" ContentType="image/gif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40F-622F-4B74-86C6-DEC166DB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A78-642B-4A95-9AFF-7D55B30E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8C8-D8B2-4691-A6D6-09D0B42E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B41-8742-47C0-AC9F-08A27F33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CB6-429F-4D73-B83B-39BD2A24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E76-322E-4BC3-9C22-9A60F742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18D-2885-48BB-BDC5-9E5B6DE9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9C8-4B0B-4CB8-86BB-54C678B2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531-CB36-42F0-BD30-D8F77D68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F88-7532-47B9-B0FE-AD76F336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EB1A-EDDC-4B96-A543-CA8F8741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77F-0218-4B72-BED9-8DDD6425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0C25-5EEC-4280-A5E0-3949EAD75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765000"/>
            <a:ext cx="84279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ccff"/>
                </a:solidFill>
                <a:latin typeface="Verdana"/>
              </a:rPr>
              <a:t>ELIMINACIÓN D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ccff"/>
                </a:solidFill>
                <a:latin typeface="Verdana"/>
              </a:rPr>
              <a:t>FÁRMA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66"/>
                </a:solidFill>
                <a:latin typeface="Times New Roman"/>
              </a:rPr>
              <a:t>Transforma fármacos liposolubles en metabolitos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hidrosolubles excretales por el riñón</a:t>
            </a: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57360" y="2421000"/>
            <a:ext cx="5751360" cy="428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015640" y="283680"/>
            <a:ext cx="5472360" cy="1011240"/>
          </a:xfrm>
          <a:prstGeom prst="rect">
            <a:avLst/>
          </a:prstGeom>
          <a:noFill/>
          <a:ln w="34920">
            <a:solidFill>
              <a:srgbClr val="ff33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BIOTRANSFORMACIÓN</a:t>
            </a:r>
            <a:br>
              <a:rPr sz="2800"/>
            </a:b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IMPOR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628640"/>
            <a:ext cx="2952720" cy="446436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Reacciones no sinté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xi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idró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1600200"/>
            <a:ext cx="3744720" cy="45259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ase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Reacciones sinté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ju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ido glucuroni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eti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ti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lf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lutatión</a:t>
            </a:r>
            <a:r>
              <a:rPr b="0" lang="es-E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4360" y="144360"/>
            <a:ext cx="7200720" cy="1268640"/>
          </a:xfrm>
          <a:prstGeom prst="rect">
            <a:avLst/>
          </a:prstGeom>
          <a:noFill/>
          <a:ln w="34920">
            <a:solidFill>
              <a:srgbClr val="ff33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LASIFICACIÓN DE LAS REACCIONES DE BIOTRANSFORMACIÓN DE LOS FÁR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3129120" cy="4147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122640" y="1690560"/>
            <a:ext cx="3494160" cy="4165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588000" y="1698480"/>
            <a:ext cx="2403720" cy="4164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5076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08760" y="549360"/>
            <a:ext cx="602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iotransformación de la Aspi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31360" y="12682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árm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643280" y="1484280"/>
            <a:ext cx="360360" cy="504720"/>
            <a:chOff x="4643280" y="1484280"/>
            <a:chExt cx="360360" cy="504720"/>
          </a:xfrm>
        </p:grpSpPr>
        <p:sp>
          <p:nvSpPr>
            <p:cNvPr id="98" name=""/>
            <p:cNvSpPr/>
            <p:nvPr/>
          </p:nvSpPr>
          <p:spPr>
            <a:xfrm>
              <a:off x="4643280" y="1484280"/>
              <a:ext cx="360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03640" y="1484280"/>
              <a:ext cx="0" cy="504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99680" y="79200"/>
            <a:ext cx="827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Consecuencias de las reacciones de Fase 1 y Fase 2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el efec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1800" y="1268280"/>
            <a:ext cx="3656880" cy="581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acciones de f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2880" y="1989000"/>
            <a:ext cx="38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1.- Eliminar el ef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600" y="2924280"/>
            <a:ext cx="39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2.- Mantener el ef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960" y="3860640"/>
            <a:ext cx="39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3.- Generar tox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80" y="5084640"/>
            <a:ext cx="3815640" cy="581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acciones de f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6960" y="5734080"/>
            <a:ext cx="53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1.- Siempre eliminan el ef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2276640"/>
            <a:ext cx="144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26200" y="2060640"/>
            <a:ext cx="2954520" cy="4597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0000ff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etabolitos in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284640"/>
            <a:ext cx="1728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4292640"/>
            <a:ext cx="1224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6021360"/>
            <a:ext cx="649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70560" y="5734080"/>
            <a:ext cx="2954520" cy="4597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0000ff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etabolitos in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10520" y="2997360"/>
            <a:ext cx="2700000" cy="4597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0000ff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etabolito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10520" y="4005360"/>
            <a:ext cx="2700000" cy="4597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0000ff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etabolitos tóx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2600" y="47520"/>
            <a:ext cx="868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Sistema enzimático más importante debido a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rticipa en la biotransformación de c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dos de los fárma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087960" cy="3943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20080" y="1916280"/>
            <a:ext cx="77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Sistema Microsomal Oxidante de Fárma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40464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66"/>
                </a:solidFill>
                <a:uFillTx/>
                <a:latin typeface="Tahoma"/>
              </a:rPr>
              <a:t>Sistema Microsomal Oxidante</a:t>
            </a:r>
            <a:br>
              <a:rPr sz="2400"/>
            </a:br>
            <a:r>
              <a:rPr b="1" lang="es-ES" sz="2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(cataliza reacciónes de oxidación-fase</a:t>
            </a:r>
            <a:r>
              <a:rPr b="1" lang="es-ES" sz="2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I)</a:t>
            </a:r>
            <a:r>
              <a:rPr b="1" lang="es-ES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es-ES_tradnl" sz="2400" spc="-1" strike="noStrike" u="sng">
                <a:solidFill>
                  <a:srgbClr val="ffff66"/>
                </a:solidFill>
                <a:uFillTx/>
                <a:latin typeface="Arial"/>
              </a:rPr>
              <a:t>PRINCIPALES CONSTITUYENTES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-  Citocromo P450 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(existen muchas isoform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-  Citocromo P450 reduc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-  Requiere de NADPH y O2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F-H</a:t>
            </a:r>
            <a:r>
              <a:rPr b="1" lang="es-ES" sz="28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+ NADPH                          F-OH + NA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_tradnl" sz="2800" spc="-1" strike="noStrike">
                <a:solidFill>
                  <a:srgbClr val="ff99ff"/>
                </a:solidFill>
                <a:latin typeface="Arial"/>
              </a:rPr>
              <a:t>CITOCROMO  P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4508640"/>
            <a:ext cx="2376360" cy="0"/>
          </a:xfrm>
          <a:prstGeom prst="line">
            <a:avLst/>
          </a:prstGeom>
          <a:ln w="108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508720" cy="4957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roporción de fármacos biotransformados p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diferentes familias de citocr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ÁRMACOS BIOTRANSFORMADOS POR LOS DIFERENTES CITOCROMOS P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381880" cy="487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yP 3A4:   Fenobarbital, fenitoín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y rifampicina.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yP 1A1:   Hidrocarburos policic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yP 1A2:   Cafeina, rifamp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yP 2E1:   Alcohol, acetominof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yP 2D6:   Clomipramina, fluoxe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yP 2C9:   Diclofenaco, Ibuprof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yP 2C19:  Omeprazol, diazep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3960" y="260280"/>
            <a:ext cx="889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racterísticas del sistema microsomal oxid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97000"/>
            <a:ext cx="9468000" cy="31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5960" indent="-615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- Es poco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5960" indent="-615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.- Biotransforma fármacos liposol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5960" indent="-615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.- Cataliza reacciones de oxi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5960" indent="-61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4.- Puede ser inducido (es posible aumentar la  cantidad citocromo P450) por algunos fármacos llamados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fármacos inductores enzi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4880" y="4797360"/>
            <a:ext cx="8143560" cy="18003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Definición d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fármaco inductor enzi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 aquel cuya administración repetida provo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mento del citocromo P450 debido a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menta la expresión del gen.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Es rever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71960" y="49320"/>
            <a:ext cx="82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Rifampicina (antibiótico) es inductor enzi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provocó aumentó el metabolismo del triazo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3600" y="1276200"/>
            <a:ext cx="9050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secuencias clínicas: disminuyó la intensi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dad y la duración del efecto de triazo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63272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8320" y="360000"/>
            <a:ext cx="8789040" cy="4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Curva Concentración sanguínea/tiempo</a:t>
            </a:r>
            <a:r>
              <a:rPr b="1" lang="es-ES_tradnl" sz="4000" spc="-1" strike="noStrike">
                <a:solidFill>
                  <a:srgbClr val="3333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4968720" cy="4349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00" y="49320"/>
            <a:ext cx="86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FARMACOS INHIBIDORES DEL CITOCROMO P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1720" y="747720"/>
            <a:ext cx="85428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ritromicin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s un inhibidor del citocromo P4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ecuencia: Elevó el nivel sanguíneo del alprazo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peligroso porque alprazolam puede llegar a niveles tóx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34920">
            <a:solidFill>
              <a:srgbClr val="ff33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BIOTRANSFORMACIÓN</a:t>
            </a:r>
            <a:br>
              <a:rPr sz="2800"/>
            </a:b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FASE </a:t>
            </a:r>
            <a:r>
              <a:rPr b="1" lang="es-ES_tradnl" sz="2800" spc="-1" strike="noStrike">
                <a:solidFill>
                  <a:srgbClr val="ffff66"/>
                </a:solidFill>
                <a:latin typeface="Times New Roman"/>
              </a:rPr>
              <a:t>II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: REACCIONES DE CONJUGACIÓ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0000" y="3500280"/>
            <a:ext cx="7723440" cy="266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cido glucuronico:  morfina,benzodiazep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rupos sulfatos:      paraceta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rupos acetilos:      isoniaz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rupos metilos:       noradrena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lutatión:                 paraceta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520" y="1557360"/>
            <a:ext cx="9096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                  </a:t>
            </a:r>
            <a:r>
              <a:rPr b="1" lang="es-ES_tradnl" sz="2800" spc="-1" strike="noStrike">
                <a:solidFill>
                  <a:srgbClr val="ff99ff"/>
                </a:solidFill>
                <a:latin typeface="Arial"/>
              </a:rPr>
              <a:t>TRANSFER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FÁRMA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METABOLITO                              METABOLITO CONJU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DE FASE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2565360"/>
            <a:ext cx="201636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http://www.deep-vein-thrombosis.co.uk/images/circulation-in-the-human-and-mammals.gif"/>
          <p:cNvPicPr/>
          <p:nvPr/>
        </p:nvPicPr>
        <p:blipFill>
          <a:blip r:embed="rId1"/>
          <a:stretch/>
        </p:blipFill>
        <p:spPr>
          <a:xfrm>
            <a:off x="2843280" y="1819440"/>
            <a:ext cx="3600360" cy="5038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49840" y="0"/>
            <a:ext cx="55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Arial"/>
              </a:rPr>
              <a:t>Clearance Hepático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(Cl 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9024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finición: Es el volumen de plasma aclarado de fármaco al pasar por el hígado en unidad de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2492280"/>
            <a:ext cx="8820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066760" indent="-206676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66760" indent="-206676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l H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=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lujo hepático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tasa de extracción hepática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(Q)                     (E)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6760" indent="-2066760"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7560" y="549360"/>
            <a:ext cx="730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El clearance hepático está determinado por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- El flujo sanguíneo hepático (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.- La tasa de extracción hepática (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2708280"/>
            <a:ext cx="8893080" cy="1152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7240" y="0"/>
            <a:ext cx="90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ahoma"/>
              </a:rPr>
              <a:t>Definición de Tasa de extracción hep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00000" y="2133720"/>
            <a:ext cx="7705800" cy="2665440"/>
            <a:chOff x="900000" y="2133720"/>
            <a:chExt cx="7705800" cy="2665440"/>
          </a:xfrm>
        </p:grpSpPr>
        <p:sp>
          <p:nvSpPr>
            <p:cNvPr id="147" name=""/>
            <p:cNvSpPr/>
            <p:nvPr/>
          </p:nvSpPr>
          <p:spPr>
            <a:xfrm>
              <a:off x="2844720" y="2133720"/>
              <a:ext cx="3600360" cy="2665440"/>
            </a:xfrm>
            <a:prstGeom prst="rect">
              <a:avLst/>
            </a:prstGeom>
            <a:solidFill>
              <a:srgbClr val="ff99ff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7280" y="3984840"/>
              <a:ext cx="2305080" cy="79200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993300"/>
                </a:gs>
                <a:gs pos="100000">
                  <a:srgbClr val="3333ff"/>
                </a:gs>
              </a:gsLst>
              <a:lin ang="5400000"/>
            </a:gradFill>
            <a:ln w="247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Arial"/>
                </a:rPr>
                <a:t>CAPACIDAD        ENZIMÁ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900000" y="2205000"/>
              <a:ext cx="7705800" cy="1657440"/>
              <a:chOff x="900000" y="2205000"/>
              <a:chExt cx="7705800" cy="1657440"/>
            </a:xfrm>
          </p:grpSpPr>
          <p:sp>
            <p:nvSpPr>
              <p:cNvPr id="150" name=""/>
              <p:cNvSpPr/>
              <p:nvPr/>
            </p:nvSpPr>
            <p:spPr>
              <a:xfrm>
                <a:off x="2916360" y="2205000"/>
                <a:ext cx="30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600" spc="-1" strike="noStrike">
                    <a:solidFill>
                      <a:srgbClr val="ffff00"/>
                    </a:solidFill>
                    <a:latin typeface="Tahoma"/>
                  </a:rPr>
                  <a:t>     </a:t>
                </a:r>
                <a:r>
                  <a:rPr b="1" lang="es-ES_tradnl" sz="3600" spc="-1" strike="noStrike">
                    <a:solidFill>
                      <a:srgbClr val="000000"/>
                    </a:solidFill>
                    <a:latin typeface="Tahoma"/>
                  </a:rPr>
                  <a:t>HÍGADO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60360" y="2781360"/>
                <a:ext cx="7129800" cy="1042920"/>
              </a:xfrm>
              <a:prstGeom prst="rect">
                <a:avLst/>
              </a:prstGeom>
              <a:solidFill>
                <a:srgbClr val="ff33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ff00"/>
                    </a:solidFill>
                    <a:latin typeface="Arial"/>
                  </a:rPr>
                  <a:t>Q </a:t>
                </a:r>
                <a:r>
                  <a:rPr b="0" lang="es-ES_tradnl" sz="2800" spc="-1" strike="noStrike">
                    <a:solidFill>
                      <a:srgbClr val="ffff00"/>
                    </a:solidFill>
                    <a:latin typeface="comic"/>
                  </a:rPr>
                  <a:t>•</a:t>
                </a:r>
                <a:r>
                  <a:rPr b="0" lang="es-ES_tradnl" sz="2800" spc="-1" strike="noStrike">
                    <a:solidFill>
                      <a:srgbClr val="ffff00"/>
                    </a:solidFill>
                    <a:latin typeface="Arial"/>
                  </a:rPr>
                  <a:t>Ce</a:t>
                </a:r>
                <a:r>
                  <a:rPr b="1" lang="es-ES_tradnl" sz="2400" spc="-1" strike="noStrike">
                    <a:solidFill>
                      <a:srgbClr val="ffff00"/>
                    </a:solidFill>
                    <a:latin typeface="Arial"/>
                  </a:rPr>
                  <a:t>       </a:t>
                </a:r>
                <a:r>
                  <a:rPr b="0" lang="es-ES_tradnl" sz="3200" spc="-1" strike="noStrike">
                    <a:solidFill>
                      <a:srgbClr val="ffff00"/>
                    </a:solidFill>
                    <a:latin typeface="Tahoma"/>
                  </a:rPr>
                  <a:t>F-libre</a:t>
                </a:r>
                <a:r>
                  <a:rPr b="0" lang="es-ES_tradnl" sz="2800" spc="-1" strike="noStrike">
                    <a:solidFill>
                      <a:srgbClr val="ffff00"/>
                    </a:solidFill>
                    <a:latin typeface="Arial"/>
                  </a:rPr>
                  <a:t>          </a:t>
                </a:r>
                <a:r>
                  <a:rPr b="0" lang="es-ES_tradnl" sz="3200" spc="-1" strike="noStrike">
                    <a:solidFill>
                      <a:srgbClr val="ffff00"/>
                    </a:solidFill>
                    <a:latin typeface="Arial"/>
                  </a:rPr>
                  <a:t>F-unido</a:t>
                </a:r>
                <a:r>
                  <a:rPr b="1" lang="es-ES_tradnl" sz="2400" spc="-1" strike="noStrike">
                    <a:solidFill>
                      <a:srgbClr val="ffff00"/>
                    </a:solidFill>
                    <a:latin typeface="Arial"/>
                  </a:rPr>
                  <a:t>     </a:t>
                </a:r>
                <a:r>
                  <a:rPr b="0" lang="es-ES_tradnl" sz="3200" spc="-1" strike="noStrike">
                    <a:solidFill>
                      <a:srgbClr val="ffff00"/>
                    </a:solidFill>
                    <a:latin typeface="Tahoma"/>
                  </a:rPr>
                  <a:t>Q </a:t>
                </a:r>
                <a:r>
                  <a:rPr b="0" lang="es-ES_tradnl" sz="3200" spc="-1" strike="noStrike">
                    <a:solidFill>
                      <a:srgbClr val="ffff00"/>
                    </a:solidFill>
                    <a:latin typeface="SimSun"/>
                  </a:rPr>
                  <a:t>•</a:t>
                </a:r>
                <a:r>
                  <a:rPr b="0" lang="es-ES_tradnl" sz="3200" spc="-1" strike="noStrike">
                    <a:solidFill>
                      <a:srgbClr val="ffff00"/>
                    </a:solidFill>
                    <a:latin typeface="Tahoma"/>
                  </a:rPr>
                  <a:t> </a:t>
                </a:r>
                <a:r>
                  <a:rPr b="0" lang="en-US" sz="3200" spc="-1" strike="noStrike">
                    <a:solidFill>
                      <a:srgbClr val="ffff00"/>
                    </a:solidFill>
                    <a:latin typeface="Tahoma"/>
                  </a:rPr>
                  <a:t>C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76360" y="3573720"/>
                <a:ext cx="1152720" cy="0"/>
              </a:xfrm>
              <a:prstGeom prst="line">
                <a:avLst/>
              </a:prstGeom>
              <a:ln w="1620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950160" y="3573720"/>
                <a:ext cx="1152360" cy="0"/>
              </a:xfrm>
              <a:prstGeom prst="line">
                <a:avLst/>
              </a:prstGeom>
              <a:ln w="1620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0000" y="2710080"/>
                <a:ext cx="505080" cy="1152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174160" y="2781360"/>
                <a:ext cx="431640" cy="1079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3440" y="3141720"/>
                <a:ext cx="936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3565440" y="3357720"/>
              <a:ext cx="0" cy="1224000"/>
            </a:xfrm>
            <a:prstGeom prst="line">
              <a:avLst/>
            </a:prstGeom>
            <a:ln w="184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800" y="4149720"/>
            <a:ext cx="250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e:[F] que en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s:[F] que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83664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Es la Fracción de Fármaco extraída por el  híg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95480" y="54388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560" y="5445000"/>
            <a:ext cx="824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F con alta tasa de extracción hepática se elimi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muy rápido y tienen biodisponibilidad oral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419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9240" y="0"/>
            <a:ext cx="887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Biotransformación afecta la biodisponibilidad y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liminación del Fárm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908000" y="1413000"/>
            <a:ext cx="5477040" cy="3751560"/>
          </a:xfrm>
          <a:prstGeom prst="rect">
            <a:avLst/>
          </a:prstGeom>
          <a:noFill/>
          <a:ln w="149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ahoma"/>
              </a:rPr>
              <a:t>EXCRE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86240" y="692280"/>
            <a:ext cx="73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Principales vías de excreción de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2720" y="1941480"/>
            <a:ext cx="85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REN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 Biliar – Salival – Leche Materna – Pelo y Uñ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9280" y="3236760"/>
            <a:ext cx="83455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La vía RENAL es la que hace desaparec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más fármaco desde la sangr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897440" cy="5084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560" y="0"/>
            <a:ext cx="91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Mecanismos que participan en Excreción R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74560" y="5157720"/>
            <a:ext cx="59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64000" y="5734080"/>
            <a:ext cx="718920" cy="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5734080"/>
            <a:ext cx="576360" cy="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62680" y="630540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87640" y="1268280"/>
            <a:ext cx="4464000" cy="914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1.Ultrafiltración Glomer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445000"/>
            <a:ext cx="34923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2.- Secreción tub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572000" y="1989000"/>
            <a:ext cx="792000" cy="3168720"/>
          </a:xfrm>
          <a:prstGeom prst="line">
            <a:avLst/>
          </a:prstGeom>
          <a:ln w="111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5373720"/>
            <a:ext cx="378000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3.-Reabsorción tub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40" y="4428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http://www.leavingbio.net/OSMOSIS%20AND%20DIFFUSION_files/image004.gif"/>
          <p:cNvPicPr/>
          <p:nvPr/>
        </p:nvPicPr>
        <p:blipFill>
          <a:blip r:embed="rId1"/>
          <a:stretch/>
        </p:blipFill>
        <p:spPr>
          <a:xfrm rot="10800000">
            <a:off x="2050560" y="1341000"/>
            <a:ext cx="5257800" cy="2665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384000" y="37940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Orina Tub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41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680" y="152280"/>
            <a:ext cx="868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¿Qué características debe tener el fármaco p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Ultrafilt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42880" y="14130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árm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6680" y="474984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.- Debe tener un peso molecular inter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6920" y="5470560"/>
            <a:ext cx="59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2.- Debe estar libre. No unido a las 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63480" y="108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81080" y="115920"/>
            <a:ext cx="9396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Times New Roman"/>
              </a:rPr>
              <a:t>Velocidad de eliminación</a:t>
            </a: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00"/>
                </a:solidFill>
                <a:latin typeface="Times New Roman"/>
              </a:rPr>
              <a:t>(importante</a:t>
            </a:r>
            <a:r>
              <a:rPr b="1" lang="es-ES_tradnl" sz="3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_tradnl" sz="3000" spc="-1" strike="noStrike">
                <a:solidFill>
                  <a:srgbClr val="ffff00"/>
                </a:solidFill>
                <a:latin typeface="Times New Roman"/>
              </a:rPr>
              <a:t>para dosificar)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55640" y="2146320"/>
          <a:ext cx="62262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46320"/>
                    <a:ext cx="62262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4209840" y="2781360"/>
            <a:ext cx="405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Pendiente de elimin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l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284360" y="3357720"/>
            <a:ext cx="647640" cy="7189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6880" y="469440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endiente de eliminación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492360" y="4724280"/>
            <a:ext cx="503280" cy="14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http://www.mblab.gla.ac.uk/~julian/lab/V.gif"/>
          <p:cNvPicPr/>
          <p:nvPr/>
        </p:nvPicPr>
        <p:blipFill>
          <a:blip r:embed="rId1"/>
          <a:stretch/>
        </p:blipFill>
        <p:spPr>
          <a:xfrm>
            <a:off x="1042920" y="1773360"/>
            <a:ext cx="2735280" cy="2111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rot="16200000">
            <a:off x="7867440" y="198324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umen tub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1680" y="152280"/>
            <a:ext cx="868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¿Qué características debe tener el fármaco p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sufrir secreción tubu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24040" y="19162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árma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79680" y="357336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rina tu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99880" y="1989000"/>
            <a:ext cx="51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.-Transportador para aniones 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47240" y="328464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.-Transportador para cationes 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3520" y="494172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1.- Debe estar ionizado al pH de la 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25120" y="2492280"/>
            <a:ext cx="44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Ácidos ionizados Ejm: penicilina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4760" y="3716280"/>
            <a:ext cx="37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Bases ionizadas Ejm: Morf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3120" y="2990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1680" y="152280"/>
            <a:ext cx="868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¿Qué características debe tener el fármaco p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sufrir reabsorción tubu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2192040" cy="2520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211640" y="2981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27640" y="3500280"/>
            <a:ext cx="15843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720" y="2997360"/>
            <a:ext cx="2951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iposoluble se reabso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18520" y="4149720"/>
            <a:ext cx="275796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idrosoluble se exc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3573360"/>
            <a:ext cx="0" cy="503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0160" y="479736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1.- Debe ser liposolubles. No tener carga eléctrica al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de la orina tub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2160" y="5734080"/>
            <a:ext cx="8872560" cy="752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La griseofulvina es tan liposoluble que se reabsorbe en un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¿Cómo se elimina este fármaco entonc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63360" y="333360"/>
            <a:ext cx="707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mo acelerar la excreción de Fs ácidos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ses débiles en una intox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3612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http://www.deep-vein-thrombosis.co.uk/images/circulation-in-the-human-and-mammals.gif"/>
          <p:cNvPicPr/>
          <p:nvPr/>
        </p:nvPicPr>
        <p:blipFill>
          <a:blip r:embed="rId1"/>
          <a:stretch/>
        </p:blipFill>
        <p:spPr>
          <a:xfrm>
            <a:off x="2268360" y="1989000"/>
            <a:ext cx="4967640" cy="486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184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33280" y="49320"/>
            <a:ext cx="749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Un parámetro que mide la eliminación es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learance o depu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1240" y="1038240"/>
            <a:ext cx="7896240" cy="1117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Clearance:Es el volumén de plasma que se aclara de fármaco al pasar por el hígado y/o los riñones en unidad de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35280" y="1509840"/>
            <a:ext cx="30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Eliminación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44840" y="1531800"/>
            <a:ext cx="6692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Biotransformación + Excre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(HÍGADO)               (RIÑ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60" y="3230640"/>
            <a:ext cx="93657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ff3300"/>
              </a:buClr>
              <a:buSzPct val="130000"/>
              <a:buFont typeface="Arial Unicode MS"/>
              <a:buChar char="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Algunos F se eliminan solo por Biotrans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3300"/>
              </a:buClr>
              <a:buSzPct val="13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Otros se eliminan solo por Excr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3300"/>
              </a:buClr>
              <a:buSzPct val="13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Otros se eliminan por ambos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41360"/>
            <a:ext cx="9144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5977080" cy="5805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8820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ctr" anchorCtr="1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Tahoma"/>
              </a:rPr>
              <a:t>BIOTRANSFORM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885080" cy="180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A BIOTRANSFORMACIÓ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S REALIZADA POR ENZ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3357720"/>
            <a:ext cx="822960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FÁRMACO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ETABOL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ENZ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3645000"/>
            <a:ext cx="1657440" cy="0"/>
          </a:xfrm>
          <a:prstGeom prst="line">
            <a:avLst/>
          </a:prstGeom>
          <a:ln w="6984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38520" y="32259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http://www.lab.anhb.uwa.edu.au/mb140/CorePages/Liver/Images/LiverAni.gif"/>
          <p:cNvPicPr/>
          <p:nvPr/>
        </p:nvPicPr>
        <p:blipFill>
          <a:blip r:embed="rId1"/>
          <a:stretch/>
        </p:blipFill>
        <p:spPr>
          <a:xfrm>
            <a:off x="0" y="1125360"/>
            <a:ext cx="8893080" cy="5929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http://www.thelivercentre.com.au/development/images/liver-crosssection.jpg"/>
          <p:cNvPicPr/>
          <p:nvPr/>
        </p:nvPicPr>
        <p:blipFill>
          <a:blip r:embed="rId2"/>
          <a:stretch/>
        </p:blipFill>
        <p:spPr>
          <a:xfrm>
            <a:off x="6084720" y="1052640"/>
            <a:ext cx="3203640" cy="2690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36360" y="44280"/>
            <a:ext cx="921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 u="sng">
                <a:solidFill>
                  <a:srgbClr val="ffffff"/>
                </a:solidFill>
                <a:uFillTx/>
                <a:latin typeface="Times New Roman"/>
              </a:rPr>
              <a:t>Enzimas Biotransformantes se localizan dentro del hepatoci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60" y="0"/>
            <a:ext cx="881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lo el F libre puede entrar al hepatocito para 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Eliminado por biotransform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4360" y="1384200"/>
            <a:ext cx="7705080" cy="5473800"/>
            <a:chOff x="684360" y="1384200"/>
            <a:chExt cx="7705080" cy="5473800"/>
          </a:xfrm>
        </p:grpSpPr>
        <p:sp>
          <p:nvSpPr>
            <p:cNvPr id="72" name=""/>
            <p:cNvSpPr/>
            <p:nvPr/>
          </p:nvSpPr>
          <p:spPr>
            <a:xfrm>
              <a:off x="2628720" y="1384200"/>
              <a:ext cx="3600000" cy="2665440"/>
            </a:xfrm>
            <a:prstGeom prst="rect">
              <a:avLst/>
            </a:prstGeom>
            <a:solidFill>
              <a:srgbClr val="ff99ff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84360" y="1390680"/>
              <a:ext cx="7705080" cy="5467320"/>
              <a:chOff x="684360" y="1390680"/>
              <a:chExt cx="7705080" cy="546732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684360" y="1390680"/>
                <a:ext cx="7705080" cy="1656720"/>
                <a:chOff x="684360" y="1390680"/>
                <a:chExt cx="7705080" cy="16567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2700360" y="1390680"/>
                  <a:ext cx="3023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18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3600" spc="-1" strike="noStrike">
                      <a:solidFill>
                        <a:srgbClr val="ffff00"/>
                      </a:solidFill>
                      <a:latin typeface="Tahoma"/>
                    </a:rPr>
                    <a:t>     </a:t>
                  </a:r>
                  <a:r>
                    <a:rPr b="1" lang="es-ES_tradnl" sz="3600" spc="-1" strike="noStrike">
                      <a:solidFill>
                        <a:srgbClr val="000000"/>
                      </a:solidFill>
                      <a:latin typeface="Tahoma"/>
                    </a:rPr>
                    <a:t>HÍGADO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044360" y="1966680"/>
                  <a:ext cx="7129440" cy="1042560"/>
                </a:xfrm>
                <a:prstGeom prst="rect">
                  <a:avLst/>
                </a:prstGeom>
                <a:solidFill>
                  <a:srgbClr val="ff3300"/>
                </a:solidFill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ffff00"/>
                      </a:solidFill>
                      <a:latin typeface="Arial"/>
                    </a:rPr>
                    <a:t>Q </a:t>
                  </a:r>
                  <a:r>
                    <a:rPr b="0" lang="es-ES_tradnl" sz="2800" spc="-1" strike="noStrike">
                      <a:solidFill>
                        <a:srgbClr val="ffff00"/>
                      </a:solidFill>
                      <a:latin typeface="comic"/>
                    </a:rPr>
                    <a:t>•</a:t>
                  </a:r>
                  <a:r>
                    <a:rPr b="0" lang="es-ES_tradnl" sz="2800" spc="-1" strike="noStrike">
                      <a:solidFill>
                        <a:srgbClr val="ffff00"/>
                      </a:solidFill>
                      <a:latin typeface="Arial"/>
                    </a:rPr>
                    <a:t>Ce</a:t>
                  </a:r>
                  <a:r>
                    <a:rPr b="1" lang="es-ES_tradnl" sz="2400" spc="-1" strike="noStrike">
                      <a:solidFill>
                        <a:srgbClr val="ffff00"/>
                      </a:solidFill>
                      <a:latin typeface="Arial"/>
                    </a:rPr>
                    <a:t>       </a:t>
                  </a:r>
                  <a:r>
                    <a:rPr b="0" lang="es-ES_tradnl" sz="3200" spc="-1" strike="noStrike">
                      <a:solidFill>
                        <a:srgbClr val="ffff00"/>
                      </a:solidFill>
                      <a:latin typeface="Tahoma"/>
                    </a:rPr>
                    <a:t>F-libre</a:t>
                  </a:r>
                  <a:r>
                    <a:rPr b="0" lang="es-ES_tradnl" sz="2800" spc="-1" strike="noStrike">
                      <a:solidFill>
                        <a:srgbClr val="ffff00"/>
                      </a:solidFill>
                      <a:latin typeface="Arial"/>
                    </a:rPr>
                    <a:t>          </a:t>
                  </a:r>
                  <a:r>
                    <a:rPr b="0" lang="es-ES_tradnl" sz="3200" spc="-1" strike="noStrike">
                      <a:solidFill>
                        <a:srgbClr val="ffff00"/>
                      </a:solidFill>
                      <a:latin typeface="Arial"/>
                    </a:rPr>
                    <a:t>F-unido</a:t>
                  </a:r>
                  <a:r>
                    <a:rPr b="1" lang="es-ES_tradnl" sz="2400" spc="-1" strike="noStrike">
                      <a:solidFill>
                        <a:srgbClr val="ffff00"/>
                      </a:solidFill>
                      <a:latin typeface="Arial"/>
                    </a:rPr>
                    <a:t>     </a:t>
                  </a:r>
                  <a:r>
                    <a:rPr b="0" lang="es-ES_tradnl" sz="3200" spc="-1" strike="noStrike">
                      <a:solidFill>
                        <a:srgbClr val="ffff00"/>
                      </a:solidFill>
                      <a:latin typeface="Tahoma"/>
                    </a:rPr>
                    <a:t>Q </a:t>
                  </a:r>
                  <a:r>
                    <a:rPr b="0" lang="es-ES_tradnl" sz="3200" spc="-1" strike="noStrike">
                      <a:solidFill>
                        <a:srgbClr val="ffff00"/>
                      </a:solidFill>
                      <a:latin typeface="SimSun"/>
                    </a:rPr>
                    <a:t>•</a:t>
                  </a:r>
                  <a:r>
                    <a:rPr b="0" lang="es-ES_tradnl" sz="3200" spc="-1" strike="noStrike">
                      <a:solidFill>
                        <a:srgbClr val="ffff00"/>
                      </a:solidFill>
                      <a:latin typeface="Tahoma"/>
                    </a:rPr>
                    <a:t> </a:t>
                  </a:r>
                  <a:r>
                    <a:rPr b="0" lang="en-US" sz="3200" spc="-1" strike="noStrike">
                      <a:solidFill>
                        <a:srgbClr val="ffff00"/>
                      </a:solidFill>
                      <a:latin typeface="Tahoma"/>
                    </a:rPr>
                    <a:t>Cs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260360" y="2759040"/>
                  <a:ext cx="1152360" cy="0"/>
                </a:xfrm>
                <a:prstGeom prst="line">
                  <a:avLst/>
                </a:prstGeom>
                <a:ln w="1620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734160" y="2759040"/>
                  <a:ext cx="1152000" cy="0"/>
                </a:xfrm>
                <a:prstGeom prst="line">
                  <a:avLst/>
                </a:prstGeom>
                <a:ln w="1620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84360" y="1895400"/>
                  <a:ext cx="504720" cy="1152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958160" y="1966680"/>
                  <a:ext cx="431280" cy="1079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997440" y="2327040"/>
                  <a:ext cx="936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377800" y="3190680"/>
                <a:ext cx="4392360" cy="366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3457440" y="2687400"/>
                <a:ext cx="0" cy="1224000"/>
              </a:xfrm>
              <a:prstGeom prst="line">
                <a:avLst/>
              </a:prstGeom>
              <a:ln w="184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8:21:14Z</dcterms:created>
  <dc:creator>Usuario</dc:creator>
  <dc:description/>
  <dc:language>en-US</dc:language>
  <cp:lastModifiedBy>Facultad de Medicina</cp:lastModifiedBy>
  <dcterms:modified xsi:type="dcterms:W3CDTF">2010-08-11T17:37:03Z</dcterms:modified>
  <cp:revision>64</cp:revision>
  <dc:subject/>
  <dc:title>Diapositiva 1</dc:title>
</cp:coreProperties>
</file>