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0.wmf" ContentType="image/x-wmf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4.jpeg" ContentType="image/jpeg"/>
  <Override PartName="/ppt/media/image25.jpeg" ContentType="image/jpeg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DBA2-703A-4B3D-B9EE-083883F4CA4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B4D9-AC4A-4C41-96CB-A995D7E3BB8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BB3C-1130-4536-9EBE-CB0A7F0E484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B702-D06D-4FC7-AF29-DE8B1106B14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B397-D285-46C4-B35E-63489B7EFB4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2C50-E66F-4940-81E8-1905CE5DB7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E59D-FB51-4201-A66C-50548174DDE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594B-19CC-424E-B673-08220982DD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DE90-1973-4D25-B7D3-5EBC8B957DB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AB87-B76C-424E-8BA2-5D9AA1871C8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F4C7-F1E2-49D8-8ABC-FF84FD88EDF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0EF1-E076-4976-A649-288278D1C4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E6C3-FE7A-4906-8906-9C1980DD80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8B7F-F6F9-4712-8425-BDBE3096AA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8377-D757-4A3B-B672-7DDCBBC575F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D42A-6E20-487C-A08B-42DA994DEB4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EFC0-7403-47C9-AA38-10B537854DF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7C31-5C4F-4F4F-9A6A-785FDCBBD5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D411-5BA5-4CE9-B97F-7ACECEF5FA1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5054-B2D4-4C5B-AEEC-0E52717E35B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FCEE-B2E8-424B-B40F-CE2F0BB9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8BAB-688D-4A35-B6B8-39DACE96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E04E-84BA-4C5A-B58F-98D26234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8EFD-809F-4018-9FB3-D963998D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FDB4-D3CA-432C-B683-C67843AB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6A81-CC20-47DE-A491-E79F3331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E375-A6AD-4CE3-BEDE-40EABF27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0246-78F4-4E10-B0D9-6F0F2D31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E94-F8C4-44CA-806E-CDDD40BA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FF92-2094-483A-A571-54A296FB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8FF-1BCD-4917-9F9B-DDA384DD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3B14-D2B8-4ECD-A7F5-5E7F41BF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AADF-335A-4B91-BC2D-AEA3ECA9E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052280"/>
            <a:ext cx="8381880" cy="3671640"/>
          </a:xfrm>
          <a:prstGeom prst="rect">
            <a:avLst/>
          </a:prstGeom>
          <a:noFill/>
          <a:ln w="139680">
            <a:solidFill>
              <a:srgbClr val="bbe0e3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Times New Roman"/>
              </a:rPr>
              <a:t>VíAS DE  ADMINISTRACIÓN  </a:t>
            </a:r>
            <a:br>
              <a:rPr sz="5400"/>
            </a:br>
            <a:r>
              <a:rPr b="1" lang="es-ES_tradnl" sz="5400" spc="-1" strike="noStrike">
                <a:solidFill>
                  <a:srgbClr val="000000"/>
                </a:solidFill>
                <a:latin typeface="Times New Roman"/>
              </a:rPr>
              <a:t>DE FÁRMA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5661000"/>
            <a:ext cx="5327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rof. María Elena Quintanilla</a:t>
            </a:r>
            <a:br>
              <a:rPr sz="28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KINESIOLOGÍ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Factores que influyen en la absorción oral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181440" y="1341360"/>
            <a:ext cx="9649080" cy="32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lvl="1" marL="1702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66ff"/>
                </a:solidFill>
                <a:uFillTx/>
                <a:latin typeface="Comic Sans MS"/>
              </a:rPr>
              <a:t>Factores Propios del fárma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02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.-coeficiente partición lípido/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02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.-grado de ionización: buena absorción F no ionizados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02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.-tamaño partículas: buena absorción F peso molecular baj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02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4.- forma farmacéutica. Líquidas mejor absorsión que sól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02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5.-1er paso hepátic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941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440" y="4805280"/>
            <a:ext cx="6566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66ff"/>
                </a:solidFill>
                <a:uFillTx/>
                <a:latin typeface="Comic Sans MS"/>
              </a:rPr>
              <a:t>Factores de la via de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.-superficie de ab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.-velocidad vaciamiento gást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.-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11400" y="0"/>
            <a:ext cx="29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ff"/>
                </a:solidFill>
                <a:latin typeface="Tahoma"/>
              </a:rPr>
              <a:t>1.- </a:t>
            </a:r>
            <a:r>
              <a:rPr b="1" lang="es-ES_tradnl" sz="3600" spc="-1" strike="noStrike" u="sng">
                <a:solidFill>
                  <a:srgbClr val="3366ff"/>
                </a:solidFill>
                <a:uFillTx/>
                <a:latin typeface="Tahoma"/>
              </a:rPr>
              <a:t>VIA O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6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1.-</a:t>
            </a: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ahoma"/>
              </a:rPr>
              <a:t> Vía Oral</a:t>
            </a: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3366ff"/>
                </a:solidFill>
                <a:latin typeface="Tahoma"/>
              </a:rPr>
              <a:t>Factores propios del Fárma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24000" y="2343240"/>
            <a:ext cx="5761080" cy="4514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58160" y="87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.-CP lípido/agu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Mejor absorsión F liposolu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5000"/>
            <a:ext cx="9396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-</a:t>
            </a: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imer paso hepátic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n mejor absorsión F escaso primer paso hep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n mala absorción F primer paso hepático grande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1.-</a:t>
            </a: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ahoma"/>
              </a:rPr>
              <a:t> Vía Oral</a:t>
            </a: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3366ff"/>
                </a:solidFill>
                <a:latin typeface="Tahoma"/>
              </a:rPr>
              <a:t>Factores propios del Fárma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897280"/>
            <a:ext cx="8351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1.-</a:t>
            </a: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ahoma"/>
              </a:rPr>
              <a:t> Vía Oral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300" spc="-1" strike="noStrike">
                <a:solidFill>
                  <a:srgbClr val="0066ff"/>
                </a:solidFill>
                <a:latin typeface="Tahoma"/>
              </a:rPr>
              <a:t>Factores propios de la vía  administr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67000" y="3141720"/>
            <a:ext cx="7986240" cy="2985840"/>
            <a:chOff x="567000" y="3141720"/>
            <a:chExt cx="7986240" cy="2985840"/>
          </a:xfrm>
        </p:grpSpPr>
        <p:sp>
          <p:nvSpPr>
            <p:cNvPr id="95" name=""/>
            <p:cNvSpPr/>
            <p:nvPr/>
          </p:nvSpPr>
          <p:spPr>
            <a:xfrm>
              <a:off x="965880" y="3141720"/>
              <a:ext cx="7587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STÓMAGO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Comic Sans MS"/>
                </a:rPr>
                <a:t>                </a:t>
              </a:r>
              <a:r>
                <a:rPr b="1" lang="es-ES_tradnl" sz="2400" spc="-1" strike="noStrike" u="sng">
                  <a:solidFill>
                    <a:srgbClr val="3366ff"/>
                  </a:solidFill>
                  <a:uFillTx/>
                  <a:latin typeface="Comic Sans MS"/>
                </a:rPr>
                <a:t>INTESTINO DELG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s-ES_tradnl" sz="3600" spc="-1" strike="noStrike">
                  <a:solidFill>
                    <a:srgbClr val="333399"/>
                  </a:solidFill>
                  <a:latin typeface="Comic Sans MS"/>
                </a:rPr>
                <a:t>pH 3.0 (ácido)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Comic Sans MS"/>
                </a:rPr>
                <a:t>        </a:t>
              </a:r>
              <a:r>
                <a:rPr b="0" lang="es-ES_tradnl" sz="3600" spc="-1" strike="noStrike">
                  <a:solidFill>
                    <a:srgbClr val="3366ff"/>
                  </a:solidFill>
                  <a:latin typeface="Comic Sans MS"/>
                </a:rPr>
                <a:t>pH 5.3 (+alcalino)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58560" y="4438440"/>
              <a:ext cx="15840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Comic Sans MS"/>
                </a:rPr>
                <a:t>HA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79280" y="479880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50920" y="5014800"/>
              <a:ext cx="934560" cy="0"/>
            </a:xfrm>
            <a:prstGeom prst="line">
              <a:avLst/>
            </a:prstGeom>
            <a:ln w="12708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7000" y="5302080"/>
              <a:ext cx="174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Aspir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liposolu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45840" y="5302080"/>
              <a:ext cx="198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cc6600"/>
                  </a:solidFill>
                  <a:latin typeface="Comic Sans MS"/>
                </a:rPr>
                <a:t>Aspir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cc6600"/>
                  </a:solidFill>
                  <a:latin typeface="Comic Sans MS"/>
                </a:rPr>
                <a:t>hidrosolu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76640" y="4365720"/>
              <a:ext cx="87732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Comic Sans MS"/>
                </a:rPr>
                <a:t>H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5722560" y="4941720"/>
              <a:ext cx="100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22920" y="4726080"/>
              <a:ext cx="1007640" cy="0"/>
            </a:xfrm>
            <a:prstGeom prst="line">
              <a:avLst/>
            </a:prstGeom>
            <a:ln w="127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99000" y="5302080"/>
              <a:ext cx="174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Aspir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liposolu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62200" y="5302080"/>
              <a:ext cx="198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cc6600"/>
                  </a:solidFill>
                  <a:latin typeface="Comic Sans MS"/>
                </a:rPr>
                <a:t>Aspir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cc6600"/>
                  </a:solidFill>
                  <a:latin typeface="Comic Sans MS"/>
                </a:rPr>
                <a:t>hidrosolu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42520" y="4092480"/>
              <a:ext cx="264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66"/>
                  </a:solidFill>
                  <a:latin typeface="Verdana"/>
                </a:rPr>
                <a:t>ASPIRINA :ácido déb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70800" y="4557600"/>
              <a:ext cx="117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cc3300"/>
                  </a:solidFill>
                  <a:latin typeface="Comic Sans MS"/>
                </a:rPr>
                <a:t>A</a:t>
              </a:r>
              <a:r>
                <a:rPr b="1" lang="es-ES_tradnl" sz="2800" spc="-1" strike="noStrike" baseline="30000">
                  <a:solidFill>
                    <a:srgbClr val="cc3300"/>
                  </a:solidFill>
                  <a:latin typeface="Comic Sans MS"/>
                </a:rPr>
                <a:t>-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Comic Sans MS"/>
                </a:rPr>
                <a:t>+ H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59880" y="4486320"/>
              <a:ext cx="117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cc3300"/>
                  </a:solidFill>
                  <a:latin typeface="Comic Sans MS"/>
                </a:rPr>
                <a:t>A</a:t>
              </a:r>
              <a:r>
                <a:rPr b="1" lang="es-ES_tradnl" sz="2800" spc="-1" strike="noStrike" baseline="30000">
                  <a:solidFill>
                    <a:srgbClr val="cc3300"/>
                  </a:solidFill>
                  <a:latin typeface="Comic Sans MS"/>
                </a:rPr>
                <a:t>-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Comic Sans MS"/>
                </a:rPr>
                <a:t>+ H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915280" y="671400"/>
            <a:ext cx="32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fluencia del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1125360"/>
            <a:ext cx="882000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33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El pH ácido del estómago favorece que los F ácidos déb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se absorban mejor en el estómago que en intestino (pH 5.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3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ionización de los F ácidos y bases débiles  depende 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El pKa del Fármaco y el pH de la vía de administración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501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3640" y="5013360"/>
            <a:ext cx="0" cy="4316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501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93080" y="5013360"/>
            <a:ext cx="0" cy="36036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31840" y="13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836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Superficie de la zona de absorció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1.-</a:t>
            </a: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ahoma"/>
              </a:rPr>
              <a:t> Vía Oral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300" spc="-1" strike="noStrike">
                <a:solidFill>
                  <a:srgbClr val="0066ff"/>
                </a:solidFill>
                <a:latin typeface="Tahoma"/>
              </a:rPr>
              <a:t>Factores propios de la vía  administr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0" y="1557360"/>
            <a:ext cx="915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gran superficie de absorción del intestino del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termina que los ácidos y bases débiles se absor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mayor cantidad allí que en el estómag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http://www.cartage.org.lb/en/themes/sciences/LifeScience/GeneralBiology/Physiology/DigestiveSystem/ComponentsDigestive/humdigest_2.gif"/>
          <p:cNvPicPr/>
          <p:nvPr/>
        </p:nvPicPr>
        <p:blipFill>
          <a:blip r:embed="rId1"/>
          <a:stretch/>
        </p:blipFill>
        <p:spPr>
          <a:xfrm>
            <a:off x="2195640" y="2952720"/>
            <a:ext cx="43527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25520" y="2590920"/>
            <a:ext cx="82612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058840"/>
            <a:ext cx="370836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66ff"/>
                </a:solidFill>
                <a:uFillTx/>
                <a:latin typeface="Times New Roman"/>
              </a:rPr>
              <a:t>DESVENTAJAS</a:t>
            </a:r>
            <a:r>
              <a:rPr b="1" lang="es-ES_tradnl" sz="2800" spc="-1" strike="noStrike">
                <a:solidFill>
                  <a:srgbClr val="0066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-Lenta velocidad de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bso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-N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aconse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sar en emerg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.- No se puede usar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ctes inconc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.- No usar pctes gastro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ter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-3816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Times New Roman"/>
              </a:rPr>
              <a:t>Comparación Vía Oral con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vía endovenosa (ev), intramuscular (im) y subcutánea (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80" y="1001880"/>
            <a:ext cx="91965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66ff"/>
                </a:solidFill>
                <a:uFillTx/>
                <a:latin typeface="Times New Roman"/>
              </a:rPr>
              <a:t>VENTAJAS</a:t>
            </a:r>
            <a:r>
              <a:rPr b="1" lang="es-ES_tradnl" sz="2800" spc="-1" strike="noStrike">
                <a:solidFill>
                  <a:srgbClr val="0066ff"/>
                </a:solidFill>
                <a:latin typeface="Times New Roman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más cómoda y económica, poco riesgo, útil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tamientos crón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780000" y="1773360"/>
            <a:ext cx="540036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53400" y="333360"/>
            <a:ext cx="63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incipal desventaja de la vía o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125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esenta varios factores que pueden disminu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biodisponibilidad del F que son los siguient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960" y="2492280"/>
            <a:ext cx="806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.- Falta de solubilidad del fárma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2.- Formación de complejos con ali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u otros fármac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3.- Destrucción por pH estomacal, enzi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intestinales o bacterias de algunos F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4.- Primer paso hepá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2.-VIA REC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3644640"/>
            <a:ext cx="9144000" cy="287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Desventaja respecto a la oral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absorción es irreg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 incompleta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F-F emple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- Suposi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- En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765000"/>
            <a:ext cx="781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sitio de absorción es la porción terminal del intestino gru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840" y="2205000"/>
            <a:ext cx="905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Ventaja respecto a la via ora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Escaso efecto de 1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ep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>
            <a:lum contrast="46000"/>
          </a:blip>
          <a:stretch/>
        </p:blipFill>
        <p:spPr>
          <a:xfrm>
            <a:off x="4067280" y="4941720"/>
            <a:ext cx="2881080" cy="1916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95640" y="6165720"/>
            <a:ext cx="1655640" cy="0"/>
          </a:xfrm>
          <a:prstGeom prst="line">
            <a:avLst/>
          </a:prstGeom>
          <a:ln w="136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292720" cy="75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3.-VÍA SUBLING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3328920"/>
            <a:ext cx="5796000" cy="334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175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sventajas respecto via 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- Solo es posible administr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ármacos que se disuelve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áp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- no se pueden administr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ármacos irrit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148360" y="3716280"/>
            <a:ext cx="3995640" cy="2583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3552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125360"/>
            <a:ext cx="608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Ventajas respecto a vía ora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No h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fecto 1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Times New Roman"/>
              </a:rPr>
              <a:t>er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so hepático. F entra p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ena cava a aurícula derecha h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legar a órg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4.-</a:t>
            </a: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VÍA INHALAT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3473280"/>
            <a:ext cx="7093080" cy="33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VENTAJAS en administración sisté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bsorción muy ráp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mbrana alvéolo capilar muy delg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n efecto 1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paso hepát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-dificultad para regular la d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- algunos fármacos irritan tracto respi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2160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907920"/>
            <a:ext cx="73677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Para </a:t>
            </a: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EFECTO LOCAL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 Ejm:as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La eficacia no depende de la absor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32400" y="2370240"/>
            <a:ext cx="89816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Para </a:t>
            </a: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EFECTO SISTEMICO 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Ejm anestésicos gener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La absorción si importa para la eficacia terapéu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372360" y="3645000"/>
            <a:ext cx="2771640" cy="2690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580000" y="1989000"/>
            <a:ext cx="100800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44000" y="3068640"/>
            <a:ext cx="0" cy="50472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391520" cy="51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VÍAS DE ADMINIS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2025720"/>
            <a:ext cx="559116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20640"/>
            <a:ext cx="88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zonas del organismo que sirven como 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receptácul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rque allí depositamos el medicamento o F-F para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inicie el proceso de abso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49120" y="1197000"/>
            <a:ext cx="8506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La via Inhalatoria no solo es u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via de administración de fármaco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también es una via de elimin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de fárma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91520" cy="62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5.- PIEL</a:t>
            </a: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8280" y="692280"/>
            <a:ext cx="84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pa córnea de la epidermis limita la absor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meable a sustancias químicas en condicion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fin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11520" y="2205000"/>
            <a:ext cx="891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66ff"/>
                </a:solidFill>
                <a:uFillTx/>
                <a:latin typeface="Times New Roman"/>
              </a:rPr>
              <a:t>Acción local o tóp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(acción endodérm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ulaciones de antiinflamatorios y de antibió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66ff"/>
                </a:solidFill>
                <a:uFillTx/>
                <a:latin typeface="Times New Roman"/>
              </a:rPr>
              <a:t>Acción General o sistém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(acción transdérm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Sistemas terapéuticos transdérmicos(hormona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56000" y="4379760"/>
            <a:ext cx="3809880" cy="2478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19280" y="4437000"/>
            <a:ext cx="576360" cy="792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66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http://diario.iol.pt/multimedia/oratvi/multimedia/imagem/id/12792235/235"/>
          <p:cNvPicPr/>
          <p:nvPr/>
        </p:nvPicPr>
        <p:blipFill>
          <a:blip r:embed="rId2"/>
          <a:stretch/>
        </p:blipFill>
        <p:spPr>
          <a:xfrm>
            <a:off x="6588000" y="4653000"/>
            <a:ext cx="2238480" cy="183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71640" y="691920"/>
            <a:ext cx="7200720" cy="309708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792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6000" spc="-1" strike="noStrike">
                <a:solidFill>
                  <a:srgbClr val="000000"/>
                </a:solidFill>
                <a:latin typeface="Tahoma"/>
              </a:rPr>
              <a:t>VÍAS “PARENTERALES”</a:t>
            </a:r>
            <a:r>
              <a:rPr b="0" lang="es-ES_tradnl" sz="6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6000" spc="-1" strike="noStrike">
                <a:solidFill>
                  <a:srgbClr val="000000"/>
                </a:solidFill>
                <a:latin typeface="Tahoma"/>
              </a:rPr>
              <a:t>             ARTIFICIA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5280" y="4437000"/>
            <a:ext cx="4691880" cy="155628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DOVENOSA (e.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CUTÁNEA (s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AMUSCULAR (i.m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VÍAS “PARENTERALES</a:t>
            </a:r>
            <a:r>
              <a:rPr b="1" lang="es-ES_tradnl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863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Times New Roman"/>
              </a:rPr>
              <a:t>VENTAJAS RESPECTO A LAS NA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Vías absorción ráp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Sin 1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paso hepá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dministración en caso de F inactivados por vía ent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Uso en pacientes inconsc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Times New Roman"/>
              </a:rPr>
              <a:t>INCONVEN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Necesitan de un operador capacit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Material estéril y asepsia adecu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Generalmente doloros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4860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ahoma"/>
              </a:rPr>
              <a:t>VÍA ENDOVENO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6840" y="974880"/>
            <a:ext cx="58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Ventajas respecto a las na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7040" y="1477800"/>
            <a:ext cx="805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- La biodisponibilidad es de un 100%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que no existe el proceso de absor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- El inicio del efecto es muy rápido. Son ú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emergenc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- Es posible tener gran exactitud en la d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- Es posible administrar grandes volúm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9920" y="4581360"/>
            <a:ext cx="63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Desventajas respecto a las na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5360" y="5013360"/>
            <a:ext cx="770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- No es posible administrar suspensiones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uciones oleosas. Solo soluciones acu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igeramente ácidas, alcalinas o irritan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9080" y="836640"/>
            <a:ext cx="456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1.-</a:t>
            </a:r>
            <a:r>
              <a:rPr b="1" lang="es-ES_tradnl" sz="3600" spc="-1" strike="noStrike" u="sng">
                <a:solidFill>
                  <a:srgbClr val="0000ff"/>
                </a:solidFill>
                <a:uFillTx/>
                <a:latin typeface="Times New Roman"/>
              </a:rPr>
              <a:t>Dosis única “Bolus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fecto es cor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1080" y="0"/>
            <a:ext cx="926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Hay dos tipos de administración endoveno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76120" y="2349360"/>
          <a:ext cx="6024600" cy="447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2349360"/>
                    <a:ext cx="602460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364000" y="1628640"/>
            <a:ext cx="35276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-4320" y="47520"/>
            <a:ext cx="91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2.- </a:t>
            </a:r>
            <a:r>
              <a:rPr b="1" lang="es-ES_tradnl" sz="3600" spc="-1" strike="noStrike" u="sng">
                <a:solidFill>
                  <a:srgbClr val="0000ff"/>
                </a:solidFill>
                <a:uFillTx/>
                <a:latin typeface="Times New Roman"/>
              </a:rPr>
              <a:t>Infusión endovenosa continua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ff"/>
                </a:solidFill>
                <a:latin typeface="Times New Roman"/>
              </a:rPr>
              <a:t>(Efecto lar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076720" y="2322360"/>
            <a:ext cx="4067280" cy="453564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0" y="2584440"/>
            <a:ext cx="5105160" cy="4274640"/>
            <a:chOff x="0" y="2584440"/>
            <a:chExt cx="5105160" cy="4274640"/>
          </a:xfrm>
        </p:grpSpPr>
        <p:sp>
          <p:nvSpPr>
            <p:cNvPr id="171" name=""/>
            <p:cNvSpPr/>
            <p:nvPr/>
          </p:nvSpPr>
          <p:spPr>
            <a:xfrm>
              <a:off x="838080" y="2584440"/>
              <a:ext cx="0" cy="369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080" y="6277680"/>
              <a:ext cx="4267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28836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[F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9880" y="627768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dí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7160" y="3981600"/>
              <a:ext cx="3733560" cy="2270880"/>
            </a:xfrm>
            <a:custGeom>
              <a:avLst/>
              <a:gdLst/>
              <a:ahLst/>
              <a:rect l="l" t="t" r="r" b="b"/>
              <a:pathLst>
                <a:path w="2352" h="1092">
                  <a:moveTo>
                    <a:pt x="0" y="1092"/>
                  </a:moveTo>
                  <a:cubicBezTo>
                    <a:pt x="38" y="726"/>
                    <a:pt x="76" y="360"/>
                    <a:pt x="468" y="180"/>
                  </a:cubicBezTo>
                  <a:cubicBezTo>
                    <a:pt x="860" y="0"/>
                    <a:pt x="2038" y="40"/>
                    <a:pt x="2352" y="12"/>
                  </a:cubicBezTo>
                </a:path>
              </a:pathLst>
            </a:custGeom>
            <a:noFill/>
            <a:ln w="88920">
              <a:solidFill>
                <a:srgbClr val="0066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8080" y="4081680"/>
              <a:ext cx="142884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340000" y="417024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Cee  o  Plat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4149720"/>
            <a:ext cx="1297080" cy="2087640"/>
          </a:xfrm>
          <a:custGeom>
            <a:avLst/>
            <a:gdLst/>
            <a:ahLst/>
            <a:rect l="l" t="t" r="r" b="b"/>
            <a:pathLst>
              <a:path w="2359" h="1230">
                <a:moveTo>
                  <a:pt x="0" y="0"/>
                </a:moveTo>
                <a:cubicBezTo>
                  <a:pt x="41" y="104"/>
                  <a:pt x="86" y="438"/>
                  <a:pt x="247" y="626"/>
                </a:cubicBezTo>
                <a:cubicBezTo>
                  <a:pt x="408" y="814"/>
                  <a:pt x="615" y="1030"/>
                  <a:pt x="967" y="1130"/>
                </a:cubicBezTo>
                <a:cubicBezTo>
                  <a:pt x="1319" y="1230"/>
                  <a:pt x="2069" y="1204"/>
                  <a:pt x="2359" y="1224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119700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efecto dura mientras dura la administración (días)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3760" y="765000"/>
            <a:ext cx="830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mite administrar por goteo grandes volúm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46160" y="21337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(flebocli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516720" y="2565360"/>
            <a:ext cx="71928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12200" y="53928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b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08720" y="3500280"/>
            <a:ext cx="32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usión conti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4360" y="-360"/>
            <a:ext cx="4427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ahoma"/>
              </a:rPr>
              <a:t>VÍA INTRAMU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http://www.infermeravirtual.com/es-es/problemas-de-salud/tratamientos/medicamentos/medicamentos/imagenes-medicamentos/imagenes/intramuscular.2.jpg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6551640" y="0"/>
            <a:ext cx="2592360" cy="2576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4653000"/>
            <a:ext cx="511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s posible administ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Soluciones acuosas, oleo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y microcris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836640"/>
            <a:ext cx="637236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gran irrigación muscular perm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bsorción más rápida que por vía subcutánea, oral y rec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781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traindicad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pacientes con shock, hemofilia o que están siendo tratados con anticoagul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932360" y="3767040"/>
            <a:ext cx="4211640" cy="30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525600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ahoma"/>
              </a:rPr>
              <a:t>VÍA SUBCUTÁNEA</a:t>
            </a: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462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ceptáculo: tejido celular subcután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 posible administr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luciones acuosas, oleosas, suspensiones, pellets y minibombas osmó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VENTAJ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absorción más rápida que por vía oral o rec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NCONVENIENT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o se pueden administrar fármacos irritantes pues producen necr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http://www.hghnews.us/images/subcutaneous/hgh-news-subcutaneous-injection-basic.jpg"/>
          <p:cNvPicPr/>
          <p:nvPr/>
        </p:nvPicPr>
        <p:blipFill>
          <a:blip r:embed="rId1"/>
          <a:stretch/>
        </p:blipFill>
        <p:spPr>
          <a:xfrm>
            <a:off x="7012080" y="0"/>
            <a:ext cx="213192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0866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PERIODO DE LATENCIA</a:t>
            </a:r>
            <a:br>
              <a:rPr sz="36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de menor a may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ndoven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Inhalatoria – Subling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tramu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bcutá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43920"/>
            <a:ext cx="906768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FORMAS   FARMACÉUTICAS  SÓLI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195200"/>
            <a:ext cx="327672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abletas o comprim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rag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áps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si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Óv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51280" y="1197000"/>
            <a:ext cx="208908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http://www.mipediatra.com/imagenes/supositorio4.jpg"/>
          <p:cNvPicPr/>
          <p:nvPr/>
        </p:nvPicPr>
        <p:blipFill>
          <a:blip r:embed="rId2"/>
          <a:stretch/>
        </p:blipFill>
        <p:spPr>
          <a:xfrm>
            <a:off x="6443640" y="3716280"/>
            <a:ext cx="2459160" cy="2492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227640" y="981000"/>
            <a:ext cx="2916360" cy="2183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780000" y="4076640"/>
            <a:ext cx="2519280" cy="18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9200" y="-27000"/>
            <a:ext cx="8067600" cy="8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VÍAS ADMINISTRACIÓN LO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93440" cy="2305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990099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TRATECAL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espacio subaracnoide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Ejm Baclofeno intratecal en tratamiento espasticidad seve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Es para efecto LOCAL. La eficacia terapéutica depende directamente de la dosis y no de la farmacociné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3789360"/>
            <a:ext cx="8767800" cy="19954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990000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tra Articular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ápsula articu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Comic Sans MS"/>
              </a:rPr>
              <a:t>Ejm: inyección corticoides. Es para tener efecto lo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Comic Sans MS"/>
              </a:rPr>
              <a:t>La eficacia terapéutica depende directamente de la dosis y no de la farmacocinética.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259920"/>
            <a:ext cx="899172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FORMAS FARMACÉUTICAS SEMISÓL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MISÓL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m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http://img.webmd.com/dtmcms/live/webmd/consumer_assets/site_images/articles/health_tools/winter_skin_hazards_slideshow/getty_rf_photo_of_hands_holding_face_cream.jpg"/>
          <p:cNvPicPr/>
          <p:nvPr/>
        </p:nvPicPr>
        <p:blipFill>
          <a:blip r:embed="rId1"/>
          <a:stretch/>
        </p:blipFill>
        <p:spPr>
          <a:xfrm>
            <a:off x="3564000" y="2349360"/>
            <a:ext cx="5199120" cy="35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ORMAS   FARMACÉUTICAS LIQU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86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Soluciones acuosas: colirios,  et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spen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Jara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oluciones ole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98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mulsiones (aceite/agu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oluciones alcohólicas (tintu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http://www.pharmacy.cuhk.edu.hk/ampoule/en/about/ampoule.jpg"/>
          <p:cNvPicPr/>
          <p:nvPr/>
        </p:nvPicPr>
        <p:blipFill>
          <a:blip r:embed="rId1"/>
          <a:stretch/>
        </p:blipFill>
        <p:spPr>
          <a:xfrm>
            <a:off x="6156360" y="1268280"/>
            <a:ext cx="2987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ahoma"/>
              </a:rPr>
              <a:t>FORMAS   FARMACÉUTIC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3284280"/>
            <a:ext cx="4787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0" indent="-792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Comic Sans MS"/>
              </a:rPr>
              <a:t>O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00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ar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00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stemas transdérmicos (ST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00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iposoma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vesículas muy pequeñ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http://www.educa.madrid.org/web/cc.nsdelasabiduria.madrid/Ejercicios/2b/Biologia/Lipidos/figuras_lipidos/liposoma.jpg"/>
          <p:cNvPicPr/>
          <p:nvPr/>
        </p:nvPicPr>
        <p:blipFill>
          <a:blip r:embed="rId1"/>
          <a:stretch/>
        </p:blipFill>
        <p:spPr>
          <a:xfrm>
            <a:off x="7162920" y="5292720"/>
            <a:ext cx="1981080" cy="1565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4680" y="836640"/>
            <a:ext cx="24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ha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eros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700360" y="620640"/>
            <a:ext cx="2808360" cy="2664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http://diario.iol.pt/multimedia/oratvi/multimedia/imagem/id/12792235/235"/>
          <p:cNvPicPr/>
          <p:nvPr/>
        </p:nvPicPr>
        <p:blipFill>
          <a:blip r:embed="rId3"/>
          <a:stretch/>
        </p:blipFill>
        <p:spPr>
          <a:xfrm>
            <a:off x="6516720" y="3213000"/>
            <a:ext cx="2238480" cy="183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788000" y="6021360"/>
            <a:ext cx="230508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1640" y="4292640"/>
            <a:ext cx="230508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76720" y="4581360"/>
            <a:ext cx="122400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720" y="5734080"/>
            <a:ext cx="23036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240" y="1125360"/>
            <a:ext cx="8915400" cy="573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23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800" spc="-1" strike="noStrike">
                <a:solidFill>
                  <a:srgbClr val="3366ff"/>
                </a:solidFill>
                <a:latin typeface="Times New Roman"/>
              </a:rPr>
              <a:t>VÍAS NATURA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66ff"/>
                </a:solidFill>
                <a:latin typeface="Times New Roman"/>
              </a:rPr>
              <a:t>(fácil acce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- vía oral                         4- pulmo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- vía rectal                      5- p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- vía subling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ff"/>
                </a:solidFill>
                <a:latin typeface="Times New Roman"/>
              </a:rPr>
              <a:t>VÍAS“PARENTERALES” o ARTIF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ía endoven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- vía subcutá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- Vía intramu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5040" y="112680"/>
            <a:ext cx="77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lasificación de las Vías de Adminis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1640" y="43920"/>
            <a:ext cx="7086600" cy="7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66ff"/>
                </a:solidFill>
                <a:latin typeface="Tahoma"/>
              </a:rPr>
              <a:t>Objetivo al elegir una vía</a:t>
            </a:r>
            <a:r>
              <a:rPr b="1" lang="es-ES_tradnl" sz="36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532720" cy="194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954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vía elegida debe permitir que el fármaco alcance </a:t>
            </a:r>
            <a:r>
              <a:rPr b="1" lang="es-ES_tradnl" sz="3200" spc="-1" strike="noStrike">
                <a:solidFill>
                  <a:srgbClr val="3366ff"/>
                </a:solidFill>
                <a:latin typeface="Arial"/>
              </a:rPr>
              <a:t>una concentración suficiente en el órgano blanc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ara producir un efecto farmacológ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2852640"/>
            <a:ext cx="576000" cy="792360"/>
          </a:xfrm>
          <a:custGeom>
            <a:avLst/>
            <a:gdLst>
              <a:gd name="textAreaLeft" fmla="*/ 77040 w 576000"/>
              <a:gd name="textAreaRight" fmla="*/ 498960 w 57600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58920" y="3357720"/>
            <a:ext cx="7885080" cy="32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ff"/>
                </a:solidFill>
                <a:latin typeface="Comic Sans MS"/>
              </a:rPr>
              <a:t>Factores que influyen la elección de una vía de administración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.-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ado del pa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.-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.-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opiedades físico-químicas del fárma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4.-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ormas farmacéuticas dispon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619280" y="1679400"/>
            <a:ext cx="5832360" cy="2471400"/>
          </a:xfrm>
          <a:prstGeom prst="rect">
            <a:avLst/>
          </a:prstGeom>
          <a:noFill/>
          <a:ln w="1396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00"/>
                </a:solidFill>
                <a:latin typeface="Tahoma"/>
              </a:rPr>
              <a:t>VÍAS NATURA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4:42:42Z</dcterms:created>
  <dc:creator>Usuario</dc:creator>
  <dc:description/>
  <dc:language>en-US</dc:language>
  <cp:lastModifiedBy>Facultad de Medicina</cp:lastModifiedBy>
  <dcterms:modified xsi:type="dcterms:W3CDTF">2010-08-03T16:08:03Z</dcterms:modified>
  <cp:revision>23</cp:revision>
  <dc:subject/>
  <dc:title>VíAS DE  ADMINISTRACIÓN  DE FÁRMACOS</dc:title>
</cp:coreProperties>
</file>