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12.wmf" ContentType="image/x-wmf"/>
  <Override PartName="/ppt/media/image4.png" ContentType="image/png"/>
  <Override PartName="/ppt/media/image1.gif" ContentType="image/gif"/>
  <Override PartName="/ppt/media/image11.jpeg" ContentType="image/jpeg"/>
  <Override PartName="/ppt/media/image8.png" ContentType="image/png"/>
  <Override PartName="/ppt/media/image5.gif" ContentType="image/gif"/>
  <Override PartName="/ppt/media/image7.gif" ContentType="image/gif"/>
  <Override PartName="/ppt/media/image6.gif" ContentType="image/gif"/>
  <Override PartName="/ppt/media/image3.jpeg" ContentType="image/jpeg"/>
  <Override PartName="/ppt/media/image15.png" ContentType="image/png"/>
  <Override PartName="/ppt/media/image2.gif" ContentType="image/gif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9.jpeg" ContentType="image/jpeg"/>
  <Override PartName="/ppt/media/image10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F30A-8751-41A3-8F61-63F476213E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2AD8-FB1B-45EA-97B9-0F6FCC5B20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30C-63A6-4B5F-902D-0A3A6B06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531-5E5A-40D9-A465-03A1DE30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712-1ACF-480B-A2AB-280E8590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9E3-C5B9-45D8-A2BE-8A3F03ED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287-00C1-41E9-B927-C132AFDB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53A-64F7-4C05-974C-13B761FF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6A1-BDDA-4B27-845F-92E58F26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62A-6402-4C5A-B811-532FDCDD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B23-E6F8-411F-A0C7-202AC0F2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2BF-99DB-4B7A-8F2B-EF2CF2BC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4BF-8876-4E04-80A7-B17A504A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9E8-AFDC-414E-B6D7-0975CC35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71C9-9448-4B5F-AD99-1499BFB29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http://www.dvbiology.org/biologyweb/fluidmem.gif"/>
          <p:cNvPicPr/>
          <p:nvPr/>
        </p:nvPicPr>
        <p:blipFill>
          <a:blip r:embed="rId1"/>
          <a:stretch/>
        </p:blipFill>
        <p:spPr>
          <a:xfrm>
            <a:off x="250920" y="157176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08200" y="498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 que un F tenga una buena absorció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ción, biotransformación y excreción debe ser capaz de atravesar las membranas biológ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34960" y="2637000"/>
            <a:ext cx="651888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ahoma"/>
              </a:rPr>
              <a:t>ABSORCIÓN D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ahoma"/>
              </a:rPr>
              <a:t>FÁRMAC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2060640"/>
            <a:ext cx="7489800" cy="3672000"/>
          </a:xfrm>
          <a:prstGeom prst="rect">
            <a:avLst/>
          </a:prstGeom>
          <a:noFill/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3480" y="404640"/>
            <a:ext cx="617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IMER PROCESO DE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ARMACOCIN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¿QUE ES LA ABSOR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27480" y="3594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635280" y="5373720"/>
            <a:ext cx="3457800" cy="71280"/>
          </a:xfrm>
          <a:prstGeom prst="line">
            <a:avLst/>
          </a:prstGeom>
          <a:ln w="139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465300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Absor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2421000"/>
            <a:ext cx="2050920" cy="4437000"/>
          </a:xfrm>
          <a:prstGeom prst="can">
            <a:avLst>
              <a:gd name="adj" fmla="val 25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97320" y="3476520"/>
            <a:ext cx="22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irc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http://2.bp.blogspot.com/_xheV5B5D4eo/SYv6KaFnXdI/AAAAAAAAAAM/oKmz9jzlr9U/s400/252px-Intestino.svg"/>
          <p:cNvPicPr/>
          <p:nvPr/>
        </p:nvPicPr>
        <p:blipFill>
          <a:blip r:embed="rId1"/>
          <a:stretch/>
        </p:blipFill>
        <p:spPr>
          <a:xfrm>
            <a:off x="755640" y="4352760"/>
            <a:ext cx="2808360" cy="2505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http://taiwanease.com/art/pill-article.jpg"/>
          <p:cNvPicPr/>
          <p:nvPr/>
        </p:nvPicPr>
        <p:blipFill>
          <a:blip r:embed="rId2"/>
          <a:stretch/>
        </p:blipFill>
        <p:spPr>
          <a:xfrm>
            <a:off x="324000" y="2349360"/>
            <a:ext cx="3600360" cy="20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7093080" y="4797360"/>
          <a:ext cx="2200320" cy="158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3080" y="4797360"/>
                    <a:ext cx="220032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010680" y="5013360"/>
            <a:ext cx="59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 el paso del fármaco desde la vía de administración hasta la circulación sisté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7770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ARÁMETROS IMPORTANTE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N LA ABSORC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6840" y="2781360"/>
            <a:ext cx="806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1.- VELOCIDAD DE ABSOR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2.- CANTIDAD DE F ABSOR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0920" y="0"/>
            <a:ext cx="4932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Velocidad absor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008080"/>
            <a:ext cx="8999640" cy="4734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2160" y="1557360"/>
            <a:ext cx="695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 refleja pendiente fase ascenden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63240" y="74916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000"/>
                </a:solidFill>
                <a:latin typeface="Arial"/>
              </a:rPr>
              <a:t>Veloc. Absorción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4520" y="54936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 má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 má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79640" y="0"/>
            <a:ext cx="946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Consecuencias Clínicas de la velocidad de absor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819000"/>
            <a:ext cx="91440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83280" y="5229360"/>
            <a:ext cx="216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6880" y="260280"/>
            <a:ext cx="90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actores que determinan la velocidad de absor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0960" y="1484280"/>
            <a:ext cx="81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.- FACTORES PROPIOS DEL FÁRM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160" y="3281400"/>
            <a:ext cx="25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 Dosis d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320" y="4071960"/>
            <a:ext cx="35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Solubilidad del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75580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yor velocidad de absor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5080" y="3429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sis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48560" y="419580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ármacos muy liposolu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3645000"/>
            <a:ext cx="352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73080" y="260280"/>
            <a:ext cx="5005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-Grado de ionización del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960" y="90792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Una parte de la dosis de F se ioniza al disol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0120" y="5734080"/>
            <a:ext cx="82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olo se absorbe la parte no ionizada de la 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8760" y="1609560"/>
            <a:ext cx="828828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000" y="1125000"/>
            <a:ext cx="3961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85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no o más fár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5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xcipiente o vehícu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160" y="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4.- Forma-Farmacéutica (F-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3960" y="549360"/>
            <a:ext cx="37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sición de la F-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47880" y="220500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xcipiente (F-F sóli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205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hículo (F-F líqui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1657440" cy="1319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http://i.dailymail.co.uk/i/pix/2007/03_01/MedicineDM0603_400x480.jpg"/>
          <p:cNvPicPr/>
          <p:nvPr/>
        </p:nvPicPr>
        <p:blipFill>
          <a:blip r:embed="rId2"/>
          <a:stretch/>
        </p:blipFill>
        <p:spPr>
          <a:xfrm>
            <a:off x="5651640" y="2708280"/>
            <a:ext cx="1631880" cy="1339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502160"/>
            <a:ext cx="889308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ff"/>
                </a:solidFill>
                <a:latin typeface="Times New Roman"/>
              </a:rPr>
              <a:t>Excipiente o vehículo es una sustancia: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 que 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concentraciones presentes en la F-F es in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egura estabilidad, biodisponibilidad, aceptabilidad 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ilidad de administración del fárma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a forma o consistencia adecuada a la F-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3240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12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1. </a:t>
            </a:r>
            <a:r>
              <a:rPr b="1" lang="en-US" sz="3200" spc="-1" strike="noStrike" u="sng">
                <a:solidFill>
                  <a:srgbClr val="3366ff"/>
                </a:solidFill>
                <a:uFillTx/>
                <a:latin typeface="Comic Sans MS"/>
              </a:rPr>
              <a:t>Disgre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005360"/>
            <a:ext cx="4392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Comic Sans MS"/>
              </a:rPr>
              <a:t>3. </a:t>
            </a:r>
            <a:r>
              <a:rPr b="1" lang="en-US" sz="3600" spc="-1" strike="noStrike" u="sng">
                <a:solidFill>
                  <a:srgbClr val="3366ff"/>
                </a:solidFill>
                <a:uFillTx/>
                <a:latin typeface="Comic Sans MS"/>
              </a:rPr>
              <a:t>Disolución del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805360"/>
            <a:ext cx="54291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 algn="just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Comic Sans MS"/>
              </a:rPr>
              <a:t>Absor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6720" y="1484280"/>
            <a:ext cx="1368360" cy="217440"/>
          </a:xfrm>
          <a:prstGeom prst="rightArrow">
            <a:avLst>
              <a:gd name="adj1" fmla="val 50000"/>
              <a:gd name="adj2" fmla="val 157326"/>
            </a:avLst>
          </a:prstGeom>
          <a:solidFill>
            <a:srgbClr val="ffccff"/>
          </a:solidFill>
          <a:ln w="47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77080" y="1125360"/>
            <a:ext cx="1254240" cy="995400"/>
            <a:chOff x="6877080" y="1125360"/>
            <a:chExt cx="1254240" cy="995400"/>
          </a:xfrm>
        </p:grpSpPr>
        <p:sp>
          <p:nvSpPr>
            <p:cNvPr id="140" name=""/>
            <p:cNvSpPr/>
            <p:nvPr/>
          </p:nvSpPr>
          <p:spPr>
            <a:xfrm>
              <a:off x="7216920" y="1164960"/>
              <a:ext cx="152280" cy="192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192240"/>
                <a:gd name="textAreaBottom" fmla="*/ 185040 h 192240"/>
              </a:gdLst>
              <a:ahLst/>
              <a:rect l="textAreaLeft" t="textAreaTop" r="textAreaRight" b="textAreaBottom"/>
              <a:pathLst>
                <a:path w="21600" h="27255">
                  <a:moveTo>
                    <a:pt x="3600" y="0"/>
                  </a:moveTo>
                  <a:arcTo wR="3600" hR="3600" stAng="16200000" swAng="-5400000"/>
                  <a:lnTo>
                    <a:pt x="0" y="23655"/>
                  </a:lnTo>
                  <a:arcTo wR="3600" hR="3600" stAng="10800000" swAng="-5400000"/>
                  <a:lnTo>
                    <a:pt x="18000" y="272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29600" y="1892160"/>
              <a:ext cx="304560" cy="228600"/>
            </a:xfrm>
            <a:prstGeom prst="octagon">
              <a:avLst>
                <a:gd name="adj" fmla="val 29287"/>
              </a:avLst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61400" y="1317240"/>
              <a:ext cx="169920" cy="32724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29600" y="1644480"/>
              <a:ext cx="531720" cy="153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7080" y="1239480"/>
              <a:ext cx="225360" cy="154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69200" y="1317240"/>
              <a:ext cx="152280" cy="192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192240"/>
                <a:gd name="textAreaBottom" fmla="*/ 185040 h 192240"/>
              </a:gdLst>
              <a:ahLst/>
              <a:rect l="textAreaLeft" t="textAreaTop" r="textAreaRight" b="textAreaBottom"/>
              <a:pathLst>
                <a:path w="21600" h="27255">
                  <a:moveTo>
                    <a:pt x="3600" y="0"/>
                  </a:moveTo>
                  <a:arcTo wR="3600" hR="3600" stAng="16200000" swAng="-5400000"/>
                  <a:lnTo>
                    <a:pt x="0" y="23655"/>
                  </a:lnTo>
                  <a:arcTo wR="3600" hR="3600" stAng="10800000" swAng="-5400000"/>
                  <a:lnTo>
                    <a:pt x="18000" y="272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61320" y="1125360"/>
              <a:ext cx="152280" cy="19188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191880"/>
                <a:gd name="textAreaBottom" fmla="*/ 184680 h 191880"/>
              </a:gdLst>
              <a:ahLst/>
              <a:rect l="textAreaLeft" t="textAreaTop" r="textAreaRight" b="textAreaBottom"/>
              <a:pathLst>
                <a:path w="21600" h="27204">
                  <a:moveTo>
                    <a:pt x="3600" y="0"/>
                  </a:moveTo>
                  <a:arcTo wR="3600" hR="3600" stAng="16200000" swAng="-5400000"/>
                  <a:lnTo>
                    <a:pt x="0" y="23604"/>
                  </a:lnTo>
                  <a:arcTo wR="3600" hR="3600" stAng="10800000" swAng="-5400000"/>
                  <a:lnTo>
                    <a:pt x="18000" y="272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77080" y="1491840"/>
              <a:ext cx="339840" cy="30492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74120" y="1190160"/>
              <a:ext cx="187200" cy="25272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50920" y="46594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3600" spc="-1" strike="noStrike" u="sng">
                <a:solidFill>
                  <a:srgbClr val="3366ff"/>
                </a:solidFill>
                <a:uFillTx/>
                <a:latin typeface="Comic Sans MS"/>
              </a:rPr>
              <a:t>en la via de administ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40" y="260280"/>
            <a:ext cx="91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tapas que sufre la F-F en la vía de Admini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30160" y="3429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9440" y="2276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61800" y="37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3240" y="21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8252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637000"/>
            <a:ext cx="309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Comic Sans MS"/>
              </a:rPr>
              <a:t>2. </a:t>
            </a:r>
            <a:r>
              <a:rPr b="1" lang="en-US" sz="3600" spc="-1" strike="noStrike" u="sng">
                <a:solidFill>
                  <a:srgbClr val="3366ff"/>
                </a:solidFill>
                <a:uFillTx/>
                <a:latin typeface="Comic Sans MS"/>
              </a:rPr>
              <a:t>Libe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http://wunaladreaming.files.wordpress.com/2006/10/aspirina.jpg"/>
          <p:cNvPicPr/>
          <p:nvPr/>
        </p:nvPicPr>
        <p:blipFill>
          <a:blip r:embed="rId1"/>
          <a:stretch/>
        </p:blipFill>
        <p:spPr>
          <a:xfrm>
            <a:off x="3564000" y="907920"/>
            <a:ext cx="1368360" cy="135576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3492360" y="2565360"/>
            <a:ext cx="1254240" cy="995400"/>
            <a:chOff x="3492360" y="2565360"/>
            <a:chExt cx="1254240" cy="995400"/>
          </a:xfrm>
        </p:grpSpPr>
        <p:sp>
          <p:nvSpPr>
            <p:cNvPr id="159" name=""/>
            <p:cNvSpPr/>
            <p:nvPr/>
          </p:nvSpPr>
          <p:spPr>
            <a:xfrm>
              <a:off x="3832200" y="2604960"/>
              <a:ext cx="152280" cy="192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192240"/>
                <a:gd name="textAreaBottom" fmla="*/ 185040 h 192240"/>
              </a:gdLst>
              <a:ahLst/>
              <a:rect l="textAreaLeft" t="textAreaTop" r="textAreaRight" b="textAreaBottom"/>
              <a:pathLst>
                <a:path w="21600" h="27255">
                  <a:moveTo>
                    <a:pt x="3600" y="0"/>
                  </a:moveTo>
                  <a:arcTo wR="3600" hR="3600" stAng="16200000" swAng="-5400000"/>
                  <a:lnTo>
                    <a:pt x="0" y="23655"/>
                  </a:lnTo>
                  <a:arcTo wR="3600" hR="3600" stAng="10800000" swAng="-5400000"/>
                  <a:lnTo>
                    <a:pt x="18000" y="272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44880" y="3332160"/>
              <a:ext cx="304560" cy="228600"/>
            </a:xfrm>
            <a:prstGeom prst="octagon">
              <a:avLst>
                <a:gd name="adj" fmla="val 29287"/>
              </a:avLst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6680" y="2757240"/>
              <a:ext cx="169920" cy="32724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44880" y="3084480"/>
              <a:ext cx="531720" cy="153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92360" y="2679480"/>
              <a:ext cx="225360" cy="154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84480" y="2757240"/>
              <a:ext cx="152280" cy="19224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192240"/>
                <a:gd name="textAreaBottom" fmla="*/ 185040 h 192240"/>
              </a:gdLst>
              <a:ahLst/>
              <a:rect l="textAreaLeft" t="textAreaTop" r="textAreaRight" b="textAreaBottom"/>
              <a:pathLst>
                <a:path w="21600" h="27255">
                  <a:moveTo>
                    <a:pt x="3600" y="0"/>
                  </a:moveTo>
                  <a:arcTo wR="3600" hR="3600" stAng="16200000" swAng="-5400000"/>
                  <a:lnTo>
                    <a:pt x="0" y="23655"/>
                  </a:lnTo>
                  <a:arcTo wR="3600" hR="3600" stAng="10800000" swAng="-5400000"/>
                  <a:lnTo>
                    <a:pt x="18000" y="272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76600" y="2565360"/>
              <a:ext cx="152280" cy="19188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191880"/>
                <a:gd name="textAreaBottom" fmla="*/ 184680 h 191880"/>
              </a:gdLst>
              <a:ahLst/>
              <a:rect l="textAreaLeft" t="textAreaTop" r="textAreaRight" b="textAreaBottom"/>
              <a:pathLst>
                <a:path w="21600" h="27204">
                  <a:moveTo>
                    <a:pt x="3600" y="0"/>
                  </a:moveTo>
                  <a:arcTo wR="3600" hR="3600" stAng="16200000" swAng="-5400000"/>
                  <a:lnTo>
                    <a:pt x="0" y="23604"/>
                  </a:lnTo>
                  <a:arcTo wR="3600" hR="3600" stAng="10800000" swAng="-5400000"/>
                  <a:lnTo>
                    <a:pt x="18000" y="272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2360" y="2931840"/>
              <a:ext cx="339840" cy="30492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89400" y="2630160"/>
              <a:ext cx="187200" cy="252720"/>
            </a:xfrm>
            <a:prstGeom prst="ellipse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003640" y="2852640"/>
            <a:ext cx="1368720" cy="217440"/>
          </a:xfrm>
          <a:prstGeom prst="rightArrow">
            <a:avLst>
              <a:gd name="adj1" fmla="val 50000"/>
              <a:gd name="adj2" fmla="val 157368"/>
            </a:avLst>
          </a:prstGeom>
          <a:solidFill>
            <a:srgbClr val="ffccff"/>
          </a:solidFill>
          <a:ln w="47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2708280"/>
            <a:ext cx="152280" cy="19224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192240"/>
              <a:gd name="textAreaBottom" fmla="*/ 185040 h 192240"/>
            </a:gdLst>
            <a:ahLst/>
            <a:rect l="textAreaLeft" t="textAreaTop" r="textAreaRight" b="textAreaBottom"/>
            <a:pathLst>
              <a:path w="21600" h="27255">
                <a:moveTo>
                  <a:pt x="3600" y="0"/>
                </a:moveTo>
                <a:arcTo wR="3600" hR="3600" stAng="16200000" swAng="-5400000"/>
                <a:lnTo>
                  <a:pt x="0" y="23655"/>
                </a:lnTo>
                <a:arcTo wR="3600" hR="3600" stAng="10800000" swAng="-5400000"/>
                <a:lnTo>
                  <a:pt x="18000" y="272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32720" y="3141720"/>
            <a:ext cx="304560" cy="228600"/>
          </a:xfrm>
          <a:prstGeom prst="octagon">
            <a:avLst>
              <a:gd name="adj" fmla="val 29287"/>
            </a:avLst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28000" y="2924280"/>
            <a:ext cx="531720" cy="153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8000" y="2463840"/>
            <a:ext cx="225720" cy="154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12000" y="2565360"/>
            <a:ext cx="152640" cy="19224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192240"/>
              <a:gd name="textAreaBottom" fmla="*/ 185040 h 192240"/>
            </a:gdLst>
            <a:ahLst/>
            <a:rect l="textAreaLeft" t="textAreaTop" r="textAreaRight" b="textAreaBottom"/>
            <a:pathLst>
              <a:path w="21600" h="27191">
                <a:moveTo>
                  <a:pt x="3600" y="0"/>
                </a:moveTo>
                <a:arcTo wR="3600" hR="3600" stAng="16200000" swAng="-5400000"/>
                <a:lnTo>
                  <a:pt x="0" y="23591"/>
                </a:lnTo>
                <a:arcTo wR="3600" hR="3600" stAng="10800000" swAng="-5400000"/>
                <a:lnTo>
                  <a:pt x="18000" y="27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80360" y="2781360"/>
            <a:ext cx="339480" cy="30492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2997360"/>
            <a:ext cx="0" cy="502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64360" y="285264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306864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7080" y="3357720"/>
            <a:ext cx="0" cy="502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317080" y="249228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156000" y="2565360"/>
            <a:ext cx="4316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524720" y="234936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732720" y="278100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90160" y="2421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26880" y="2060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22160" y="3213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34880" y="364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6720" y="4941720"/>
            <a:ext cx="863640" cy="217800"/>
          </a:xfrm>
          <a:prstGeom prst="rightArrow">
            <a:avLst>
              <a:gd name="adj1" fmla="val 50000"/>
              <a:gd name="adj2" fmla="val 99132"/>
            </a:avLst>
          </a:prstGeom>
          <a:solidFill>
            <a:srgbClr val="ffccff"/>
          </a:solidFill>
          <a:ln w="475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http://2.bp.blogspot.com/_J7ai_0wKw08/RxvJAeXLA-I/AAAAAAAACG4/jUM030358n4/s320/AGUA.jpg"/>
          <p:cNvPicPr/>
          <p:nvPr/>
        </p:nvPicPr>
        <p:blipFill>
          <a:blip r:embed="rId2"/>
          <a:stretch/>
        </p:blipFill>
        <p:spPr>
          <a:xfrm>
            <a:off x="7480440" y="4149720"/>
            <a:ext cx="1663560" cy="1790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04000" y="836640"/>
            <a:ext cx="1346400" cy="1274760"/>
          </a:xfrm>
          <a:prstGeom prst="ellipse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2276640"/>
            <a:ext cx="1346040" cy="1274760"/>
          </a:xfrm>
          <a:prstGeom prst="ellipse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84680" y="404640"/>
            <a:ext cx="503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dad de Absorción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de mayor a meno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1413000"/>
            <a:ext cx="326052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rab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n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áps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ble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g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52640"/>
            <a:ext cx="9144000" cy="4606920"/>
          </a:xfrm>
          <a:prstGeom prst="rect">
            <a:avLst/>
          </a:prstGeom>
          <a:noFill/>
          <a:ln w="139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Verdana"/>
              </a:rPr>
              <a:t>MECANISMOS DE PASO  DE FÁRMACOS A TRAVÉS  DE MEMBRANAS BIOLÓG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6160" y="189000"/>
            <a:ext cx="86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.-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 FACTORES PROPIOS DE LA VIA DE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1440" y="1484280"/>
            <a:ext cx="873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uperficie de absorción de la via de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Irrigación sanguínea del sitio de 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- pH en la vía de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637000"/>
            <a:ext cx="8972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 define como el porcentaje o la fracción de la dosis de fármaco que administrada por cualquier vía logra llegar a la circulación sistémica en forma inalter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8600" y="260280"/>
            <a:ext cx="75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Verdana"/>
              </a:rPr>
              <a:t>CANTIDAD DE FÁRMACO ABSORB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6000" y="907920"/>
            <a:ext cx="71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arámetro que la mide se deno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5240" y="1628640"/>
            <a:ext cx="52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BIODISPONIBI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lang="en-US" sz="3000" spc="-1" strike="noStrike" u="sng">
                <a:solidFill>
                  <a:srgbClr val="0066ff"/>
                </a:solidFill>
                <a:uFillTx/>
                <a:latin typeface="Verdana"/>
              </a:rPr>
              <a:t>La cantidad total de Fármaco absorbida se refleja en el área bajo la curva (ABC)</a:t>
            </a:r>
            <a:r>
              <a:rPr b="1" lang="en-US" sz="3000" spc="-1" strike="noStrike">
                <a:solidFill>
                  <a:srgbClr val="0066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356000" cy="4228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492800" y="2133720"/>
            <a:ext cx="4651200" cy="4495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59560" y="119700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olo por vía endovenosa se absorbe toda la 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0920" y="0"/>
            <a:ext cx="889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LCULO BIODISPONIBILIDAD ABSOLUTA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 UN F ADMINISTRADO VÍA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69840" y="1268280"/>
            <a:ext cx="7159680" cy="1229400"/>
            <a:chOff x="969840" y="1268280"/>
            <a:chExt cx="7159680" cy="1229400"/>
          </a:xfrm>
        </p:grpSpPr>
        <p:sp>
          <p:nvSpPr>
            <p:cNvPr id="205" name=""/>
            <p:cNvSpPr/>
            <p:nvPr/>
          </p:nvSpPr>
          <p:spPr>
            <a:xfrm>
              <a:off x="3348000" y="1916280"/>
              <a:ext cx="251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74920" y="1268280"/>
              <a:ext cx="303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BC ORAL F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Z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47640" y="1916280"/>
              <a:ext cx="25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ABC E.V. F </a:t>
              </a:r>
              <a:r>
                <a:rPr b="1" lang="es-ES_tradnl" sz="3200" spc="-1" strike="noStrike">
                  <a:solidFill>
                    <a:srgbClr val="0000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69840" y="1555920"/>
              <a:ext cx="248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Biodisp. (F)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65280" y="1562040"/>
              <a:ext cx="206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 100= 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6978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69560" y="-100080"/>
            <a:ext cx="51231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Biodisponibilidad 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8893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tamicina     0%                Imipramina  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rfina            20%               Aspirina       6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picilina        6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azepam     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429000"/>
            <a:ext cx="961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.- Falta de solubilidad del Fárm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2.- Formación de complejos con alimentos 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otros fárma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3.- Destrucción por pH ácido estomacal, enzi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ntestinales o bacter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4.- Gran primer paso hep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4920" y="2901960"/>
            <a:ext cx="902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ff"/>
                </a:solidFill>
                <a:uFillTx/>
                <a:latin typeface="Times New Roman"/>
              </a:rPr>
              <a:t>Causas de diferencias en la Biodisponibilidad de los 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142120" cy="5084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6520" y="620640"/>
            <a:ext cx="44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mer paso hep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Por cambio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Motilidad gastrointes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ora intes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 de enzimas biotransformad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ula de la forma-farmacéutica (F-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1960" y="254160"/>
            <a:ext cx="77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Por qué la biodisponibilidad de un mis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ármaco puede cambiar a ve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0920" y="404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relación con la absorción 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la eficac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terapéutic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e una dosis de un fármaco 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ión 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4680" y="2789280"/>
            <a:ext cx="8892000" cy="1617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- La cantidad absor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- La velocidad con que se absor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11360" y="4530600"/>
          <a:ext cx="4749840" cy="18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1360" y="4530600"/>
                    <a:ext cx="474984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4140360" y="465300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bos Fcos se absorben en igual ca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o a diferent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02840" y="247680"/>
            <a:ext cx="446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BIOEQUIVA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0040" y="1125360"/>
            <a:ext cx="68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Arial"/>
              </a:rPr>
              <a:t>DOS F-F SON BIOEQUIVAL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80" y="20606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.- Cuando poseen el mismo fármaco, en la mi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osis y en igual Forma Farmacéu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00" y="3213000"/>
            <a:ext cx="92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.- Cuando administrados por la misma vía se ob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5200" y="3691080"/>
            <a:ext cx="8320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ff"/>
                </a:solidFill>
                <a:latin typeface="Arial"/>
              </a:rPr>
              <a:t>a.- Igual biodisponibilidad (cantidad absorbi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ff"/>
                </a:solidFill>
                <a:latin typeface="Arial"/>
              </a:rPr>
              <a:t>b.- Igual Cmáx y Tmáx (velocidad de absorció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98560" y="620640"/>
            <a:ext cx="39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EQUIVA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8480" y="2060640"/>
            <a:ext cx="782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s productos son bioequivalentes cu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presentan diferencias significativas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velocidad de absorción (igual Cmáx y tmá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i en la cantidad absorbida (ABC)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ul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5400000">
            <a:off x="5084280" y="3492360"/>
            <a:ext cx="3068640" cy="2799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62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El F atraviesa la membrana disolviéndose en la bicapa lipídica de la membr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09440" y="158760"/>
            <a:ext cx="910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1.-MECANISMO DE DIFUSIÓN SIMPLE O PA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(Mecanismo más importan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http://2.bp.blogspot.com/_oCXP3wyQN9w/SdjV-wSEwnI/AAAAAAAABd4/xe8yMv0yVhg/s400/Simple+diffusion+through+plasma+membrane.jpg"/>
          <p:cNvPicPr/>
          <p:nvPr/>
        </p:nvPicPr>
        <p:blipFill>
          <a:blip r:embed="rId2"/>
          <a:stretch/>
        </p:blipFill>
        <p:spPr>
          <a:xfrm>
            <a:off x="971640" y="3357720"/>
            <a:ext cx="4249800" cy="30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Arial"/>
              </a:rPr>
              <a:t>F-F A es bioequivalente con la F-F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988920" y="1716120"/>
            <a:ext cx="762336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24000" y="1271520"/>
            <a:ext cx="8280360" cy="5613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" y="27468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Arial"/>
              </a:rPr>
              <a:t>Estas dos F-F no son bioequival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33360" y="765000"/>
            <a:ext cx="79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ff"/>
                </a:solidFill>
                <a:latin typeface="Arial"/>
              </a:rPr>
              <a:t>La Bioequivalencia entre dos F-F depende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60" y="1916280"/>
            <a:ext cx="842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lidad del principio activo, de las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la F-F y del fabr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la solubilidad, disolución y permeabilidad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ármaco desde la F-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1480" y="220500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er un coeficiente de partición lípido/agua 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97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Coeficiente de Partición lípido/agu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lubilidad F en líp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(C.P.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lubilidad F en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00" y="260280"/>
            <a:ext cx="83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aracterísticas que debe tener el Fárma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ara pasar por difusión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4462560"/>
            <a:ext cx="5027040" cy="5508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n fármacos liposolu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82120" y="4508640"/>
            <a:ext cx="39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quellos sin carga elec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7840" y="1700280"/>
            <a:ext cx="34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- Ser Liposol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05120" y="5326200"/>
            <a:ext cx="5302800" cy="5508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n fármacos hidrosolu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81760" y="537372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quellos con carga elec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9220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300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92160" y="1125360"/>
            <a:ext cx="51688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- La difusión simple se hac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avor de una gradient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9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" y="2708280"/>
            <a:ext cx="42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- Mientras mayor es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so molecular del F m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ícil es la difu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3924360" cy="5877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110880" y="158760"/>
            <a:ext cx="910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1.-MECANISMO DE DIFUSIÓN SIMPLE O PA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9360" y="1197000"/>
            <a:ext cx="89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l F pasa a través de poros preformados que ex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 las membran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Comic Sans MS"/>
              </a:rPr>
              <a:t>Características: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Filtran los F hidrosolubles y de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eso molec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29840" y="260280"/>
            <a:ext cx="66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-MECANISMO DE FIL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http://www.goldiesroom.org/Multimedia/Bio_Images/06%20Transport/09%20Water%20going%20IN.gif"/>
          <p:cNvPicPr/>
          <p:nvPr/>
        </p:nvPicPr>
        <p:blipFill>
          <a:blip r:embed="rId1"/>
          <a:stretch/>
        </p:blipFill>
        <p:spPr>
          <a:xfrm>
            <a:off x="3581280" y="3068640"/>
            <a:ext cx="5562720" cy="3789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http://www.leavingbio.net/OSMOSIS%20AND%20DIFFUSION_files/image004.gif"/>
          <p:cNvPicPr/>
          <p:nvPr/>
        </p:nvPicPr>
        <p:blipFill>
          <a:blip r:embed="rId2"/>
          <a:stretch/>
        </p:blipFill>
        <p:spPr>
          <a:xfrm rot="10800000">
            <a:off x="250560" y="3011040"/>
            <a:ext cx="41050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7920" y="-54000"/>
            <a:ext cx="85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-MECANISMO DE TRANSPORTE 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http://www.goldiesroom.org/Multimedia/Bio_Images/06%20Transport/12%20Active%20Transport.gif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116240" y="1268280"/>
            <a:ext cx="5351760" cy="5589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0" y="765000"/>
            <a:ext cx="30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a00"/>
                </a:solidFill>
                <a:latin typeface="Arial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0720" y="1649520"/>
            <a:ext cx="26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- Es sat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1440" y="2276640"/>
            <a:ext cx="37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- Tiene especif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0720" y="3284640"/>
            <a:ext cx="38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- Se realiza en con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gradient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520" y="4869000"/>
            <a:ext cx="29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- Requier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19120" y="714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6920" y="47520"/>
            <a:ext cx="86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-MECANISMO DE DIFUSIÓN FACIL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836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os fármacos atraviesan la membrana medi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ransportadores. No se requiere 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http://click4biology.info/c4b/2/Pic2.4/fac-T.gif"/>
          <p:cNvPicPr/>
          <p:nvPr/>
        </p:nvPicPr>
        <p:blipFill>
          <a:blip r:embed="rId1"/>
          <a:stretch/>
        </p:blipFill>
        <p:spPr>
          <a:xfrm>
            <a:off x="2556000" y="1916280"/>
            <a:ext cx="3743280" cy="2531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48560" y="4653000"/>
            <a:ext cx="443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Comic Sans MS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.- No requiere 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2.-Es a favor de gra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http://student.ccbcmd.edu/~gkaiser/TOC/images/pinocyt.gif"/>
          <p:cNvPicPr/>
          <p:nvPr/>
        </p:nvPicPr>
        <p:blipFill>
          <a:blip r:embed="rId1"/>
          <a:stretch/>
        </p:blipFill>
        <p:spPr>
          <a:xfrm>
            <a:off x="1476360" y="1628640"/>
            <a:ext cx="5832360" cy="5316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410560" y="333360"/>
            <a:ext cx="368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5.- PINOC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rara vez se u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9:00:10Z</dcterms:created>
  <dc:creator>WinuE</dc:creator>
  <dc:description/>
  <dc:language>en-US</dc:language>
  <cp:lastModifiedBy>Facultad de Medicina</cp:lastModifiedBy>
  <dcterms:modified xsi:type="dcterms:W3CDTF">2010-08-03T15:18:30Z</dcterms:modified>
  <cp:revision>53</cp:revision>
  <dc:subject/>
  <dc:title>¿ Que es la Farmacología?</dc:title>
</cp:coreProperties>
</file>