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8.gif" ContentType="image/gif"/>
  <Override PartName="/ppt/media/image5.gif" ContentType="image/gif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DBB7-984D-4D73-8E2B-5740FE0CB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3956-DBCF-4F5C-A26E-6C2AB11F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72D1-B2A8-460F-BB42-F754451B4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A2BC-23A2-4A24-93AD-8C42BD509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3DA6F-780A-4AFF-87AB-CC06F38D4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7F5D5B-09F2-4437-87F4-2BE7B29B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2C61A3-410B-43CC-8476-E33DFC95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0AB00-8469-44C0-A814-E99FD537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5F6B2B-4E71-436C-8F8C-2B327A67F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72C25-42C4-42D1-9389-26467BA6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909BD-0B43-4389-BF6F-C74E2E5B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BDF1-FB28-457D-9811-5153DA227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159C2C-BC6F-4D24-B99E-B1058F14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191EB8-0739-4291-B529-C1EEF17C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475C87-B00E-4CF3-93C9-235AA04AC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283E0D-6693-454E-8396-6601665BF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358EB-BACE-4141-B921-7A39813D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2C1B-1F1E-4E24-8A5D-B1B4CB11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0C02-5400-43B4-AFB4-F3447147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E39A-3095-4A45-A8C7-1DB9539C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6331-42EF-47C9-9E7B-1D64C416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6C5E-2CEC-40F3-9D0D-E14A2FA4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C399-641D-4DE0-BA7F-F1D81FB8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4934-3F6E-444E-97B7-30BC8242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DF14-D890-4AAB-B4A0-E24E0984B9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FE7F-0F9F-4DF8-9117-0C4614EEB4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c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0099"/>
                </a:solidFill>
                <a:latin typeface="Verdana"/>
              </a:rPr>
              <a:t>FARMACOLOGÍ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115640" y="6092640"/>
            <a:ext cx="7272360" cy="64908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txBody>
          <a:bodyPr lIns="90000" rIns="90000" tIns="154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99"/>
                </a:solidFill>
                <a:latin typeface="Tahoma"/>
              </a:rPr>
              <a:t>KINESIOLOGÍA 3er año 2010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1908000" y="765000"/>
            <a:ext cx="540252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8200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1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23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312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23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LOS FÁRMACOS  PUEDE PRODUCIR EFECTO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3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23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    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31280" indent="-43128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323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66"/>
                </a:solidFill>
                <a:latin typeface="Times New Roman"/>
              </a:rPr>
              <a:t>Beneficiosos</a:t>
            </a: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 :</a:t>
            </a: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Fármaco o Medicament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43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323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31280" indent="-431280">
              <a:lnSpc>
                <a:spcPct val="100000"/>
              </a:lnSpc>
              <a:spcBef>
                <a:spcPts val="799"/>
              </a:spcBef>
              <a:buClr>
                <a:srgbClr val="003366"/>
              </a:buClr>
              <a:buSzPct val="120000"/>
              <a:buFont typeface="Wingdings" charset="2"/>
              <a:buChar char=""/>
              <a:tabLst>
                <a:tab algn="l" pos="323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66"/>
                </a:solidFill>
                <a:latin typeface="Times New Roman"/>
              </a:rPr>
              <a:t>Perjudiciales</a:t>
            </a: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:</a:t>
            </a: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4000" spc="-1" strike="noStrike">
                <a:solidFill>
                  <a:srgbClr val="0000ff"/>
                </a:solidFill>
                <a:latin typeface="Times New Roman"/>
              </a:rPr>
              <a:t>Veneno o Tóxico</a:t>
            </a: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43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3230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0920" y="1916280"/>
            <a:ext cx="8893080" cy="40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003366"/>
                </a:solidFill>
                <a:uFillTx/>
                <a:latin typeface="Times New Roman"/>
              </a:rPr>
              <a:t>A Dosis Terapéutic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Pueden producir</a:t>
            </a: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" sz="4000" spc="-1" strike="noStrike" u="sng">
                <a:solidFill>
                  <a:srgbClr val="0000ff"/>
                </a:solidFill>
                <a:uFillTx/>
                <a:latin typeface="Times New Roman"/>
              </a:rPr>
              <a:t>R</a:t>
            </a: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eacciones </a:t>
            </a:r>
            <a:r>
              <a:rPr b="1" lang="es-ES" sz="4000" spc="-1" strike="noStrike" u="sng">
                <a:solidFill>
                  <a:srgbClr val="0000ff"/>
                </a:solidFill>
                <a:uFillTx/>
                <a:latin typeface="Times New Roman"/>
              </a:rPr>
              <a:t>A</a:t>
            </a: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dversas a </a:t>
            </a:r>
            <a:r>
              <a:rPr b="1" lang="es-ES" sz="4000" spc="-1" strike="noStrike" u="sng">
                <a:solidFill>
                  <a:srgbClr val="0000ff"/>
                </a:solidFill>
                <a:uFillTx/>
                <a:latin typeface="Times New Roman"/>
              </a:rPr>
              <a:t>M</a:t>
            </a:r>
            <a:r>
              <a:rPr b="0" lang="es-ES" sz="4000" spc="-1" strike="noStrike">
                <a:solidFill>
                  <a:srgbClr val="003366"/>
                </a:solidFill>
                <a:latin typeface="Times New Roman"/>
              </a:rPr>
              <a:t>edicamentos</a:t>
            </a:r>
            <a:r>
              <a:rPr b="0" lang="es-E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40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s-ES" sz="4000" spc="-1" strike="noStrike" u="sng">
                <a:solidFill>
                  <a:srgbClr val="0000ff"/>
                </a:solidFill>
                <a:uFillTx/>
                <a:latin typeface="Times New Roman"/>
              </a:rPr>
              <a:t>RAM</a:t>
            </a:r>
            <a:r>
              <a:rPr b="0" lang="es-ES" sz="4000" spc="-1" strike="noStrike">
                <a:solidFill>
                  <a:srgbClr val="0000ff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1" lang="es-ES_tradnl" sz="3600" spc="-1" strike="noStrike" u="sng">
                <a:solidFill>
                  <a:srgbClr val="003366"/>
                </a:solidFill>
                <a:uFillTx/>
                <a:latin typeface="Times New Roman"/>
              </a:rPr>
              <a:t>Sobredosi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es-ES_tradnl" sz="4000" spc="-1" strike="noStrike">
                <a:solidFill>
                  <a:srgbClr val="003366"/>
                </a:solidFill>
                <a:latin typeface="Comic Sans MS"/>
              </a:rPr>
              <a:t>  </a:t>
            </a:r>
            <a:r>
              <a:rPr b="0" lang="es-ES_tradnl" sz="4000" spc="-1" strike="noStrike">
                <a:solidFill>
                  <a:srgbClr val="003366"/>
                </a:solidFill>
                <a:latin typeface="Times New Roman"/>
              </a:rPr>
              <a:t>Producen </a:t>
            </a:r>
            <a:r>
              <a:rPr b="1" lang="es-ES_tradnl" sz="4000" spc="-1" strike="noStrike" u="sng">
                <a:solidFill>
                  <a:srgbClr val="0000ff"/>
                </a:solidFill>
                <a:uFillTx/>
                <a:latin typeface="Times New Roman"/>
              </a:rPr>
              <a:t>Efectos Tóxic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8320" y="0"/>
            <a:ext cx="761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66"/>
                </a:solidFill>
                <a:latin typeface="Arial"/>
              </a:rPr>
              <a:t>¿PRODUCEN LOS FÁRMAC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66"/>
                </a:solidFill>
                <a:latin typeface="Arial"/>
              </a:rPr>
              <a:t>SOLO EFECTOS BENEFICIOSOS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27960" y="1006560"/>
            <a:ext cx="99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u="sng">
                <a:solidFill>
                  <a:srgbClr val="0066ff"/>
                </a:solidFill>
                <a:uFillTx/>
                <a:latin typeface="Verdana"/>
              </a:rPr>
              <a:t>N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89160" y="692280"/>
            <a:ext cx="307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66"/>
                </a:solidFill>
                <a:latin typeface="Verdana"/>
              </a:rPr>
              <a:t>CAPÍTULO 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8920" y="1989000"/>
            <a:ext cx="5757120" cy="35377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3366"/>
                </a:solidFill>
                <a:latin typeface="Verdana"/>
              </a:rPr>
              <a:t>FARMACOLOGÍA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3366"/>
                </a:solidFill>
                <a:latin typeface="Verdana"/>
              </a:rPr>
              <a:t>GENER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Verdana"/>
              </a:rPr>
              <a:t>(10 clases 1 seminari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83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3366"/>
                </a:solidFill>
                <a:uFillTx/>
                <a:latin typeface="Times New Roman"/>
              </a:rPr>
              <a:t>ÁREAS DE LA FARMACOLOGÍA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6922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ff"/>
                </a:solidFill>
                <a:latin typeface="Verdana"/>
              </a:rPr>
              <a:t>1.-LA FARMACOCINETICA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56000" y="2133720"/>
            <a:ext cx="4248000" cy="27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1.- Absor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2.- Distribu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Times New Roman"/>
              </a:rPr>
              <a:t>3.- Biotransformación       4.- Excreción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4508640"/>
            <a:ext cx="71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ff"/>
                </a:solidFill>
                <a:latin typeface="Verdana"/>
              </a:rPr>
              <a:t>2.-LA FARMACODINAMIA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1268280"/>
            <a:ext cx="882000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22440" indent="-622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Estudia la trayectoria del F en el organismo.                    Comprende 4 proces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5084640"/>
            <a:ext cx="9144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28560" indent="-62856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Estudia el mecanismo de acción mediante el cua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28560" indent="-62856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       </a:t>
            </a: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el F  produce su efecto en un órga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820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66"/>
                </a:solidFill>
                <a:latin typeface="Times New Roman"/>
              </a:rPr>
              <a:t>¿Como se llama el órgano donde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66"/>
                </a:solidFill>
                <a:latin typeface="Times New Roman"/>
              </a:rPr>
              <a:t>   </a:t>
            </a:r>
            <a:r>
              <a:rPr b="1" lang="es-ES_tradnl" sz="3600" spc="-1" strike="noStrike">
                <a:solidFill>
                  <a:srgbClr val="003366"/>
                </a:solidFill>
                <a:latin typeface="Times New Roman"/>
              </a:rPr>
              <a:t>el Fármaco produce su efecto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http://www.medgadget.com/archives/Beating_Heart_animation.gif"/>
          <p:cNvPicPr/>
          <p:nvPr/>
        </p:nvPicPr>
        <p:blipFill>
          <a:blip r:embed="rId1"/>
          <a:stretch/>
        </p:blipFill>
        <p:spPr>
          <a:xfrm>
            <a:off x="6899400" y="404640"/>
            <a:ext cx="2244600" cy="3027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26160" y="1252440"/>
            <a:ext cx="49294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Arial"/>
              </a:rPr>
              <a:t>ÓRGANO BLANCO O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Arial"/>
              </a:rPr>
              <a:t>SUSCEPTI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284640"/>
            <a:ext cx="914400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3366"/>
                </a:solidFill>
                <a:latin typeface="Arial"/>
              </a:rPr>
              <a:t>¿Qué determina que el efecto sea intenso o lev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7200" y="3789360"/>
            <a:ext cx="497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1.- La [F] que llega al órga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036920" y="1773360"/>
            <a:ext cx="2026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ffff00"/>
                </a:solidFill>
                <a:latin typeface="Verdana"/>
              </a:rPr>
              <a:t>Receptor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8640" y="4508640"/>
            <a:ext cx="58910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2.- El número de receptores un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al F [FR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445000"/>
            <a:ext cx="644364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3.- La capacidad del F de activ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s-ES_tradnl" sz="3200" spc="-1" strike="noStrike">
                <a:solidFill>
                  <a:srgbClr val="003366"/>
                </a:solidFill>
                <a:latin typeface="Times New Roman"/>
              </a:rPr>
              <a:t>al recep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7400" y="4869000"/>
            <a:ext cx="317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ff"/>
                </a:solidFill>
                <a:uFillTx/>
                <a:latin typeface="Times New Roman"/>
              </a:rPr>
              <a:t>FARMACODINAM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24360" y="4581360"/>
            <a:ext cx="505080" cy="1513080"/>
          </a:xfrm>
          <a:custGeom>
            <a:avLst/>
            <a:gdLst>
              <a:gd name="textAreaLeft" fmla="*/ 0 w 505080"/>
              <a:gd name="textAreaRight" fmla="*/ 182520 w 50508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85200" y="1292400"/>
            <a:ext cx="94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Verdana"/>
              </a:rPr>
              <a:t>[FR]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2936880"/>
            <a:ext cx="24382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66"/>
                </a:solidFill>
                <a:latin typeface="Times New Roman"/>
                <a:ea typeface="MS Gothic"/>
              </a:rPr>
              <a:t>     </a:t>
            </a:r>
            <a:r>
              <a:rPr b="1" lang="es-ES_tradnl" sz="3600" spc="-1" strike="noStrike">
                <a:solidFill>
                  <a:srgbClr val="003366"/>
                </a:solidFill>
                <a:latin typeface="Times New Roman"/>
                <a:ea typeface="MS Gothic"/>
              </a:rPr>
              <a:t>[F</a:t>
            </a:r>
            <a:r>
              <a:rPr b="1" lang="es-ES_tradnl" sz="3600" spc="-1" strike="noStrike">
                <a:solidFill>
                  <a:srgbClr val="003366"/>
                </a:solidFill>
                <a:latin typeface="Times New Roman"/>
                <a:ea typeface="GulimChe"/>
              </a:rPr>
              <a:t>]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  <a:ea typeface="GulimChe"/>
              </a:rPr>
              <a:t>EXT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0920" y="1557360"/>
            <a:ext cx="6480" cy="301464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50920" y="4076640"/>
            <a:ext cx="1676520" cy="1244520"/>
          </a:xfrm>
          <a:custGeom>
            <a:avLst/>
            <a:gdLst/>
            <a:ahLst/>
            <a:rect l="l" t="t" r="r" b="b"/>
            <a:pathLst>
              <a:path w="912" h="784">
                <a:moveTo>
                  <a:pt x="0" y="296"/>
                </a:moveTo>
                <a:cubicBezTo>
                  <a:pt x="104" y="316"/>
                  <a:pt x="208" y="336"/>
                  <a:pt x="288" y="296"/>
                </a:cubicBezTo>
                <a:cubicBezTo>
                  <a:pt x="368" y="256"/>
                  <a:pt x="400" y="96"/>
                  <a:pt x="480" y="56"/>
                </a:cubicBezTo>
                <a:cubicBezTo>
                  <a:pt x="560" y="16"/>
                  <a:pt x="696" y="0"/>
                  <a:pt x="768" y="56"/>
                </a:cubicBezTo>
                <a:cubicBezTo>
                  <a:pt x="840" y="112"/>
                  <a:pt x="912" y="280"/>
                  <a:pt x="912" y="392"/>
                </a:cubicBezTo>
                <a:cubicBezTo>
                  <a:pt x="912" y="504"/>
                  <a:pt x="848" y="672"/>
                  <a:pt x="768" y="728"/>
                </a:cubicBezTo>
                <a:cubicBezTo>
                  <a:pt x="688" y="784"/>
                  <a:pt x="512" y="768"/>
                  <a:pt x="432" y="728"/>
                </a:cubicBezTo>
                <a:cubicBezTo>
                  <a:pt x="352" y="688"/>
                  <a:pt x="360" y="536"/>
                  <a:pt x="288" y="488"/>
                </a:cubicBezTo>
                <a:cubicBezTo>
                  <a:pt x="216" y="440"/>
                  <a:pt x="48" y="448"/>
                  <a:pt x="0" y="44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43243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66"/>
                </a:solidFill>
                <a:latin typeface="Times New Roman"/>
                <a:ea typeface="MS Gothic"/>
              </a:rPr>
              <a:t>[F</a:t>
            </a:r>
            <a:r>
              <a:rPr b="1" lang="es-ES_tradnl" sz="3600" spc="-1" strike="noStrike">
                <a:solidFill>
                  <a:srgbClr val="003366"/>
                </a:solidFill>
                <a:latin typeface="Times New Roman"/>
                <a:ea typeface="GulimChe"/>
              </a:rPr>
              <a:t>]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7400" y="4781520"/>
            <a:ext cx="0" cy="1676520"/>
          </a:xfrm>
          <a:prstGeom prst="line">
            <a:avLst/>
          </a:prstGeom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3171960"/>
            <a:ext cx="1295280" cy="7617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3500280"/>
            <a:ext cx="114300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4705200"/>
            <a:ext cx="114300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84720" y="1700280"/>
            <a:ext cx="2664000" cy="129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Comic Sans MS"/>
              </a:rPr>
              <a:t>ÓRGA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Comic Sans MS"/>
              </a:rPr>
              <a:t>BLAN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7308720" y="3070080"/>
            <a:ext cx="0" cy="503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11640" y="1905120"/>
            <a:ext cx="1371600" cy="4952880"/>
          </a:xfrm>
          <a:prstGeom prst="can">
            <a:avLst>
              <a:gd name="adj" fmla="val 25000"/>
            </a:avLst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302904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3171960"/>
            <a:ext cx="99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Comic Sans MS"/>
                <a:ea typeface="MS Gothic"/>
              </a:rPr>
              <a:t>[F</a:t>
            </a:r>
            <a:r>
              <a:rPr b="1" lang="es-ES_tradnl" sz="4400" spc="-1" strike="noStrike">
                <a:solidFill>
                  <a:srgbClr val="003366"/>
                </a:solidFill>
                <a:latin typeface="Comic Sans MS"/>
                <a:ea typeface="GulimChe"/>
              </a:rPr>
              <a:t>]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52680" y="3573360"/>
            <a:ext cx="121932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87280" y="5734080"/>
            <a:ext cx="358164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64000" y="3573360"/>
            <a:ext cx="1981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152388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50920" y="19162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INT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64000" y="5084640"/>
            <a:ext cx="99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3366"/>
                </a:solidFill>
                <a:latin typeface="Comic Sans MS"/>
              </a:rPr>
              <a:t>iv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70320" y="278136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3366"/>
                </a:solidFill>
                <a:latin typeface="Comic Sans MS"/>
              </a:rPr>
              <a:t>i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32000" y="4005360"/>
            <a:ext cx="128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3366"/>
                </a:solidFill>
                <a:latin typeface="Comic Sans MS"/>
              </a:rPr>
              <a:t>or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03640" y="5157720"/>
            <a:ext cx="441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Times New Roman"/>
              </a:rPr>
              <a:t>Circulación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Times New Roman"/>
              </a:rPr>
              <a:t>o Sistém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3400" y="0"/>
            <a:ext cx="904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3366"/>
                </a:solidFill>
                <a:uFillTx/>
                <a:latin typeface="Times New Roman"/>
              </a:rPr>
              <a:t>¿De que depende la [F] que llega al órgano blanc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620640"/>
            <a:ext cx="92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1.- Administración Local</a:t>
            </a:r>
            <a:r>
              <a:rPr b="0" lang="es-ES_tradnl" sz="2800" spc="-1" strike="noStrike">
                <a:solidFill>
                  <a:srgbClr val="0000ff"/>
                </a:solidFill>
                <a:latin typeface="Times New Roman"/>
              </a:rPr>
              <a:t>: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pende directamente de la d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2.- Administración Sistémica: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pende de la [F] en el plas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963440" y="5791320"/>
            <a:ext cx="361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3366"/>
                </a:solidFill>
                <a:latin typeface="Comic Sans MS"/>
              </a:rPr>
              <a:t>Subcután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3366"/>
                </a:solidFill>
                <a:latin typeface="Comic Sans MS"/>
              </a:rPr>
              <a:t>Rectal, subling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500"/>
                            </p:stCondLst>
                            <p:childTnLst>
                              <p:par>
                                <p:cTn id="1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0" y="538200"/>
            <a:ext cx="8893080" cy="63198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0"/>
            <a:ext cx="435600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ff"/>
                </a:solidFill>
                <a:uFillTx/>
                <a:latin typeface="Times New Roman"/>
              </a:rPr>
              <a:t>Administración Sistém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4076640"/>
            <a:ext cx="24382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  <a:ea typeface="MS Gothic"/>
              </a:rPr>
              <a:t>    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  <a:ea typeface="MS Gothic"/>
              </a:rPr>
              <a:t>[F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  <a:ea typeface="GulimChe"/>
              </a:rPr>
              <a:t>]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  <a:ea typeface="GulimChe"/>
              </a:rPr>
              <a:t>EXT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50920" y="981000"/>
            <a:ext cx="6480" cy="359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57400" y="4005360"/>
            <a:ext cx="1676520" cy="1244520"/>
          </a:xfrm>
          <a:custGeom>
            <a:avLst/>
            <a:gdLst/>
            <a:ahLst/>
            <a:rect l="l" t="t" r="r" b="b"/>
            <a:pathLst>
              <a:path w="912" h="784">
                <a:moveTo>
                  <a:pt x="0" y="296"/>
                </a:moveTo>
                <a:cubicBezTo>
                  <a:pt x="104" y="316"/>
                  <a:pt x="208" y="336"/>
                  <a:pt x="288" y="296"/>
                </a:cubicBezTo>
                <a:cubicBezTo>
                  <a:pt x="368" y="256"/>
                  <a:pt x="400" y="96"/>
                  <a:pt x="480" y="56"/>
                </a:cubicBezTo>
                <a:cubicBezTo>
                  <a:pt x="560" y="16"/>
                  <a:pt x="696" y="0"/>
                  <a:pt x="768" y="56"/>
                </a:cubicBezTo>
                <a:cubicBezTo>
                  <a:pt x="840" y="112"/>
                  <a:pt x="912" y="280"/>
                  <a:pt x="912" y="392"/>
                </a:cubicBezTo>
                <a:cubicBezTo>
                  <a:pt x="912" y="504"/>
                  <a:pt x="848" y="672"/>
                  <a:pt x="768" y="728"/>
                </a:cubicBezTo>
                <a:cubicBezTo>
                  <a:pt x="688" y="784"/>
                  <a:pt x="512" y="768"/>
                  <a:pt x="432" y="728"/>
                </a:cubicBezTo>
                <a:cubicBezTo>
                  <a:pt x="352" y="688"/>
                  <a:pt x="360" y="536"/>
                  <a:pt x="288" y="488"/>
                </a:cubicBezTo>
                <a:cubicBezTo>
                  <a:pt x="216" y="440"/>
                  <a:pt x="48" y="448"/>
                  <a:pt x="0" y="44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666880" y="43243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imes New Roman"/>
                <a:ea typeface="MS Gothic"/>
              </a:rPr>
              <a:t>[F</a:t>
            </a:r>
            <a:r>
              <a:rPr b="1" lang="es-ES_tradnl" sz="3600" spc="-1" strike="noStrike">
                <a:solidFill>
                  <a:srgbClr val="ffffff"/>
                </a:solidFill>
                <a:latin typeface="Times New Roman"/>
                <a:ea typeface="GulimChe"/>
              </a:rPr>
              <a:t>]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57400" y="478152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470520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00720" y="1052640"/>
            <a:ext cx="2843280" cy="1081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Comic Sans MS"/>
              </a:rPr>
              <a:t>EFEC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66"/>
                </a:solidFill>
                <a:latin typeface="Comic Sans MS"/>
              </a:rPr>
              <a:t>Organo Blan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7380360" y="2133360"/>
            <a:ext cx="0" cy="1150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1571760"/>
            <a:ext cx="1371600" cy="4952880"/>
          </a:xfrm>
          <a:prstGeom prst="can">
            <a:avLst>
              <a:gd name="adj" fmla="val 25000"/>
            </a:avLst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302904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8764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  <a:ea typeface="MS Gothic"/>
              </a:rPr>
              <a:t>[F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  <a:ea typeface="GulimChe"/>
              </a:rPr>
              <a:t>]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435640" y="3284640"/>
            <a:ext cx="1981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40360" y="3645000"/>
            <a:ext cx="3203640" cy="5205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2.DISTRIBU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57400" y="8938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imes New Roman"/>
              </a:rPr>
              <a:t>INTER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79640" y="3789360"/>
            <a:ext cx="2895480" cy="520560"/>
          </a:xfrm>
          <a:prstGeom prst="rect">
            <a:avLst/>
          </a:prstGeom>
          <a:solidFill>
            <a:srgbClr val="33cccc"/>
          </a:solidFill>
          <a:ln w="2844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1.-ABSOR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4916520"/>
            <a:ext cx="4608360" cy="5205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3.BIOTRANSFORM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940360" y="5924520"/>
            <a:ext cx="2895840" cy="5205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4.-EXCRE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8000" y="4653000"/>
            <a:ext cx="1368360" cy="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92720" y="4076640"/>
            <a:ext cx="790560" cy="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5960" y="109440"/>
            <a:ext cx="880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3366"/>
                </a:solidFill>
                <a:uFillTx/>
                <a:latin typeface="Times New Roman"/>
              </a:rPr>
              <a:t>LA FARMACOCINETICA CONSTA DE 4 PROCES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54880" y="1762200"/>
            <a:ext cx="225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Verdana"/>
              </a:rPr>
              <a:t>Circulació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Verdana"/>
              </a:rPr>
              <a:t>Gener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292720" y="4581360"/>
            <a:ext cx="1366920" cy="36036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76720" y="5805360"/>
            <a:ext cx="1079640" cy="14472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835280" y="1268280"/>
            <a:ext cx="5616360" cy="5589720"/>
          </a:xfrm>
          <a:prstGeom prst="can">
            <a:avLst>
              <a:gd name="adj" fmla="val 25000"/>
            </a:avLst>
          </a:prstGeom>
          <a:solidFill>
            <a:srgbClr val="ff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4149720"/>
            <a:ext cx="1763640" cy="398880"/>
          </a:xfrm>
          <a:prstGeom prst="rect">
            <a:avLst/>
          </a:prstGeom>
          <a:solidFill>
            <a:srgbClr val="33cccc"/>
          </a:solidFill>
          <a:ln w="2844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ff"/>
                </a:solidFill>
                <a:latin typeface="Times New Roman"/>
              </a:rPr>
              <a:t>ABSOR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4797360"/>
            <a:ext cx="1944720" cy="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908000" y="3073320"/>
          <a:ext cx="5545440" cy="315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3073320"/>
                    <a:ext cx="5545440" cy="31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 rot="17442600">
            <a:off x="2161440" y="3464280"/>
            <a:ext cx="17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bsor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rot="19157400">
            <a:off x="2342520" y="458100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ff01"/>
                </a:solidFill>
                <a:latin typeface="Arial"/>
              </a:rPr>
              <a:t>Absor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40360" y="3429000"/>
            <a:ext cx="16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Distribu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24360" y="3573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3571200">
            <a:off x="3610440" y="4390200"/>
            <a:ext cx="20667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Verdana"/>
              </a:rPr>
              <a:t>    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limina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77440" y="400536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ff01"/>
                </a:solidFill>
                <a:latin typeface="Times New Roman"/>
              </a:rPr>
              <a:t>Distribu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1071000">
            <a:off x="5795280" y="4220640"/>
            <a:ext cx="192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1ff01"/>
                </a:solidFill>
                <a:latin typeface="Arial"/>
              </a:rPr>
              <a:t>     </a:t>
            </a:r>
            <a:r>
              <a:rPr b="1" lang="es-ES_tradnl" sz="2400" spc="-1" strike="noStrike">
                <a:solidFill>
                  <a:srgbClr val="01ff01"/>
                </a:solidFill>
                <a:latin typeface="Arial"/>
              </a:rPr>
              <a:t>Elimin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2120" y="0"/>
            <a:ext cx="835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¿Porque la Farmacocinética incide en el Efect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33360"/>
            <a:ext cx="880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La absorción distribución biotransformación y excre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ff"/>
                </a:solidFill>
                <a:latin typeface="Times New Roman"/>
              </a:rPr>
              <a:t>dan la forma a la curva de nivel sanguíne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0" y="378936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716360" y="465300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1ff01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7524720" y="4868640"/>
            <a:ext cx="216000" cy="360360"/>
          </a:xfrm>
          <a:prstGeom prst="line">
            <a:avLst/>
          </a:prstGeom>
          <a:ln w="7632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24720" y="5373720"/>
            <a:ext cx="287280" cy="360360"/>
          </a:xfrm>
          <a:prstGeom prst="line">
            <a:avLst/>
          </a:prstGeom>
          <a:ln w="7632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53600" y="4508640"/>
            <a:ext cx="1488240" cy="6426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Biotransfor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869960" y="5516640"/>
            <a:ext cx="1271880" cy="3682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ff"/>
                </a:solidFill>
                <a:latin typeface="Arial"/>
              </a:rPr>
              <a:t>Excre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572000" y="302904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36880" y="31680"/>
            <a:ext cx="858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FARMACODINAMIA ESTUDIA EL MECANISMO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AC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3778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¿DE QUE DEPENDE LA INTENSIDAD  DEL  EFEC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 EL ÓRGANO BLANCO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2920" y="4724280"/>
            <a:ext cx="8893080" cy="20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1</a:t>
            </a: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.Afinidad del fármaco por los receptore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determina el número de receptores unidos al 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61800" indent="-3618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2.Actividad intrínseca del fármac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 define como la capacidad del fármaco de estimular los receptores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31640" y="1052640"/>
            <a:ext cx="8712360" cy="27572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940360" y="220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Comic Sans MS"/>
              </a:rPr>
              <a:t>ÓRGANO BLANC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1341360"/>
            <a:ext cx="42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c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331640" y="1341360"/>
            <a:ext cx="67690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190800" bIns="46800" anchor="t">
            <a:no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ff3399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ROF. MARÍA ELENA QUINTANIL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     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(Encargada de curso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ff3399"/>
              </a:buClr>
              <a:buSzPct val="1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PROF. FERNANDO SIERRAL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     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(Coordinador de curso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ff3399"/>
              </a:buClr>
              <a:buSzPct val="18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Sra. MARGARITA ALBORNO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       </a:t>
            </a:r>
            <a:r>
              <a:rPr b="1" lang="es-ES_tradnl" sz="2400" spc="-1" strike="noStrike">
                <a:solidFill>
                  <a:srgbClr val="000099"/>
                </a:solidFill>
                <a:latin typeface="Verdana"/>
              </a:rPr>
              <a:t>(Secretaria docent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289080" y="4653000"/>
            <a:ext cx="8675640" cy="1512720"/>
          </a:xfrm>
          <a:prstGeom prst="rect">
            <a:avLst/>
          </a:prstGeom>
          <a:noFill/>
          <a:ln cap="sq" w="1080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ACTIVIDADES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Jueves  (14:30-18:00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Times New Roman"/>
              </a:rPr>
              <a:t>AUDITORIUM HERNÁN ROM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83480" y="333360"/>
            <a:ext cx="623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Tahoma"/>
              </a:rPr>
              <a:t>ADMINISTRACIÓN DEL CURS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987480" y="2224080"/>
            <a:ext cx="7165800" cy="23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or qué es important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Atención de pacientes que están utilizando fárma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266760"/>
            <a:ext cx="77724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</a:rPr>
              <a:t>Farmacología en Kinesiologí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c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Arial"/>
              </a:rPr>
              <a:t>FARMACOLOG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39640" y="1628640"/>
            <a:ext cx="8299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SzPct val="1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99"/>
                </a:solidFill>
                <a:latin typeface="Comic Sans MS"/>
              </a:rPr>
              <a:t>Actividad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Comic Sans MS"/>
              </a:rPr>
              <a:t>28 Clases teórica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Comic Sans MS"/>
              </a:rPr>
              <a:t>3 Seminario (Salas a determina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Comic Sans MS"/>
              </a:rPr>
              <a:t>2 Pruebas de selección múlti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2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s-ES_tradnl" sz="2800" spc="-1" strike="noStrike">
                <a:solidFill>
                  <a:srgbClr val="000099"/>
                </a:solidFill>
                <a:latin typeface="Comic Sans MS"/>
              </a:rPr>
              <a:t>1 Examen</a:t>
            </a:r>
            <a:r>
              <a:rPr b="0" lang="es-ES_tradnl" sz="2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c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Arial"/>
              </a:rPr>
              <a:t>FARMACOLOG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1413000"/>
            <a:ext cx="9144000" cy="47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19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99"/>
                </a:solidFill>
                <a:latin typeface="Comic Sans MS"/>
              </a:rPr>
              <a:t>Asiste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262080" indent="187200">
              <a:lnSpc>
                <a:spcPct val="150000"/>
              </a:lnSpc>
              <a:spcBef>
                <a:spcPts val="601"/>
              </a:spcBef>
              <a:buClr>
                <a:srgbClr val="ff33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28 Clases teórica : Asistencia libre y volunta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262080" indent="187200">
              <a:lnSpc>
                <a:spcPct val="150000"/>
              </a:lnSpc>
              <a:spcBef>
                <a:spcPts val="601"/>
              </a:spcBef>
              <a:buClr>
                <a:srgbClr val="ff33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Seminarios (3): Asistencia </a:t>
            </a:r>
            <a:r>
              <a:rPr b="1" lang="es-ES_tradnl" sz="2400" spc="-1" strike="noStrike">
                <a:solidFill>
                  <a:srgbClr val="ff3399"/>
                </a:solidFill>
                <a:latin typeface="Comic Sans MS"/>
              </a:rPr>
              <a:t>obligatoria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 con test escri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262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1er seminario : Deben traer resuelto problemas. Test final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262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2do seminario: Test al ini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262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3er seminario: Test al inicio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262080" indent="187200">
              <a:lnSpc>
                <a:spcPct val="150000"/>
              </a:lnSpc>
              <a:spcBef>
                <a:spcPts val="601"/>
              </a:spcBef>
              <a:buClr>
                <a:srgbClr val="ff33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Pruebas de Selección múltiple (2): Asistencia </a:t>
            </a:r>
            <a:r>
              <a:rPr b="1" lang="es-ES_tradnl" sz="2400" spc="-1" strike="noStrike">
                <a:solidFill>
                  <a:srgbClr val="ff3399"/>
                </a:solidFill>
                <a:latin typeface="Comic Sans MS"/>
              </a:rPr>
              <a:t>obligato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262080" indent="187200">
              <a:lnSpc>
                <a:spcPct val="150000"/>
              </a:lnSpc>
              <a:spcBef>
                <a:spcPts val="601"/>
              </a:spcBef>
              <a:buClr>
                <a:srgbClr val="ff33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Exámen (1): Asistencia </a:t>
            </a:r>
            <a:r>
              <a:rPr b="1" lang="es-ES_tradnl" sz="2400" spc="-1" strike="noStrike">
                <a:solidFill>
                  <a:srgbClr val="ff3399"/>
                </a:solidFill>
                <a:latin typeface="Comic Sans MS"/>
              </a:rPr>
              <a:t>obligato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262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262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c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15920"/>
            <a:ext cx="961236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17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SzPct val="120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Verdana"/>
              </a:rPr>
              <a:t>% de Inasistencia justificadas aceptad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79280" indent="71604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Seminarios 20% = </a:t>
            </a:r>
            <a:r>
              <a:rPr b="1" lang="es-ES_tradnl" sz="2400" spc="-1" strike="noStrike">
                <a:solidFill>
                  <a:srgbClr val="ff3399"/>
                </a:solidFill>
                <a:latin typeface="Comic Sans MS"/>
              </a:rPr>
              <a:t>1 inasistencia justificada</a:t>
            </a: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79280" indent="716040">
              <a:lnSpc>
                <a:spcPct val="10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Pruebas de Selección múltiple 20% =</a:t>
            </a:r>
            <a:r>
              <a:rPr b="1" lang="es-ES_tradnl" sz="2400" spc="-1" strike="noStrike">
                <a:solidFill>
                  <a:srgbClr val="ff3399"/>
                </a:solidFill>
                <a:latin typeface="Comic Sans MS"/>
              </a:rPr>
              <a:t>1 inasistencia</a:t>
            </a:r>
            <a:r>
              <a:rPr b="0" lang="es-ES_tradnl" sz="2400" spc="-1" strike="noStrike">
                <a:solidFill>
                  <a:srgbClr val="ff3399"/>
                </a:solidFill>
                <a:latin typeface="Comic Sans MS"/>
              </a:rPr>
              <a:t>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79280" indent="716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99"/>
                </a:solidFill>
                <a:latin typeface="Comic Sans MS"/>
              </a:rPr>
              <a:t>                                                         </a:t>
            </a:r>
            <a:r>
              <a:rPr b="1" lang="es-ES_tradnl" sz="2400" spc="-1" strike="noStrike">
                <a:solidFill>
                  <a:srgbClr val="ff3399"/>
                </a:solidFill>
                <a:latin typeface="Comic Sans MS"/>
              </a:rPr>
              <a:t>justific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79280" indent="7160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79280" indent="71604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SzPct val="1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Verdana"/>
              </a:rPr>
              <a:t>Certificados de inasistencia</a:t>
            </a:r>
            <a:r>
              <a:rPr b="0" lang="es-ES_tradnl" sz="32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79280" indent="716040">
              <a:lnSpc>
                <a:spcPct val="15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Del SEMDA o Asistente Social dentro de un plazo 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79280" indent="716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15 días a partir de la fecha de inasiste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79280" indent="716040">
              <a:lnSpc>
                <a:spcPct val="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79280" indent="71604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La actividad se recuperará mediante una prueba oral 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79280" indent="716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escri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79280" indent="71604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Las inasistencias no justificadas serán calificadas c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79280" indent="716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99"/>
                </a:solidFill>
                <a:latin typeface="Comic Sans MS"/>
              </a:rPr>
              <a:t>Nota 1,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79280" indent="7160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99"/>
                </a:solidFill>
                <a:latin typeface="Tahoma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3c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195280" y="0"/>
            <a:ext cx="50511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FARMACOLOG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39640" y="620280"/>
            <a:ext cx="8855280" cy="58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3399"/>
              </a:buClr>
              <a:buSzPct val="1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ff"/>
                </a:solidFill>
                <a:latin typeface="Arial"/>
              </a:rPr>
              <a:t>Ponderación de nota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ff"/>
                </a:solidFill>
                <a:latin typeface="Comic Sans MS"/>
              </a:rPr>
              <a:t>    </a:t>
            </a:r>
            <a:r>
              <a:rPr b="1" lang="es-ES_tradnl" sz="3200" spc="-1" strike="noStrike" u="sng">
                <a:solidFill>
                  <a:srgbClr val="ff3399"/>
                </a:solidFill>
                <a:uFillTx/>
                <a:latin typeface="Arial"/>
              </a:rPr>
              <a:t>Nota presentación a exam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1360" indent="-25416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Arial"/>
              </a:rPr>
              <a:t>Promedio de 2 Pruebas de selección =</a:t>
            </a:r>
            <a:r>
              <a:rPr b="1" lang="es-ES_tradnl" sz="2800" spc="-1" strike="noStrike">
                <a:solidFill>
                  <a:srgbClr val="ff3399"/>
                </a:solidFill>
                <a:latin typeface="Arial"/>
              </a:rPr>
              <a:t>76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1360" indent="-25416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Arial"/>
              </a:rPr>
              <a:t>Promedio de 3 test de seminario= </a:t>
            </a:r>
            <a:r>
              <a:rPr b="1" lang="es-ES_tradnl" sz="2800" spc="-1" strike="noStrike">
                <a:solidFill>
                  <a:srgbClr val="ff3399"/>
                </a:solidFill>
                <a:latin typeface="Arial"/>
              </a:rPr>
              <a:t>24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1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r>
              <a:rPr b="1" lang="es-ES_tradnl" sz="3200" spc="-1" strike="noStrike" u="sng">
                <a:solidFill>
                  <a:srgbClr val="ff3399"/>
                </a:solidFill>
                <a:uFillTx/>
                <a:latin typeface="Arial"/>
              </a:rPr>
              <a:t>Nota Final</a:t>
            </a:r>
            <a:r>
              <a:rPr b="1" lang="es-ES_tradnl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SzPct val="18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Arial"/>
              </a:rPr>
              <a:t>Evaluación total curso= </a:t>
            </a:r>
            <a:r>
              <a:rPr b="1" lang="es-ES_tradnl" sz="2800" spc="-1" strike="noStrike">
                <a:solidFill>
                  <a:srgbClr val="ff3399"/>
                </a:solidFill>
                <a:latin typeface="Arial"/>
              </a:rPr>
              <a:t>70%</a:t>
            </a:r>
            <a:r>
              <a:rPr b="1" lang="es-ES_tradnl" sz="2800" spc="-1" strike="noStrike">
                <a:solidFill>
                  <a:srgbClr val="3333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SzPct val="19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ff"/>
                </a:solidFill>
                <a:latin typeface="Arial"/>
              </a:rPr>
              <a:t>Evaluación del examen= </a:t>
            </a:r>
            <a:r>
              <a:rPr b="1" lang="es-ES_tradnl" sz="2800" spc="-1" strike="noStrike">
                <a:solidFill>
                  <a:srgbClr val="ff3399"/>
                </a:solidFill>
                <a:latin typeface="Arial"/>
              </a:rPr>
              <a:t>30%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1360" indent="-25416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Como Asignatura preclínica la nota mínima de presentación  a examen será 4.0, siendo la</a:t>
            </a:r>
            <a:r>
              <a:rPr b="1" lang="es-ES_tradnl" sz="3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ff"/>
                </a:solidFill>
                <a:latin typeface="Arial"/>
              </a:rPr>
              <a:t>nota  mínima de examen un 4.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136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30200" y="189000"/>
            <a:ext cx="6147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INTRODUCCIÓN A L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3366"/>
                </a:solidFill>
                <a:latin typeface="Times New Roman"/>
              </a:rPr>
              <a:t>FARMACOLOGÍ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463000" y="6340320"/>
            <a:ext cx="36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Prof. María Elena Quintanill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Programa Farmacología Molecular &amp; Clínic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46040" y="324576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agen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46040" y="324576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agen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46040" y="324576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agen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46040" y="324576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agen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46040" y="3245760"/>
            <a:ext cx="105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magen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476360" y="1665360"/>
            <a:ext cx="6551640" cy="50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3366"/>
                </a:solidFill>
                <a:latin typeface="Times New Roman"/>
              </a:rPr>
              <a:t>¿ Que es la Farmacología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640" y="1944360"/>
            <a:ext cx="8331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66"/>
                </a:solidFill>
                <a:latin typeface="Times New Roman"/>
              </a:rPr>
              <a:t>Ciencia que se preocupa del estudio de los fármacos (F) y de los efectos que ellos produce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560" y="0"/>
            <a:ext cx="889308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2000"/>
          </a:bodyPr>
          <a:p>
            <a:pPr marL="2469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3366"/>
                </a:solidFill>
                <a:latin typeface="Times New Roman"/>
              </a:rPr>
              <a:t>¿Qué se entiende por Fármaco?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268280"/>
            <a:ext cx="579600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Verdana"/>
              </a:rPr>
              <a:t>TODA SUSTANCIA QUÍMICA AJENA O PROPIA A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Verdana"/>
              </a:rPr>
              <a:t>ORGANISMO QUE AL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Verdana"/>
              </a:rPr>
              <a:t>SER ADMINISTRADA PRODUCE UN EFECT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http://www.avizora.com/publicaciones/ciencias/images/0034_opio_amapola_01.jpg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5697360" y="1197000"/>
            <a:ext cx="344664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30T17:52:44Z</dcterms:created>
  <dc:creator>Usuario</dc:creator>
  <dc:description/>
  <dc:language>en-US</dc:language>
  <cp:lastModifiedBy>Facultad de Medicina</cp:lastModifiedBy>
  <dcterms:modified xsi:type="dcterms:W3CDTF">2010-07-30T14:51:36Z</dcterms:modified>
  <cp:revision>73</cp:revision>
  <dc:subject/>
  <dc:title>FARMACOLOGÍA</dc:title>
</cp:coreProperties>
</file>