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LIC.WAV" ContentType="audio/x-wav"/>
  <Override PartName="/ppt/media/image6.wmf" ContentType="image/x-wmf"/>
  <Override PartName="/ppt/media/image7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8BB-2A67-4A3B-A3DA-1542D6CF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C18-EFB0-4924-8296-4AB42033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95A-DB9B-4A5C-B3A8-450C7DBB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18C-C70C-4743-A5BE-1C5F7A0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A011-8DE6-47C8-A4A5-4AEF622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1276-B40B-4527-8770-83201D40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7CC-6BA7-48E8-A1E6-21EFC1E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0A9D-A2D7-40C7-B0D7-9CBFEE2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440B-B31C-4B35-A852-D6ECBD1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A7E-160F-4169-9FC6-7B2B09DF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2DA-0883-4C94-B288-FC7E96B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FA1-00BB-4C13-83CF-1EB5F3DC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6AB-DC9E-40D8-8C3C-8F2FD39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0578-99A2-4E3D-8AE5-EA2662F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25B7-D5C0-47AD-8A01-5380393A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9DB0-C2D2-4C6A-B171-E5852F13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DFB-90D3-47C1-9C74-2EAF6F16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0B2-B953-4126-A3C2-0C51D11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AC8-4524-4478-A6C8-F5891F6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4E5-FB47-42BD-B24F-05DB258B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9DA-9EF6-4FE3-B6D3-CC6A85DC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80D-9734-489F-9ACA-4A10BF6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F44-5B34-4CF0-897D-8694F95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27E-3937-4E7E-98FE-2AA8D80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E73-4045-4F29-BDB2-75DB88EF39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793-F437-470A-A53E-7AE7F8B13A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Y ALGIAS DE COLUMNA EN EL DEPOR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3922560"/>
            <a:ext cx="817884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Profesor Marcelo Cano Cappellac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0" y="4191120"/>
            <a:ext cx="2286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447920" y="2133720"/>
            <a:ext cx="2819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a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520" y="380880"/>
            <a:ext cx="2590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tobiologí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62520" y="3809880"/>
            <a:ext cx="25905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41911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ontribuy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781680" y="4648320"/>
            <a:ext cx="19814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572000" y="556272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629400" y="304920"/>
            <a:ext cx="809640" cy="426708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0520 h 4267080"/>
              <a:gd name="textAreaBottom" fmla="*/ 310932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2992824"/>
                <a:lnTo>
                  <a:pt x="6734" y="21181"/>
                </a:lnTo>
                <a:lnTo>
                  <a:pt x="0" y="18383"/>
                </a:lnTo>
                <a:lnTo>
                  <a:pt x="6734" y="14746"/>
                </a:lnTo>
                <a:lnTo>
                  <a:pt x="6734" y="16402"/>
                </a:lnTo>
                <a:arcTo wR="21600" hR="8411" stAng="2992824" swAng="-2740361"/>
                <a:lnTo>
                  <a:pt x="21224" y="9972"/>
                </a:lnTo>
                <a:arcTo wR="21600" hR="8411" stAng="-252463" swAng="-5147537"/>
                <a:close/>
              </a:path>
              <a:path fill="darkenLess"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-252463"/>
                <a:lnTo>
                  <a:pt x="21224" y="9972"/>
                </a:lnTo>
                <a:arcTo wR="21600" hR="8411" stAng="-252463" swAng="-5147537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886200" y="2209680"/>
            <a:ext cx="1143000" cy="198144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290160 h 1981440"/>
              <a:gd name="textAreaBottom" fmla="*/ 1691280 h 1981440"/>
            </a:gdLst>
            <a:ahLst/>
            <a:rect l="textAreaLeft" t="textAreaTop" r="textAreaRight" b="textAreaBottom"/>
            <a:pathLst>
              <a:path w="21600" h="21600">
                <a:moveTo>
                  <a:pt x="18484" y="11370"/>
                </a:moveTo>
                <a:cubicBezTo>
                  <a:pt x="18498" y="11180"/>
                  <a:pt x="18506" y="10990"/>
                  <a:pt x="18506" y="10800"/>
                </a:cubicBezTo>
                <a:cubicBezTo>
                  <a:pt x="18506" y="6544"/>
                  <a:pt x="15055" y="3094"/>
                  <a:pt x="10800" y="3094"/>
                </a:cubicBezTo>
                <a:cubicBezTo>
                  <a:pt x="10473" y="3093"/>
                  <a:pt x="10147" y="3114"/>
                  <a:pt x="9824" y="3156"/>
                </a:cubicBezTo>
                <a:lnTo>
                  <a:pt x="9432" y="86"/>
                </a:lnTo>
                <a:cubicBezTo>
                  <a:pt x="9885" y="29"/>
                  <a:pt x="10342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67"/>
                  <a:pt x="21590" y="11333"/>
                  <a:pt x="21570" y="11600"/>
                </a:cubicBezTo>
                <a:lnTo>
                  <a:pt x="24262" y="11800"/>
                </a:lnTo>
                <a:lnTo>
                  <a:pt x="19712" y="15720"/>
                </a:lnTo>
                <a:lnTo>
                  <a:pt x="15792" y="11170"/>
                </a:lnTo>
                <a:lnTo>
                  <a:pt x="18484" y="113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638680" y="2057400"/>
            <a:ext cx="638280" cy="1585800"/>
          </a:xfrm>
          <a:prstGeom prst="downArrow">
            <a:avLst>
              <a:gd name="adj1" fmla="val 50000"/>
              <a:gd name="adj2" fmla="val 6211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28800" y="4800600"/>
            <a:ext cx="3048120" cy="733320"/>
          </a:xfrm>
          <a:custGeom>
            <a:avLst/>
            <a:gdLst>
              <a:gd name="textAreaLeft" fmla="*/ 559800 w 3048120"/>
              <a:gd name="textAreaRight" fmla="*/ 2076840 w 3048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-2766268"/>
                <a:lnTo>
                  <a:pt x="21146" y="7200"/>
                </a:lnTo>
                <a:lnTo>
                  <a:pt x="17280" y="0"/>
                </a:lnTo>
                <a:lnTo>
                  <a:pt x="12506" y="7200"/>
                </a:lnTo>
                <a:lnTo>
                  <a:pt x="15420" y="7200"/>
                </a:lnTo>
                <a:arcTo wR="7937" hR="21600" stAng="2633732" swAng="2539231"/>
                <a:lnTo>
                  <a:pt x="9343" y="21258"/>
                </a:lnTo>
                <a:arcTo wR="7937" hR="21600" stAng="5627037" swAng="5172963"/>
                <a:close/>
              </a:path>
              <a:path fill="darkenLess"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227037"/>
                <a:lnTo>
                  <a:pt x="9343" y="21258"/>
                </a:lnTo>
                <a:arcTo wR="7937" hR="21600" stAng="5627037" swAng="5172963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4800600" y="4419720"/>
            <a:ext cx="409680" cy="976320"/>
          </a:xfrm>
          <a:prstGeom prst="upArrow">
            <a:avLst>
              <a:gd name="adj1" fmla="val 64056"/>
              <a:gd name="adj2" fmla="val 9378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723888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neurogé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perifér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572000" y="20574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mie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1600200" y="54864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minución S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limitación fí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5029200" y="48006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raíz nerv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200" y="3048120"/>
            <a:ext cx="15238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1295280" y="2971800"/>
            <a:ext cx="2957760" cy="976320"/>
          </a:xfrm>
          <a:custGeom>
            <a:avLst/>
            <a:gdLst>
              <a:gd name="textAreaLeft" fmla="*/ 433080 w 2957760"/>
              <a:gd name="textAreaRight" fmla="*/ 2524680 w 295776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9037" y="11656"/>
                </a:moveTo>
                <a:cubicBezTo>
                  <a:pt x="19067" y="11372"/>
                  <a:pt x="19082" y="11086"/>
                  <a:pt x="19082" y="10800"/>
                </a:cubicBezTo>
                <a:cubicBezTo>
                  <a:pt x="19082" y="6225"/>
                  <a:pt x="15374" y="2518"/>
                  <a:pt x="10800" y="2518"/>
                </a:cubicBezTo>
                <a:cubicBezTo>
                  <a:pt x="9181" y="2517"/>
                  <a:pt x="7598" y="2992"/>
                  <a:pt x="6246" y="3882"/>
                </a:cubicBezTo>
                <a:lnTo>
                  <a:pt x="4861" y="1779"/>
                </a:lnTo>
                <a:cubicBezTo>
                  <a:pt x="6624" y="618"/>
                  <a:pt x="868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73"/>
                  <a:pt x="21580" y="11546"/>
                  <a:pt x="21542" y="11917"/>
                </a:cubicBezTo>
                <a:lnTo>
                  <a:pt x="24227" y="12196"/>
                </a:lnTo>
                <a:lnTo>
                  <a:pt x="19879" y="15724"/>
                </a:lnTo>
                <a:lnTo>
                  <a:pt x="16352" y="11377"/>
                </a:lnTo>
                <a:lnTo>
                  <a:pt x="19037" y="1165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paciente debe ser parte de este proceso, y por ello es tan importante el traspaso de información hacia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kinesiólogo puede guiarse por la evidencia, pero la individualidad del paciente y de él mismo como terapeuta, obligan a un manejo flexible y ú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Comic Sans MS"/>
              </a:rPr>
              <a:t>Atractivo de la kinesiologí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rrores más comu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agmatismo: Descartar información y/o asimilar a experiencias previ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Favoritismo: Hipótesis de trabajo preferidas (artrokinemática, neurodinámica, emocionales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876400" y="0"/>
          <a:ext cx="3391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0"/>
                    <a:ext cx="339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685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oceso de obtención de inform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paciente es parte de él, y por ello es tan importante el traspaso de información hacia é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subjetivo (sintomatologí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objetivo (validez de una prueb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Conducta de la sintomatologí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rtamiento temporal (duración y fluctuaciones de ella a corto y largo pl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la agra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producen aliv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bicación topo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nsidad (E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 extraño encontrar entidades puras, desde el punto de vista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uidado con los exámenes que arrojan falsos positivos y falsos negativos (30% de pacientes asintomáticos arrojaron + una RNM, con Dg. de prolapso dis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a entrevista permite definir el perfil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identificar las potencialidades y limitaciones funcional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distinguir si el componente doloroso es de preferencia mecánico o quí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 es básica, desde el ingreso del paciente a la consul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mic Sans MS"/>
              </a:rPr>
              <a:t>Dolor quím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cturno con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&gt; 2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/cambios con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teraciones de s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Dolor mecá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rmi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de sólo 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se despierta por el d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de pensamiento, análisis y toma de decisiones, que es parte de la práctica 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gún Butler nace de una mezcla entre lo mejor d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Object 8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Indicadores de cuadro sistém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5872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icio en mayores de 45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auseas, vómitos, diarrea, fie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storia previa de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abdominal y lumbar en un mismo n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ebilidad muscular sever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sin cambios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causa sufr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se modifica con la ingesta de ali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no cambia con los mov. de colum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tre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ovimientos activos, pasivos, re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és ligamen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nentes meníng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xamen neurológico (dermatomas, miotom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ueba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rteria verteb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Neurodin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uadr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ha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longación mu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deportistas de alto nivel existe una mayor incidencia de patología dolorosa de columna y además de mayor seve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olsos no deben superar el 10% del peso corporal en niños y adolesc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67% de esquiadores de alto nivel entre 15 y 19 años presentan lumbal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427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pondil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erlaxitud e inest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portes de bajo imp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1258920" y="1547640"/>
            <a:ext cx="2373120" cy="531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23288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0" y="2324160"/>
            <a:ext cx="5292720" cy="227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5796000" y="1982880"/>
            <a:ext cx="2738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284200" cy="4927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4626000" y="1700280"/>
            <a:ext cx="318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rcadores de 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 por 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ctividad sináp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eurotransmi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dicadores del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: punto de vista eclé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: examen clínico  subjetivo y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at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finición del dolor (IASP): Enfoque bio-sico-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mponentes del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onocimiento de base: Anatomía, biomecánica, fisiología, fisiopatología, fisiología del ejercicio. Sistemas límbico y reticular, eje hipotálamo-hipofisia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Habilidades cognitivas (análisis y síntesis): Relacionar, descartar, priorizar, toma de decisiones terapéut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etacognición: Evaluación del proceso integr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Físic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olor crónico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ie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sicosociales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reenci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labor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Zona gris en la práctica clínica: conocimiento parcial (patoanatomía o patofisiologí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15960" cy="1035000"/>
          </a:xfrm>
          <a:prstGeom prst="rect">
            <a:avLst/>
          </a:prstGeom>
          <a:ln w="0">
            <a:noFill/>
          </a:ln>
        </p:spPr>
      </p:pic>
      <p:sp>
        <p:nvSpPr>
          <p:cNvPr id="107" name="Line 7"/>
          <p:cNvSpPr/>
          <p:nvPr/>
        </p:nvSpPr>
        <p:spPr>
          <a:xfrm flipV="1">
            <a:off x="7010280" y="2743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0102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010280" y="31240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90920" y="21337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590920" y="25909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hipotético - de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nálisis de todas las posibles fuentes de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 o contraind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ótesi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in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milación del cuadro a patrones similares que han sido observados previ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leado por expe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quiere menos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ategorías de 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uentes de la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f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atob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falta de conocimiento en alguna categoría puede provocar el colapso del proceso de razonamiento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31T00:10:53Z</dcterms:modified>
  <cp:revision>36</cp:revision>
  <dc:subject/>
  <dc:title>RAZONAMIENTO CLÍNICO</dc:title>
</cp:coreProperties>
</file>