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LIC.WAV" ContentType="audio/x-wav"/>
  <Override PartName="/ppt/media/image6.wmf" ContentType="image/x-wmf"/>
  <Override PartName="/ppt/media/image7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06E-7FF6-4134-AA4E-22339BB9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D3E-6D21-46D0-9F55-09FCDC3D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08C-AC98-4A88-B5D9-7C17D321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20A-64E0-4847-AD23-38AD2DAB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BCD3-FB0D-4B5A-8382-F1609C0A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56E1-F081-4647-B42B-4D523786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32B4-1C29-4F03-8D65-572AEC7B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5B03-66A0-462F-9A94-F68AD906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07D1-44DE-46D2-B698-BEE3FB87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3E16-B7B4-43A4-BF11-9A45C9D7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ED90-5D1E-44D6-B1F0-F7062BB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9E8-69DE-4270-A6FC-A6BE773A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0336-C963-4AF6-884D-6B32E64C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8A86-A5BC-4DEC-A7EA-5D2A0003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DCF4-492D-44B5-97FA-F9011D40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6E93-5ABB-4AD8-958F-8B57B2C0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0409-1F6F-4294-B970-33B6D5D1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2FB-AD5B-4CBE-A469-B72AA5B6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A6A-15F8-441B-BB49-40836A7D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AF7-1877-4FD9-A71D-3D412000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858-BB48-4088-89BF-86250FBB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F1F-7E6A-4137-A336-8E775AEC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535-E29F-4BC6-9F36-4B1AE649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B9C-C57F-480D-ACF7-F1D06394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507c"/>
            </a:gs>
            <a:gs pos="100000">
              <a:srgbClr val="0033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2D9C-AC35-4FB9-BE12-8ACD1CD6D6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507c"/>
            </a:gs>
            <a:gs pos="100000">
              <a:srgbClr val="0033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1114-D157-4915-B6BF-DC0AEF073E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Y ALGIAS DE COLUMNA EN EL DEPOR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3922560"/>
            <a:ext cx="817884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Profesor Marcelo Cano Cappellac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3"/>
          <p:cNvSpPr/>
          <p:nvPr/>
        </p:nvSpPr>
        <p:spPr>
          <a:xfrm>
            <a:off x="0" y="4191120"/>
            <a:ext cx="22860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447920" y="2133720"/>
            <a:ext cx="28191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a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2520" y="380880"/>
            <a:ext cx="25905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tobiologí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62520" y="3809880"/>
            <a:ext cx="25905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95480" y="1371600"/>
            <a:ext cx="41911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es contribuy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781680" y="4648320"/>
            <a:ext cx="19814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4572000" y="5562720"/>
            <a:ext cx="1752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629400" y="304920"/>
            <a:ext cx="809640" cy="426708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0520 h 4267080"/>
              <a:gd name="textAreaBottom" fmla="*/ 310932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11" stAng="-5400000" swAng="5400000"/>
                <a:lnTo>
                  <a:pt x="21600" y="11534"/>
                </a:lnTo>
                <a:arcTo wR="21600" hR="8411" stAng="0" swAng="2992824"/>
                <a:lnTo>
                  <a:pt x="6734" y="21181"/>
                </a:lnTo>
                <a:lnTo>
                  <a:pt x="0" y="18383"/>
                </a:lnTo>
                <a:lnTo>
                  <a:pt x="6734" y="14746"/>
                </a:lnTo>
                <a:lnTo>
                  <a:pt x="6734" y="16402"/>
                </a:lnTo>
                <a:arcTo wR="21600" hR="8411" stAng="2992824" swAng="-2740361"/>
                <a:lnTo>
                  <a:pt x="21224" y="9972"/>
                </a:lnTo>
                <a:arcTo wR="21600" hR="8411" stAng="-252463" swAng="-5147537"/>
                <a:close/>
              </a:path>
              <a:path fill="darkenLess" w="21600" h="21600">
                <a:moveTo>
                  <a:pt x="0" y="0"/>
                </a:moveTo>
                <a:arcTo wR="21600" hR="8411" stAng="-5400000" swAng="5400000"/>
                <a:lnTo>
                  <a:pt x="21600" y="11534"/>
                </a:lnTo>
                <a:arcTo wR="21600" hR="8411" stAng="0" swAng="-252463"/>
                <a:lnTo>
                  <a:pt x="21224" y="9972"/>
                </a:lnTo>
                <a:arcTo wR="21600" hR="8411" stAng="-252463" swAng="-5147537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3886200" y="2209680"/>
            <a:ext cx="1143000" cy="198144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290160 h 1981440"/>
              <a:gd name="textAreaBottom" fmla="*/ 1691280 h 1981440"/>
            </a:gdLst>
            <a:ahLst/>
            <a:rect l="textAreaLeft" t="textAreaTop" r="textAreaRight" b="textAreaBottom"/>
            <a:pathLst>
              <a:path w="21600" h="21600">
                <a:moveTo>
                  <a:pt x="18484" y="11370"/>
                </a:moveTo>
                <a:cubicBezTo>
                  <a:pt x="18498" y="11180"/>
                  <a:pt x="18506" y="10990"/>
                  <a:pt x="18506" y="10800"/>
                </a:cubicBezTo>
                <a:cubicBezTo>
                  <a:pt x="18506" y="6544"/>
                  <a:pt x="15055" y="3094"/>
                  <a:pt x="10800" y="3094"/>
                </a:cubicBezTo>
                <a:cubicBezTo>
                  <a:pt x="10473" y="3093"/>
                  <a:pt x="10147" y="3114"/>
                  <a:pt x="9824" y="3156"/>
                </a:cubicBezTo>
                <a:lnTo>
                  <a:pt x="9432" y="86"/>
                </a:lnTo>
                <a:cubicBezTo>
                  <a:pt x="9885" y="29"/>
                  <a:pt x="10342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67"/>
                  <a:pt x="21590" y="11333"/>
                  <a:pt x="21570" y="11600"/>
                </a:cubicBezTo>
                <a:lnTo>
                  <a:pt x="24262" y="11800"/>
                </a:lnTo>
                <a:lnTo>
                  <a:pt x="19712" y="15720"/>
                </a:lnTo>
                <a:lnTo>
                  <a:pt x="15792" y="11170"/>
                </a:lnTo>
                <a:lnTo>
                  <a:pt x="18484" y="1137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5638680" y="2057400"/>
            <a:ext cx="638280" cy="1585800"/>
          </a:xfrm>
          <a:prstGeom prst="downArrow">
            <a:avLst>
              <a:gd name="adj1" fmla="val 50000"/>
              <a:gd name="adj2" fmla="val 6211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1828800" y="4800600"/>
            <a:ext cx="3048120" cy="733320"/>
          </a:xfrm>
          <a:custGeom>
            <a:avLst/>
            <a:gdLst>
              <a:gd name="textAreaLeft" fmla="*/ 559800 w 3048120"/>
              <a:gd name="textAreaRight" fmla="*/ 2076840 w 30481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37" hR="21600" stAng="10800000" swAng="-5400000"/>
                <a:lnTo>
                  <a:pt x="10749" y="21600"/>
                </a:lnTo>
                <a:arcTo wR="7937" hR="21600" stAng="5400000" swAng="-2766268"/>
                <a:lnTo>
                  <a:pt x="21146" y="7200"/>
                </a:lnTo>
                <a:lnTo>
                  <a:pt x="17280" y="0"/>
                </a:lnTo>
                <a:lnTo>
                  <a:pt x="12506" y="7200"/>
                </a:lnTo>
                <a:lnTo>
                  <a:pt x="15420" y="7200"/>
                </a:lnTo>
                <a:arcTo wR="7937" hR="21600" stAng="2633732" swAng="2539231"/>
                <a:lnTo>
                  <a:pt x="9343" y="21258"/>
                </a:lnTo>
                <a:arcTo wR="7937" hR="21600" stAng="5627037" swAng="5172963"/>
                <a:close/>
              </a:path>
              <a:path fill="darkenLess" w="21600" h="21600">
                <a:moveTo>
                  <a:pt x="0" y="0"/>
                </a:moveTo>
                <a:arcTo wR="7937" hR="21600" stAng="10800000" swAng="-5400000"/>
                <a:lnTo>
                  <a:pt x="10749" y="21600"/>
                </a:lnTo>
                <a:arcTo wR="7937" hR="21600" stAng="5400000" swAng="227037"/>
                <a:lnTo>
                  <a:pt x="9343" y="21258"/>
                </a:lnTo>
                <a:arcTo wR="7937" hR="21600" stAng="5627037" swAng="5172963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4800600" y="4419720"/>
            <a:ext cx="409680" cy="976320"/>
          </a:xfrm>
          <a:prstGeom prst="upArrow">
            <a:avLst>
              <a:gd name="adj1" fmla="val 64056"/>
              <a:gd name="adj2" fmla="val 9378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7238880" y="1676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neurogén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perifér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4572000" y="20574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abe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5943600" y="25146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mie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1600200" y="548640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sminución SL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limitación fís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5029200" y="4800600"/>
            <a:ext cx="129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dis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</a:rPr>
              <a:t>raíz nerv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57200" y="3048120"/>
            <a:ext cx="15238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amn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1295280" y="2971800"/>
            <a:ext cx="2957760" cy="976320"/>
          </a:xfrm>
          <a:custGeom>
            <a:avLst/>
            <a:gdLst>
              <a:gd name="textAreaLeft" fmla="*/ 433080 w 2957760"/>
              <a:gd name="textAreaRight" fmla="*/ 2524680 w 295776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9037" y="11656"/>
                </a:moveTo>
                <a:cubicBezTo>
                  <a:pt x="19067" y="11372"/>
                  <a:pt x="19082" y="11086"/>
                  <a:pt x="19082" y="10800"/>
                </a:cubicBezTo>
                <a:cubicBezTo>
                  <a:pt x="19082" y="6225"/>
                  <a:pt x="15374" y="2518"/>
                  <a:pt x="10800" y="2518"/>
                </a:cubicBezTo>
                <a:cubicBezTo>
                  <a:pt x="9181" y="2517"/>
                  <a:pt x="7598" y="2992"/>
                  <a:pt x="6246" y="3882"/>
                </a:cubicBezTo>
                <a:lnTo>
                  <a:pt x="4861" y="1779"/>
                </a:lnTo>
                <a:cubicBezTo>
                  <a:pt x="6624" y="618"/>
                  <a:pt x="868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173"/>
                  <a:pt x="21580" y="11546"/>
                  <a:pt x="21542" y="11917"/>
                </a:cubicBezTo>
                <a:lnTo>
                  <a:pt x="24227" y="12196"/>
                </a:lnTo>
                <a:lnTo>
                  <a:pt x="19879" y="15724"/>
                </a:lnTo>
                <a:lnTo>
                  <a:pt x="16352" y="11377"/>
                </a:lnTo>
                <a:lnTo>
                  <a:pt x="19037" y="1165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evolutivo, donde cambia el paciente, el tratante, la sintomatología, el ambiente laboral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l paciente debe ser parte de este proceso, y por ello es tan importante el traspaso de información hacia é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4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El kinesiólogo puede guiarse por la evidencia, pero la individualidad del paciente y de él mismo como terapeuta, obligan a un manejo flexible y únic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ffffff"/>
                </a:solidFill>
                <a:latin typeface="Comic Sans MS"/>
              </a:rPr>
              <a:t>Atractivo de la kinesiologí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rrores más comu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Pragmatismo: Descartar información y/o asimilar a experiencias previ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Favoritismo: Hipótesis de trabajo preferidas (artrokinemática, neurodinámica, emocionales, etc.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2876400" y="0"/>
          <a:ext cx="3391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0"/>
                    <a:ext cx="3391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685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Proceso de obtención de informació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El paciente es parte de él, y por ello es tan importante el traspaso de información hacia é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Aspecto subjetivo (sintomatologí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Aspecto objetivo (validez de una prueb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omic Sans MS"/>
              </a:rPr>
              <a:t>Conducta de la sintomatología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portamiento temporal (duración y fluctuaciones de ella a corto y largo plaz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ductas que la agrav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ductas que producen aliv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Ubicación topográf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tensidad (E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evolutivo, donde cambia el paciente, el tratante, la sintomatología, el ambiente laboral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 extraño encontrar entidades puras, desde el punto de vista clín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uidado con los exámenes que arrojan falsos positivos y falsos negativos (30% de pacientes asintomáticos arrojaron + una RNM, con Dg. de prolapso disc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77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a entrevista permite definir el perfil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ermite identificar las potencialidades y limitaciones funcionales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ermite distinguir si el componente doloroso es de preferencia mecánico o quím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bservación es básica, desde el ingreso del paciente a la consul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Comic Sans MS"/>
              </a:rPr>
              <a:t>Dolor químic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cturno const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igidez matinal &gt; 2 h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/cambios con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lteraciones de su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Dolor mecá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termi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igidez matinal de sólo min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minuye con el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 se despierta por el d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ceso de pensamiento, análisis y toma de decisiones, que es parte de la práctica clí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egún Butler nace de una mezcla entre lo mejor de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erapias actu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ción terapeuta/pac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Object 8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Indicadores de cuadro sistém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58720" y="1676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icio en mayores de 45 añ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auseas, vómitos, diarrea, fieb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storia previa de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abdominal y lumbar en un mismo ni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Debilidad muscular sever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sin cambios con el re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causa sufri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se modifica con la ingesta de alim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olor que no cambia con los mov. de colum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xamen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tre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bser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ovimientos activos, pasivos, resist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rés ligament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ponentes meníng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xamen neurológico (dermatomas, miotom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ueba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rteria verteb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Neurodina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uadr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ha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i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longación muscu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pidemiologí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7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 deportistas de alto nivel existe una mayor incidencia de patología dolorosa de columna y además de mayor seve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olsos no deben superar el 10% del peso corporal en niños y adolesc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67% de esquiadores de alto nivel entre 15 y 19 años presentan lumbal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pidemiologí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427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pondilol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perlaxitud e inest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portes de bajo imp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Picture 8" descr=""/>
          <p:cNvPicPr/>
          <p:nvPr/>
        </p:nvPicPr>
        <p:blipFill>
          <a:blip r:embed="rId3"/>
          <a:stretch/>
        </p:blipFill>
        <p:spPr>
          <a:xfrm>
            <a:off x="1258920" y="1547640"/>
            <a:ext cx="2373120" cy="531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23288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6" name="Object 3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6" descr=""/>
          <p:cNvPicPr/>
          <p:nvPr/>
        </p:nvPicPr>
        <p:blipFill>
          <a:blip r:embed="rId3"/>
          <a:stretch/>
        </p:blipFill>
        <p:spPr>
          <a:xfrm>
            <a:off x="0" y="2324160"/>
            <a:ext cx="5292720" cy="2274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4"/>
          <a:stretch/>
        </p:blipFill>
        <p:spPr>
          <a:xfrm>
            <a:off x="5796000" y="1982880"/>
            <a:ext cx="27385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stabilización centr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3" name="Picture 6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2284200" cy="4927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4"/>
          <a:stretch/>
        </p:blipFill>
        <p:spPr>
          <a:xfrm>
            <a:off x="4626000" y="1700280"/>
            <a:ext cx="318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Ci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iencia Bá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rcadores de 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 por 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ctividad sináp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eurotransmi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dicadores del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erapias actuales: punto de vista eclé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ción terapeuta/paciente: examen clínico  subjetivo y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mpat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finición del dolor (IASP): Enfoque bio-sico-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omponentes del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Conocimiento de base: Anatomía, biomecánica, fisiología, fisiopatología, fisiología del ejercicio. Sistemas límbico y reticular, eje hipotálamo-hipofisiari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Habilidades cognitivas (análisis y síntesis): Relacionar, descartar, priorizar, toma de decisiones terapéutic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Metacognición: Evaluación del proceso integr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onceptos bás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496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Factores Físic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Dolor crónico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mied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Factores sicosociales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creenci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labora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omic Sans MS"/>
              </a:rPr>
              <a:t>Zona gris en la práctica clínica: conocimiento parcial (patoanatomía o patofisiología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615960" cy="1035000"/>
          </a:xfrm>
          <a:prstGeom prst="rect">
            <a:avLst/>
          </a:prstGeom>
          <a:ln w="0">
            <a:noFill/>
          </a:ln>
        </p:spPr>
      </p:pic>
      <p:sp>
        <p:nvSpPr>
          <p:cNvPr id="107" name="Line 7"/>
          <p:cNvSpPr/>
          <p:nvPr/>
        </p:nvSpPr>
        <p:spPr>
          <a:xfrm flipV="1">
            <a:off x="7010280" y="27432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70102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7010280" y="312408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2590920" y="213372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2590920" y="259092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nfoques de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Método hipotético - dedu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nálisis de todas las posibles fuentes de sintomat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ecauciones o contraind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ipótesis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Enfoques de razona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Método indu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similación del cuadro a patrones similares que han sido observados previ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mpleado por exper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quiere menos tiem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Categorías de 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Fuentes de la sintomat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e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nó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Factores contribuy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eca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f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atobi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falta de conocimiento en alguna categoría puede provocar el colapso del proceso de razonamiento.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28600" y="0"/>
          <a:ext cx="847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47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Cano</cp:lastModifiedBy>
  <dcterms:modified xsi:type="dcterms:W3CDTF">2010-08-31T00:10:53Z</dcterms:modified>
  <cp:revision>36</cp:revision>
  <dc:subject/>
  <dc:title>RAZONAMIENTO CLÍNICO</dc:title>
</cp:coreProperties>
</file>