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9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37.jpeg" ContentType="image/jpeg"/>
  <Override PartName="/ppt/media/image30.png" ContentType="image/png"/>
  <Override PartName="/ppt/media/image13.jpeg" ContentType="image/jpeg"/>
  <Override PartName="/ppt/media/image4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A83-048A-4FCD-A745-9756FF16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3B3-3067-4395-B037-C0C96E67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4BD0-4615-46D1-8882-15B99F89F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649-091F-4A95-993E-0BB6B22E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E476-CFEC-4A42-84CE-1234D5B8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562B-C563-4E60-9D1B-2EAA3D14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8EF7-814B-4F46-ACD6-89375E17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EF21-263B-41A3-95CF-9EB8F402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09C5-8A5F-42A9-AD22-C44E3BEE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D9FB-C414-44BA-B71B-E4274103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564E-4A15-4F31-A24E-DA23CC16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2FF-F532-49E9-BFA9-333FEACE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88A-E433-44DB-BE28-B95BFFD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9D14-979F-41AE-98DF-F68D15BB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DE90-AC22-4055-B1E5-E632C278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6A25-55A5-4FF2-B528-3E0ECE7E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1EDE-B295-4870-8D3C-D50C4A88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8AB5-70B1-41E8-8ED1-743F368D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8171-8FDB-4B53-A73C-18C965A4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BCB41-F521-4348-854A-1A36ADD1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0AC7E-9924-4BAC-B001-58E72F2E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C840-6251-43C7-9A3A-38649A0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518-8105-4791-9CBC-09B46C95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0C25F-46C5-4BBF-B337-89971045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169A5-7F87-47A6-941E-52EFDC33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C92AB-23E4-444C-9292-DBA5F57F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84AD3-7E00-4B57-97E2-F8D39DF3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3A627-AF2F-43D2-BF31-182FE93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972F-A914-46F4-97A5-3F439B96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FA20F-6BCD-438E-81F9-6A12ACFC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7C6-B3BD-48E5-8372-F095E05F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6EC-ED02-438F-ACB3-AF84AFE0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A5B3-E40F-423F-95D1-1E729389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973-7E91-4448-BF1C-8AE8820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F20-878D-45EF-A56C-2617CB6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6A4-F4DD-4F60-A5CF-21CDFFA8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2747D-F59E-4C84-98EC-346100B2B4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BD2C-38F1-4C3C-83DB-D6BB0DD559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2107-EAAB-4C53-934E-FBF8CAECCE6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nejo de Lesiones de Extremidad Inf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40" y="616536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inesiología del Deport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Complejo Ligamentoso lat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ankle_sprain_anat02"/>
          <p:cNvPicPr/>
          <p:nvPr/>
        </p:nvPicPr>
        <p:blipFill>
          <a:blip r:embed="rId1"/>
          <a:stretch/>
        </p:blipFill>
        <p:spPr>
          <a:xfrm>
            <a:off x="1403280" y="2205000"/>
            <a:ext cx="6948720" cy="434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ista anterior del tobi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ankle_sprain_anat01"/>
          <p:cNvPicPr/>
          <p:nvPr/>
        </p:nvPicPr>
        <p:blipFill>
          <a:blip r:embed="rId1"/>
          <a:stretch/>
        </p:blipFill>
        <p:spPr>
          <a:xfrm>
            <a:off x="2124000" y="1930320"/>
            <a:ext cx="5862600" cy="488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cuela de las lesiones ligamentos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á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ankle_syndesmosis_symptoms02"/>
          <p:cNvPicPr/>
          <p:nvPr/>
        </p:nvPicPr>
        <p:blipFill>
          <a:blip r:embed="rId1"/>
          <a:stretch/>
        </p:blipFill>
        <p:spPr>
          <a:xfrm>
            <a:off x="2987640" y="2205000"/>
            <a:ext cx="5538960" cy="4152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S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152280" y="15228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304920" y="304920"/>
            <a:ext cx="1390680" cy="191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4"/>
          <a:stretch/>
        </p:blipFill>
        <p:spPr>
          <a:xfrm>
            <a:off x="2127240" y="1600200"/>
            <a:ext cx="56786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 "/>
          <p:cNvPicPr/>
          <p:nvPr/>
        </p:nvPicPr>
        <p:blipFill>
          <a:blip r:embed="rId1"/>
          <a:stretch/>
        </p:blipFill>
        <p:spPr>
          <a:xfrm>
            <a:off x="1619280" y="1863720"/>
            <a:ext cx="6659640" cy="499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ón de sindesm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 "/>
          <p:cNvPicPr/>
          <p:nvPr/>
        </p:nvPicPr>
        <p:blipFill>
          <a:blip r:embed="rId1"/>
          <a:stretch/>
        </p:blipFill>
        <p:spPr>
          <a:xfrm>
            <a:off x="0" y="2852640"/>
            <a:ext cx="4859280" cy="36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 "/>
          <p:cNvPicPr/>
          <p:nvPr/>
        </p:nvPicPr>
        <p:blipFill>
          <a:blip r:embed="rId2"/>
          <a:stretch/>
        </p:blipFill>
        <p:spPr>
          <a:xfrm>
            <a:off x="4788000" y="1773360"/>
            <a:ext cx="4356000" cy="326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 "/>
          <p:cNvPicPr/>
          <p:nvPr/>
        </p:nvPicPr>
        <p:blipFill>
          <a:blip r:embed="rId1"/>
          <a:stretch/>
        </p:blipFill>
        <p:spPr>
          <a:xfrm>
            <a:off x="1476360" y="1557360"/>
            <a:ext cx="5897520" cy="516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0000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Lesiones ligamentosas rod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knee_pcl_intro01"/>
          <p:cNvPicPr/>
          <p:nvPr/>
        </p:nvPicPr>
        <p:blipFill>
          <a:blip r:embed="rId1"/>
          <a:stretch/>
        </p:blipFill>
        <p:spPr>
          <a:xfrm>
            <a:off x="187200" y="2133720"/>
            <a:ext cx="4305600" cy="4390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 "/>
          <p:cNvPicPr/>
          <p:nvPr/>
        </p:nvPicPr>
        <p:blipFill>
          <a:blip r:embed="rId2"/>
          <a:stretch/>
        </p:blipFill>
        <p:spPr>
          <a:xfrm>
            <a:off x="4643280" y="2017800"/>
            <a:ext cx="4500720" cy="45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 "/>
          <p:cNvPicPr/>
          <p:nvPr/>
        </p:nvPicPr>
        <p:blipFill>
          <a:blip r:embed="rId1"/>
          <a:stretch/>
        </p:blipFill>
        <p:spPr>
          <a:xfrm>
            <a:off x="395280" y="1838160"/>
            <a:ext cx="4537080" cy="4537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 "/>
          <p:cNvPicPr/>
          <p:nvPr/>
        </p:nvPicPr>
        <p:blipFill>
          <a:blip r:embed="rId2"/>
          <a:stretch/>
        </p:blipFill>
        <p:spPr>
          <a:xfrm>
            <a:off x="4788000" y="2087640"/>
            <a:ext cx="4356000" cy="43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escudo%20color"/>
          <p:cNvPicPr/>
          <p:nvPr/>
        </p:nvPicPr>
        <p:blipFill>
          <a:blip r:embed="rId3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knee_hamstring_diagnosis01"/>
          <p:cNvPicPr/>
          <p:nvPr/>
        </p:nvPicPr>
        <p:blipFill>
          <a:blip r:embed="rId1"/>
          <a:stretch/>
        </p:blipFill>
        <p:spPr>
          <a:xfrm>
            <a:off x="2340000" y="177336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393120" y="2195640"/>
            <a:ext cx="8672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bjective, Objective, Assessment and Pl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nee_hamstring_diagnosis02"/>
          <p:cNvPicPr/>
          <p:nvPr/>
        </p:nvPicPr>
        <p:blipFill>
          <a:blip r:embed="rId1"/>
          <a:stretch/>
        </p:blipFill>
        <p:spPr>
          <a:xfrm>
            <a:off x="212400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uscu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knee_hamstring_diagnosis03"/>
          <p:cNvPicPr/>
          <p:nvPr/>
        </p:nvPicPr>
        <p:blipFill>
          <a:blip r:embed="rId1"/>
          <a:stretch/>
        </p:blipFill>
        <p:spPr>
          <a:xfrm>
            <a:off x="1692360" y="1628640"/>
            <a:ext cx="5184720" cy="5185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 "/>
          <p:cNvPicPr/>
          <p:nvPr/>
        </p:nvPicPr>
        <p:blipFill>
          <a:blip r:embed="rId1"/>
          <a:stretch/>
        </p:blipFill>
        <p:spPr>
          <a:xfrm>
            <a:off x="5657760" y="177336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 "/>
          <p:cNvPicPr/>
          <p:nvPr/>
        </p:nvPicPr>
        <p:blipFill>
          <a:blip r:embed="rId2"/>
          <a:stretch/>
        </p:blipFill>
        <p:spPr>
          <a:xfrm>
            <a:off x="0" y="3610080"/>
            <a:ext cx="3060720" cy="306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nee_itb_symptoms01"/>
          <p:cNvPicPr/>
          <p:nvPr/>
        </p:nvPicPr>
        <p:blipFill>
          <a:blip r:embed="rId3"/>
          <a:stretch/>
        </p:blipFill>
        <p:spPr>
          <a:xfrm>
            <a:off x="3203640" y="1916280"/>
            <a:ext cx="2533680" cy="44654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Sindrome banda iliotib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escudo%20color"/>
          <p:cNvPicPr/>
          <p:nvPr/>
        </p:nvPicPr>
        <p:blipFill>
          <a:blip r:embed="rId4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menisc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 "/>
          <p:cNvPicPr/>
          <p:nvPr/>
        </p:nvPicPr>
        <p:blipFill>
          <a:blip r:embed="rId2"/>
          <a:stretch/>
        </p:blipFill>
        <p:spPr>
          <a:xfrm>
            <a:off x="0" y="3379680"/>
            <a:ext cx="4140360" cy="3362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 "/>
          <p:cNvPicPr/>
          <p:nvPr/>
        </p:nvPicPr>
        <p:blipFill>
          <a:blip r:embed="rId3"/>
          <a:stretch/>
        </p:blipFill>
        <p:spPr>
          <a:xfrm>
            <a:off x="4470480" y="19890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3" descr=" "/>
          <p:cNvPicPr/>
          <p:nvPr/>
        </p:nvPicPr>
        <p:blipFill>
          <a:blip r:embed="rId1"/>
          <a:stretch/>
        </p:blipFill>
        <p:spPr>
          <a:xfrm>
            <a:off x="0" y="2451240"/>
            <a:ext cx="3995640" cy="3995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5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 "/>
          <p:cNvPicPr/>
          <p:nvPr/>
        </p:nvPicPr>
        <p:blipFill>
          <a:blip r:embed="rId3"/>
          <a:stretch/>
        </p:blipFill>
        <p:spPr>
          <a:xfrm>
            <a:off x="3780000" y="3084480"/>
            <a:ext cx="5113080" cy="3054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Malalineamiento rotul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 "/>
          <p:cNvPicPr/>
          <p:nvPr/>
        </p:nvPicPr>
        <p:blipFill>
          <a:blip r:embed="rId2"/>
          <a:stretch/>
        </p:blipFill>
        <p:spPr>
          <a:xfrm>
            <a:off x="4643280" y="3610080"/>
            <a:ext cx="4500720" cy="3063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knee_patella_cause01"/>
          <p:cNvPicPr/>
          <p:nvPr/>
        </p:nvPicPr>
        <p:blipFill>
          <a:blip r:embed="rId3"/>
          <a:stretch/>
        </p:blipFill>
        <p:spPr>
          <a:xfrm>
            <a:off x="468360" y="2708280"/>
            <a:ext cx="4025880" cy="4025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116676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uebas clínicas conf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4500720" y="1998720"/>
            <a:ext cx="464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xtensión terminal 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pren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Bajada de pi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0" y="3341520"/>
            <a:ext cx="4329000" cy="325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"/>
          <p:cNvPicPr/>
          <p:nvPr/>
        </p:nvPicPr>
        <p:blipFill>
          <a:blip r:embed="rId3"/>
          <a:stretch/>
        </p:blipFill>
        <p:spPr>
          <a:xfrm>
            <a:off x="0" y="2852640"/>
            <a:ext cx="4373640" cy="325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"/>
          <p:cNvPicPr/>
          <p:nvPr/>
        </p:nvPicPr>
        <p:blipFill>
          <a:blip r:embed="rId4"/>
          <a:stretch/>
        </p:blipFill>
        <p:spPr>
          <a:xfrm>
            <a:off x="826920" y="1928880"/>
            <a:ext cx="3465720" cy="4929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 "/>
          <p:cNvPicPr/>
          <p:nvPr/>
        </p:nvPicPr>
        <p:blipFill>
          <a:blip r:embed="rId2"/>
          <a:stretch/>
        </p:blipFill>
        <p:spPr>
          <a:xfrm>
            <a:off x="1258920" y="1916280"/>
            <a:ext cx="6300720" cy="4733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endinit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 "/>
          <p:cNvPicPr/>
          <p:nvPr/>
        </p:nvPicPr>
        <p:blipFill>
          <a:blip r:embed="rId2"/>
          <a:stretch/>
        </p:blipFill>
        <p:spPr>
          <a:xfrm>
            <a:off x="1763640" y="1844640"/>
            <a:ext cx="63025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8064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untos de acupun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1042920" y="1773360"/>
            <a:ext cx="66978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Evidencia  clase 1A para  la P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so en KDEP y formas de utiliz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rincipios binario, quinario y práctica occid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su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396000" y="2195640"/>
            <a:ext cx="3181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b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or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football"/>
          <p:cNvPicPr/>
          <p:nvPr/>
        </p:nvPicPr>
        <p:blipFill>
          <a:blip r:embed="rId2"/>
          <a:stretch/>
        </p:blipFill>
        <p:spPr>
          <a:xfrm>
            <a:off x="4500720" y="3429000"/>
            <a:ext cx="4032000" cy="322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B: 2mm ángulo ungueal interno del hall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B: depresión distal a la base de 4º M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6B: 3 cun superior al maléolo tibial en borde posterior de la tib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B: borde de cóndilo medial de ti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B: región inguinal, lateral a arteria fem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1B: 6 cun inferior al borde de la axila, en la línea medio axila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5" name="Picture 11" descr="SP1 . Yin Bai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7V:unión de los vientres de los gastrocnemios con el tendón aquilia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0V: depresión entre el maléolo peroneo y el tendón aquili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62V: depresión inferior al extremo del maléolo perone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7V:2 mm del ángulo ungueal externo del 5º orte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48" name="Rectangle 4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Picture 6" descr="BL23 . Shen Sh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5486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R: 13 anterior de la planta del pie entre el 2º y 3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R: punto medio entre el punto más prominente del maléolo tibial y el tendón aquili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R: anterior a la inserción medial del tendón aquil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6R: 1 cun inferior al borde del maléolo tib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10R: depresión entre tendones de semimembranoso y semitendinoso con rodilla flexio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27R: borde inferior de la clavícula, 2 cun lateral al plano sagital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12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3" name="Rectangle 9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6"/>
          <p:cNvGrpSpPr/>
          <p:nvPr/>
        </p:nvGrpSpPr>
        <p:grpSpPr>
          <a:xfrm>
            <a:off x="1670040" y="1120680"/>
            <a:ext cx="5803920" cy="4481640"/>
            <a:chOff x="1670040" y="1120680"/>
            <a:chExt cx="5803920" cy="4481640"/>
          </a:xfrm>
        </p:grpSpPr>
        <p:sp>
          <p:nvSpPr>
            <p:cNvPr id="256" name="Rectangle 13"/>
            <p:cNvSpPr/>
            <p:nvPr/>
          </p:nvSpPr>
          <p:spPr>
            <a:xfrm>
              <a:off x="1670040" y="1120680"/>
              <a:ext cx="58039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"/>
            <p:cNvSpPr/>
            <p:nvPr/>
          </p:nvSpPr>
          <p:spPr>
            <a:xfrm>
              <a:off x="1670040" y="1120680"/>
              <a:ext cx="5803920" cy="448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" sz="28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KI1 . Yong Qua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5257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37VB: cara lateral de la pierna 5 cun superior al maléolo peron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9VB: cara lateral de la pierna 3 cun superior al maléolo peron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41VB: dorso del pie, depresión entre las bases del 4º y 5º MT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44VB: cara lateral del 4º ortejo, a 2 mm del ángulo ungueal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7" descr="GB32 . Zhong Du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56516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H: cara lateral del dorso del ortejo mayor a 2 mm del áng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3H: dorso del pie, entre el 1</a:t>
            </a:r>
            <a:r>
              <a:rPr b="1" lang="es-ES" sz="2800" spc="-1" strike="noStrike" baseline="30000">
                <a:solidFill>
                  <a:srgbClr val="ff0000"/>
                </a:solidFill>
                <a:latin typeface="Arial"/>
              </a:rPr>
              <a:t>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 y 2º MTT, 2 cun proximal al pliegue de piel intredig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5H: cara posterior del borde tibial, 5 cun proximal al maléolo tib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8H: cara medial del muslo; 4 cun proximal al cóndilo femoral, entre los tendones del sartorio y del vasto me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4H: línea medio clavicular en el 6º espacio intercost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9" descr="LR1 . Da Dun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Vendaje fun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knee_taping_5"/>
          <p:cNvPicPr/>
          <p:nvPr/>
        </p:nvPicPr>
        <p:blipFill>
          <a:blip r:embed="rId1"/>
          <a:stretch/>
        </p:blipFill>
        <p:spPr>
          <a:xfrm>
            <a:off x="2916360" y="2349360"/>
            <a:ext cx="4027320" cy="37594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xamen 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395280" y="2195640"/>
            <a:ext cx="4333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angos de mov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í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e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d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tretch/>
        </p:blipFill>
        <p:spPr>
          <a:xfrm>
            <a:off x="3881520" y="3289320"/>
            <a:ext cx="4578120" cy="2948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396000" y="2195640"/>
            <a:ext cx="4175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ructuras dañ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veridad de la l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tas (largo 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rto plaz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393480" y="2195640"/>
            <a:ext cx="731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g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is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recuencia y duración del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tos de control de 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riterios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ankle_cryo_cuff2"/>
          <p:cNvPicPr/>
          <p:nvPr/>
        </p:nvPicPr>
        <p:blipFill>
          <a:blip r:embed="rId2"/>
          <a:stretch/>
        </p:blipFill>
        <p:spPr>
          <a:xfrm>
            <a:off x="6299280" y="1268280"/>
            <a:ext cx="2449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72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rotocolo de evaluación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e le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escudo%20color"/>
          <p:cNvPicPr/>
          <p:nvPr/>
        </p:nvPicPr>
        <p:blipFill>
          <a:blip r:embed="rId1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49320" y="2728800"/>
            <a:ext cx="8611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l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de estr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neurológ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uebas funcionales específicas al de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eca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v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nó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esiones Ligamentos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anejo agu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 "/>
          <p:cNvPicPr/>
          <p:nvPr/>
        </p:nvPicPr>
        <p:blipFill>
          <a:blip r:embed="rId1"/>
          <a:stretch/>
        </p:blipFill>
        <p:spPr>
          <a:xfrm>
            <a:off x="4067280" y="1484280"/>
            <a:ext cx="4740120" cy="537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escudo%20color"/>
          <p:cNvPicPr/>
          <p:nvPr/>
        </p:nvPicPr>
        <p:blipFill>
          <a:blip r:embed="rId2"/>
          <a:srcRect l="21694" t="0" r="21694" b="14293"/>
          <a:stretch/>
        </p:blipFill>
        <p:spPr>
          <a:xfrm>
            <a:off x="0" y="0"/>
            <a:ext cx="1390680" cy="1916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14:17:20Z</dcterms:created>
  <dc:creator>Medicina</dc:creator>
  <dc:description/>
  <dc:language>en-US</dc:language>
  <cp:lastModifiedBy>Marcelo Cano</cp:lastModifiedBy>
  <dcterms:modified xsi:type="dcterms:W3CDTF">2010-08-24T03:28:04Z</dcterms:modified>
  <cp:revision>47</cp:revision>
  <dc:subject/>
  <dc:title>Manejo de Lesiones de Extremidad Inferior</dc:title>
</cp:coreProperties>
</file>