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9.png" ContentType="image/png"/>
  <Override PartName="/ppt/media/image12.jpeg" ContentType="image/jpeg"/>
  <Override PartName="/ppt/media/image29.jpeg" ContentType="image/jpeg"/>
  <Override PartName="/ppt/media/image10.jpeg" ContentType="image/jpeg"/>
  <Override PartName="/ppt/media/image37.jpeg" ContentType="image/jpeg"/>
  <Override PartName="/ppt/media/image30.png" ContentType="image/png"/>
  <Override PartName="/ppt/media/image13.jpeg" ContentType="image/jpeg"/>
  <Override PartName="/ppt/media/image40.jpeg" ContentType="image/jpeg"/>
  <Override PartName="/ppt/media/image31.png" ContentType="image/pn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02F-0DFA-428C-AFC5-AAEE31A8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EA1D-862D-4EE8-80CE-D1E2B5F0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2FC-6484-4AB0-AA94-2B5DFDB4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7AA-972E-4578-AEC0-D72B7107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150A-DB56-4405-BB33-9BA7CD06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2D9D-3B17-4B4B-81AF-51253113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634A-E3F5-42D5-BCA3-D9EA8D16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C1C2-3F57-4D9A-90E8-34EF11B2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F2F1-1279-4721-A838-54AF2978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1FEE-78BB-4739-B703-37C8B2C7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7F9A-9851-49F0-A565-F61158E7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BF93-EFC8-453B-B885-C90EAD14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F5EB-6CCF-45A3-8007-328FE538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1BA8-4DB2-4D02-A4AE-B3096E7F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9269-2471-4670-9D3E-5C3FA662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6EF1-29EA-49E6-A2E7-145A6E36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ABC5-A0FD-45FA-8F2B-E2E94D11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360B-6F31-4695-8EF8-5A2FBDE7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0E00D-C23E-4FF6-AFBC-1F16AF4E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2F506-0AAE-4C5B-9687-78EA7823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A7674-661B-4176-A131-B0A70D41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7D478-4339-4808-8386-7A8A3FA8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C772-E3BF-4A25-9573-5F0FD093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7D942-2D99-443F-ADD9-BC283EF2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C0642-547A-4FDE-A91B-AFB2AC3D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8B67E-3D4B-4F67-897F-7793E2FE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74EA7-903C-497F-B81F-E58D3072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38558-B20B-43AA-80C3-85C23F64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01EF8-F1C8-4D0E-B6B4-57476905B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AB2C5-2C70-4FCF-9436-93AF6650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60B-2DBB-4C4E-B28C-55F679AC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B99-DF56-4570-8A09-A1F4C355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0B74-ECFF-4C14-B3AF-6545A711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7D80-BA90-41B1-806E-1261E234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065A-E87A-493A-8C17-973F2DD5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4D3D-7898-4A6B-A5B5-46D94207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91FD-4D54-4481-866F-DAA8612786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EDAB-E0CD-4018-9B8B-D7764819992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9EC4-56E2-45F2-B0F5-BD5F422BAE5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anejo de Lesiones de Extremidad Infer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2840" y="616536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Kinesiología del Deport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omplejo Ligamentoso late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kle_sprain_anat02"/>
          <p:cNvPicPr/>
          <p:nvPr/>
        </p:nvPicPr>
        <p:blipFill>
          <a:blip r:embed="rId1"/>
          <a:stretch/>
        </p:blipFill>
        <p:spPr>
          <a:xfrm>
            <a:off x="1403280" y="2205000"/>
            <a:ext cx="6948720" cy="4343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Vista anterior del tob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ankle_sprain_anat01"/>
          <p:cNvPicPr/>
          <p:nvPr/>
        </p:nvPicPr>
        <p:blipFill>
          <a:blip r:embed="rId1"/>
          <a:stretch/>
        </p:blipFill>
        <p:spPr>
          <a:xfrm>
            <a:off x="2124000" y="1930320"/>
            <a:ext cx="5862600" cy="4883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ecuela de las lesiones ligamentos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306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ec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u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ankle_syndesmosis_symptoms02"/>
          <p:cNvPicPr/>
          <p:nvPr/>
        </p:nvPicPr>
        <p:blipFill>
          <a:blip r:embed="rId1"/>
          <a:stretch/>
        </p:blipFill>
        <p:spPr>
          <a:xfrm>
            <a:off x="2987640" y="2205000"/>
            <a:ext cx="5538960" cy="4152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scudo%20color"/>
          <p:cNvPicPr/>
          <p:nvPr/>
        </p:nvPicPr>
        <p:blipFill>
          <a:blip r:embed="rId3"/>
          <a:srcRect l="21694" t="0" r="21694" b="14293"/>
          <a:stretch/>
        </p:blipFill>
        <p:spPr>
          <a:xfrm>
            <a:off x="152280" y="15228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escudo%20color"/>
          <p:cNvPicPr/>
          <p:nvPr/>
        </p:nvPicPr>
        <p:blipFill>
          <a:blip r:embed="rId4"/>
          <a:srcRect l="21694" t="0" r="21694" b="14293"/>
          <a:stretch/>
        </p:blipFill>
        <p:spPr>
          <a:xfrm>
            <a:off x="304920" y="304920"/>
            <a:ext cx="1390680" cy="1915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EB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152280" y="15228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escudo%20color"/>
          <p:cNvPicPr/>
          <p:nvPr/>
        </p:nvPicPr>
        <p:blipFill>
          <a:blip r:embed="rId3"/>
          <a:srcRect l="21694" t="0" r="21694" b="14293"/>
          <a:stretch/>
        </p:blipFill>
        <p:spPr>
          <a:xfrm>
            <a:off x="304920" y="304920"/>
            <a:ext cx="1390680" cy="191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4"/>
          <a:stretch/>
        </p:blipFill>
        <p:spPr>
          <a:xfrm>
            <a:off x="2127240" y="1600200"/>
            <a:ext cx="567864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ón de sinde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 "/>
          <p:cNvPicPr/>
          <p:nvPr/>
        </p:nvPicPr>
        <p:blipFill>
          <a:blip r:embed="rId1"/>
          <a:stretch/>
        </p:blipFill>
        <p:spPr>
          <a:xfrm>
            <a:off x="1619280" y="1863720"/>
            <a:ext cx="6659640" cy="4994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ón de sinde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 "/>
          <p:cNvPicPr/>
          <p:nvPr/>
        </p:nvPicPr>
        <p:blipFill>
          <a:blip r:embed="rId1"/>
          <a:stretch/>
        </p:blipFill>
        <p:spPr>
          <a:xfrm>
            <a:off x="0" y="2852640"/>
            <a:ext cx="4859280" cy="364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 "/>
          <p:cNvPicPr/>
          <p:nvPr/>
        </p:nvPicPr>
        <p:blipFill>
          <a:blip r:embed="rId2"/>
          <a:stretch/>
        </p:blipFill>
        <p:spPr>
          <a:xfrm>
            <a:off x="4788000" y="1773360"/>
            <a:ext cx="4356000" cy="3268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escudo%20color"/>
          <p:cNvPicPr/>
          <p:nvPr/>
        </p:nvPicPr>
        <p:blipFill>
          <a:blip r:embed="rId3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4328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esiones ligamentosas rod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 "/>
          <p:cNvPicPr/>
          <p:nvPr/>
        </p:nvPicPr>
        <p:blipFill>
          <a:blip r:embed="rId1"/>
          <a:stretch/>
        </p:blipFill>
        <p:spPr>
          <a:xfrm>
            <a:off x="1476360" y="1557360"/>
            <a:ext cx="5897520" cy="5160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esiones ligamentosas rod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knee_pcl_intro01"/>
          <p:cNvPicPr/>
          <p:nvPr/>
        </p:nvPicPr>
        <p:blipFill>
          <a:blip r:embed="rId1"/>
          <a:stretch/>
        </p:blipFill>
        <p:spPr>
          <a:xfrm>
            <a:off x="187200" y="2133720"/>
            <a:ext cx="4305600" cy="4390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 "/>
          <p:cNvPicPr/>
          <p:nvPr/>
        </p:nvPicPr>
        <p:blipFill>
          <a:blip r:embed="rId2"/>
          <a:stretch/>
        </p:blipFill>
        <p:spPr>
          <a:xfrm>
            <a:off x="4643280" y="2017800"/>
            <a:ext cx="4500720" cy="450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escudo%20color"/>
          <p:cNvPicPr/>
          <p:nvPr/>
        </p:nvPicPr>
        <p:blipFill>
          <a:blip r:embed="rId3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ones musc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 "/>
          <p:cNvPicPr/>
          <p:nvPr/>
        </p:nvPicPr>
        <p:blipFill>
          <a:blip r:embed="rId1"/>
          <a:stretch/>
        </p:blipFill>
        <p:spPr>
          <a:xfrm>
            <a:off x="395280" y="1838160"/>
            <a:ext cx="4537080" cy="4537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 "/>
          <p:cNvPicPr/>
          <p:nvPr/>
        </p:nvPicPr>
        <p:blipFill>
          <a:blip r:embed="rId2"/>
          <a:stretch/>
        </p:blipFill>
        <p:spPr>
          <a:xfrm>
            <a:off x="4788000" y="2087640"/>
            <a:ext cx="4356000" cy="435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escudo%20color"/>
          <p:cNvPicPr/>
          <p:nvPr/>
        </p:nvPicPr>
        <p:blipFill>
          <a:blip r:embed="rId3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ones musc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knee_hamstring_diagnosis01"/>
          <p:cNvPicPr/>
          <p:nvPr/>
        </p:nvPicPr>
        <p:blipFill>
          <a:blip r:embed="rId1"/>
          <a:stretch/>
        </p:blipFill>
        <p:spPr>
          <a:xfrm>
            <a:off x="2340000" y="1773360"/>
            <a:ext cx="5040360" cy="5040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393120" y="2195640"/>
            <a:ext cx="8672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bjective, Objective, Assessment and Pl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amen su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amen 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3881520" y="3289320"/>
            <a:ext cx="4578120" cy="2948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ones musc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knee_hamstring_diagnosis02"/>
          <p:cNvPicPr/>
          <p:nvPr/>
        </p:nvPicPr>
        <p:blipFill>
          <a:blip r:embed="rId1"/>
          <a:stretch/>
        </p:blipFill>
        <p:spPr>
          <a:xfrm>
            <a:off x="2124000" y="1628640"/>
            <a:ext cx="5184720" cy="5185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ones musc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knee_hamstring_diagnosis03"/>
          <p:cNvPicPr/>
          <p:nvPr/>
        </p:nvPicPr>
        <p:blipFill>
          <a:blip r:embed="rId1"/>
          <a:stretch/>
        </p:blipFill>
        <p:spPr>
          <a:xfrm>
            <a:off x="1692360" y="1628640"/>
            <a:ext cx="5184720" cy="5185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 "/>
          <p:cNvPicPr/>
          <p:nvPr/>
        </p:nvPicPr>
        <p:blipFill>
          <a:blip r:embed="rId1"/>
          <a:stretch/>
        </p:blipFill>
        <p:spPr>
          <a:xfrm>
            <a:off x="5657760" y="177336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 "/>
          <p:cNvPicPr/>
          <p:nvPr/>
        </p:nvPicPr>
        <p:blipFill>
          <a:blip r:embed="rId2"/>
          <a:stretch/>
        </p:blipFill>
        <p:spPr>
          <a:xfrm>
            <a:off x="0" y="3610080"/>
            <a:ext cx="3060720" cy="306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nee_itb_symptoms01"/>
          <p:cNvPicPr/>
          <p:nvPr/>
        </p:nvPicPr>
        <p:blipFill>
          <a:blip r:embed="rId3"/>
          <a:stretch/>
        </p:blipFill>
        <p:spPr>
          <a:xfrm>
            <a:off x="3203640" y="1916280"/>
            <a:ext cx="2533680" cy="44654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806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Sindrome banda iliotib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escudo%20color"/>
          <p:cNvPicPr/>
          <p:nvPr/>
        </p:nvPicPr>
        <p:blipFill>
          <a:blip r:embed="rId4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5"/>
          <p:cNvSpPr/>
          <p:nvPr/>
        </p:nvSpPr>
        <p:spPr>
          <a:xfrm>
            <a:off x="806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ones meni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 "/>
          <p:cNvPicPr/>
          <p:nvPr/>
        </p:nvPicPr>
        <p:blipFill>
          <a:blip r:embed="rId2"/>
          <a:stretch/>
        </p:blipFill>
        <p:spPr>
          <a:xfrm>
            <a:off x="0" y="3379680"/>
            <a:ext cx="4140360" cy="3362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 "/>
          <p:cNvPicPr/>
          <p:nvPr/>
        </p:nvPicPr>
        <p:blipFill>
          <a:blip r:embed="rId3"/>
          <a:stretch/>
        </p:blipFill>
        <p:spPr>
          <a:xfrm>
            <a:off x="4470480" y="198900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3" descr=" "/>
          <p:cNvPicPr/>
          <p:nvPr/>
        </p:nvPicPr>
        <p:blipFill>
          <a:blip r:embed="rId1"/>
          <a:stretch/>
        </p:blipFill>
        <p:spPr>
          <a:xfrm>
            <a:off x="0" y="2451240"/>
            <a:ext cx="3995640" cy="3995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5"/>
          <p:cNvSpPr/>
          <p:nvPr/>
        </p:nvSpPr>
        <p:spPr>
          <a:xfrm>
            <a:off x="806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alalineamiento rotul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6" descr=" "/>
          <p:cNvPicPr/>
          <p:nvPr/>
        </p:nvPicPr>
        <p:blipFill>
          <a:blip r:embed="rId3"/>
          <a:stretch/>
        </p:blipFill>
        <p:spPr>
          <a:xfrm>
            <a:off x="3780000" y="3084480"/>
            <a:ext cx="5113080" cy="3054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806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alalineamiento rotul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 "/>
          <p:cNvPicPr/>
          <p:nvPr/>
        </p:nvPicPr>
        <p:blipFill>
          <a:blip r:embed="rId2"/>
          <a:stretch/>
        </p:blipFill>
        <p:spPr>
          <a:xfrm>
            <a:off x="4643280" y="3610080"/>
            <a:ext cx="4500720" cy="3063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knee_patella_cause01"/>
          <p:cNvPicPr/>
          <p:nvPr/>
        </p:nvPicPr>
        <p:blipFill>
          <a:blip r:embed="rId3"/>
          <a:stretch/>
        </p:blipFill>
        <p:spPr>
          <a:xfrm>
            <a:off x="468360" y="2708280"/>
            <a:ext cx="4025880" cy="4025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116676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uebas clínicas conf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F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4500720" y="1998720"/>
            <a:ext cx="4643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xtensión terminal 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pren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ajada de p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0" y="3341520"/>
            <a:ext cx="4329000" cy="3256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3"/>
          <a:stretch/>
        </p:blipFill>
        <p:spPr>
          <a:xfrm>
            <a:off x="0" y="2852640"/>
            <a:ext cx="4373640" cy="325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4"/>
          <a:stretch/>
        </p:blipFill>
        <p:spPr>
          <a:xfrm>
            <a:off x="826920" y="1928880"/>
            <a:ext cx="346572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806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endinit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 "/>
          <p:cNvPicPr/>
          <p:nvPr/>
        </p:nvPicPr>
        <p:blipFill>
          <a:blip r:embed="rId2"/>
          <a:stretch/>
        </p:blipFill>
        <p:spPr>
          <a:xfrm>
            <a:off x="1258920" y="1916280"/>
            <a:ext cx="6300720" cy="4733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806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endinit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 "/>
          <p:cNvPicPr/>
          <p:nvPr/>
        </p:nvPicPr>
        <p:blipFill>
          <a:blip r:embed="rId2"/>
          <a:stretch/>
        </p:blipFill>
        <p:spPr>
          <a:xfrm>
            <a:off x="1763640" y="1844640"/>
            <a:ext cx="6302520" cy="4734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806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untos de acupunt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042920" y="1773360"/>
            <a:ext cx="66978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videncia  clase 1A para  la P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so en KDEP y formas de utiliz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rincipios binario, quinario y práctica occid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xamen su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396000" y="2195640"/>
            <a:ext cx="3181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ínt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b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n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football"/>
          <p:cNvPicPr/>
          <p:nvPr/>
        </p:nvPicPr>
        <p:blipFill>
          <a:blip r:embed="rId2"/>
          <a:stretch/>
        </p:blipFill>
        <p:spPr>
          <a:xfrm>
            <a:off x="4500720" y="3429000"/>
            <a:ext cx="4032000" cy="3225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5486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B: 2mm ángulo ungueal interno del hall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B: depresión distal a la base de 4º M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6B: 3 cun superior al maléolo tibial en borde posterior de la tib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B: borde de cóndilo medial de ti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2B: región inguinal, lateral a arteria femo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1B: 6 cun inferior al borde de la axila, en la línea medio axila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2"/>
          <p:cNvGrpSpPr/>
          <p:nvPr/>
        </p:nvGrpSpPr>
        <p:grpSpPr>
          <a:xfrm>
            <a:off x="1670040" y="1120680"/>
            <a:ext cx="5803920" cy="4481640"/>
            <a:chOff x="1670040" y="1120680"/>
            <a:chExt cx="5803920" cy="4481640"/>
          </a:xfrm>
        </p:grpSpPr>
        <p:sp>
          <p:nvSpPr>
            <p:cNvPr id="243" name="Rectangle 9"/>
            <p:cNvSpPr/>
            <p:nvPr/>
          </p:nvSpPr>
          <p:spPr>
            <a:xfrm>
              <a:off x="1670040" y="1120680"/>
              <a:ext cx="5803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0"/>
            <p:cNvSpPr/>
            <p:nvPr/>
          </p:nvSpPr>
          <p:spPr>
            <a:xfrm>
              <a:off x="1670040" y="1120680"/>
              <a:ext cx="5803920" cy="44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" sz="28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" name="Picture 11" descr="SP1 . Yin Bai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5257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57V:unión de los vientres de los gastrocnemios con el tendón aquilia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60V: depresión entre el maléolo peroneo y el tendón aquil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62V: depresión inferior al extremo del maléolo perone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7V:2 mm del ángulo ungueal externo del 5º ort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1670040" y="1120680"/>
            <a:ext cx="5803920" cy="4481640"/>
            <a:chOff x="1670040" y="1120680"/>
            <a:chExt cx="5803920" cy="4481640"/>
          </a:xfrm>
        </p:grpSpPr>
        <p:sp>
          <p:nvSpPr>
            <p:cNvPr id="248" name="Rectangle 4"/>
            <p:cNvSpPr/>
            <p:nvPr/>
          </p:nvSpPr>
          <p:spPr>
            <a:xfrm>
              <a:off x="1670040" y="1120680"/>
              <a:ext cx="5803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5"/>
            <p:cNvSpPr/>
            <p:nvPr/>
          </p:nvSpPr>
          <p:spPr>
            <a:xfrm>
              <a:off x="1670040" y="1120680"/>
              <a:ext cx="5803920" cy="44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" sz="28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6" descr="BL23 . Shen Shu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5486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R: 13 anterior de la planta del pie entre el 2º y 3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M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3R: punto medio entre el punto más prominente del maléolo tibial y el tendón aquili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R: anterior a la inserción medial del tendón aquili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R: 1 cun inferior al borde del maléolo tib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10R: depresión entre tendones de semimembranoso y semitendinoso con rodilla flexio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7R: borde inferior de la clavícula, 2 cun lateral al plano sagital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2"/>
          <p:cNvGrpSpPr/>
          <p:nvPr/>
        </p:nvGrpSpPr>
        <p:grpSpPr>
          <a:xfrm>
            <a:off x="1670040" y="1120680"/>
            <a:ext cx="5803920" cy="4481640"/>
            <a:chOff x="1670040" y="1120680"/>
            <a:chExt cx="5803920" cy="4481640"/>
          </a:xfrm>
        </p:grpSpPr>
        <p:sp>
          <p:nvSpPr>
            <p:cNvPr id="253" name="Rectangle 9"/>
            <p:cNvSpPr/>
            <p:nvPr/>
          </p:nvSpPr>
          <p:spPr>
            <a:xfrm>
              <a:off x="1670040" y="1120680"/>
              <a:ext cx="5803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1670040" y="1120680"/>
              <a:ext cx="5803920" cy="44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" sz="28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6"/>
          <p:cNvGrpSpPr/>
          <p:nvPr/>
        </p:nvGrpSpPr>
        <p:grpSpPr>
          <a:xfrm>
            <a:off x="1670040" y="1120680"/>
            <a:ext cx="5803920" cy="4481640"/>
            <a:chOff x="1670040" y="1120680"/>
            <a:chExt cx="5803920" cy="4481640"/>
          </a:xfrm>
        </p:grpSpPr>
        <p:sp>
          <p:nvSpPr>
            <p:cNvPr id="256" name="Rectangle 13"/>
            <p:cNvSpPr/>
            <p:nvPr/>
          </p:nvSpPr>
          <p:spPr>
            <a:xfrm>
              <a:off x="1670040" y="1120680"/>
              <a:ext cx="5803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4"/>
            <p:cNvSpPr/>
            <p:nvPr/>
          </p:nvSpPr>
          <p:spPr>
            <a:xfrm>
              <a:off x="1670040" y="1120680"/>
              <a:ext cx="5803920" cy="44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" sz="28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KI1 . Yong Quan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5257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7VB: cara lateral de la pierna 5 cun superior al maléolo peron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39VB: cara lateral de la pierna 3 cun superior al maléolo pero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41VB: dorso del pie, depresión entre las bases del 4º y 5º MT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4VB: cara lateral del 4º ortejo, a 2 mm del ángulo ungueal ex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7" descr="GB32 . Zhong Du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56516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H: cara lateral del dorso del ortejo mayor a 2 mm del áng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3H: dorso del pie, entre el 1</a:t>
            </a:r>
            <a:r>
              <a:rPr b="1" lang="es-ES" sz="2800" spc="-1" strike="noStrike" baseline="30000">
                <a:solidFill>
                  <a:srgbClr val="ff0000"/>
                </a:solidFill>
                <a:latin typeface="Arial"/>
              </a:rPr>
              <a:t>e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y 2º MTT, 2 cun proximal al pliegue de piel intredig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5H: cara posterior del borde tibial, 5 cun proximal al maléolo tibi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8H: cara medial del muslo; 4 cun proximal al cóndilo femoral, entre los tendones del sartorio y del vasto med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4H: línea medio clavicular en el 6º espacio intercost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9" descr="LR1 . Da Dun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Vendaje fun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knee_taping_5"/>
          <p:cNvPicPr/>
          <p:nvPr/>
        </p:nvPicPr>
        <p:blipFill>
          <a:blip r:embed="rId1"/>
          <a:stretch/>
        </p:blipFill>
        <p:spPr>
          <a:xfrm>
            <a:off x="2916360" y="2349360"/>
            <a:ext cx="4027320" cy="37594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xamen 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395280" y="2195640"/>
            <a:ext cx="4333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angos de mov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í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er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d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3881520" y="3289320"/>
            <a:ext cx="4578120" cy="2948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3881520" y="3289320"/>
            <a:ext cx="4578120" cy="2948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396000" y="2195640"/>
            <a:ext cx="4175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ructuras dañ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veridad de la l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tas (largo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rto plaz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393480" y="2195640"/>
            <a:ext cx="7317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ign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isiotera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recuencia y duración del trat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itos de control de ev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iterios de 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ankle_cryo_cuff2"/>
          <p:cNvPicPr/>
          <p:nvPr/>
        </p:nvPicPr>
        <p:blipFill>
          <a:blip r:embed="rId2"/>
          <a:stretch/>
        </p:blipFill>
        <p:spPr>
          <a:xfrm>
            <a:off x="6299280" y="1268280"/>
            <a:ext cx="244944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72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tocolo de evaluación 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e l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49320" y="2728800"/>
            <a:ext cx="8611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serv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l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uebas fun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uebas de est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uebas neuroló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uebas funcionales específicas al de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ones Ligamento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ecan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v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nó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 "/>
          <p:cNvPicPr/>
          <p:nvPr/>
        </p:nvPicPr>
        <p:blipFill>
          <a:blip r:embed="rId1"/>
          <a:stretch/>
        </p:blipFill>
        <p:spPr>
          <a:xfrm>
            <a:off x="4067280" y="1484280"/>
            <a:ext cx="4740120" cy="5373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ones Ligamento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anejo agu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 "/>
          <p:cNvPicPr/>
          <p:nvPr/>
        </p:nvPicPr>
        <p:blipFill>
          <a:blip r:embed="rId1"/>
          <a:stretch/>
        </p:blipFill>
        <p:spPr>
          <a:xfrm>
            <a:off x="4067280" y="1484280"/>
            <a:ext cx="4740120" cy="5373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4:17:20Z</dcterms:created>
  <dc:creator>Medicina</dc:creator>
  <dc:description/>
  <dc:language>en-US</dc:language>
  <cp:lastModifiedBy>Marcelo Cano</cp:lastModifiedBy>
  <dcterms:modified xsi:type="dcterms:W3CDTF">2010-08-24T03:28:04Z</dcterms:modified>
  <cp:revision>47</cp:revision>
  <dc:subject/>
  <dc:title>Manejo de Lesiones de Extremidad Inferior</dc:title>
</cp:coreProperties>
</file>