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13.jpeg" ContentType="image/jpeg"/>
  <Override PartName="/ppt/media/image40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2BD-F979-4BAD-8BC4-8D3B1F1D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7D7-4FBC-491D-AD07-19597389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405-5453-4F38-AC63-2B8255F6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835-D2C8-49D9-B6AD-FD78524B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79C9-BB17-4FC1-A0D5-63A073FE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170-F1AB-42C5-85B7-F8FD2B4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DBC6-4355-4AEA-84B5-F1389727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BD7C-4C69-4490-A1C4-504396BA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2685-343B-4CC1-97CA-82B5391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5A01-525F-4978-97EE-8F99036F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FE94-AF30-4BCE-A71C-DBD494FE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763-0A2B-4F13-856F-7A10E0D0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807F-5D26-4E5F-BC7F-EDE0A11E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965C-3327-4B00-B782-D65D18A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F5A6-309E-4CAF-8A82-BE40C3EB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63FD-E716-4434-8A1B-C98963C8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E0DF-D3A9-48D0-8170-E9282DEA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55A70-A56E-4799-AE66-470B85CF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2C1D3-D92D-4DDA-9A08-DFE6020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5416-1531-4721-B317-89C540FC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C7C6-A3E4-435B-A18B-4F9045B5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D47F-B7AA-40E6-96E2-9CE268E7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240-CAA4-477D-8A5C-45CB0E4B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BE316-4725-461F-882D-63BE9CE2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3D03-098A-4163-A2DC-6408A6C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D39CD-C153-4288-9FCC-AF803D6A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AC50-CA9F-4CE7-BF11-7C7B539B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E442-4FD7-4840-BF18-B8B95B0B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3406-D71A-4785-8B51-F0B3D3F8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452C9-CEFD-4920-B533-310B6C18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921-736D-4C9F-B7DA-4BC0329D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DCD-0033-49C8-8AE8-28336E88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430-529F-44EC-82F6-586B72EA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0C0-03AF-46F4-8646-8324FAC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EEE-2CDD-44E0-A02A-F8D8478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644-D83A-40A7-922F-CC6D8AF0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AC88-5AD9-4B10-B8D1-CE3642F455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D92F-BFFA-48E5-86F6-B978F72188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BEE-0448-47EC-8621-F12CD24085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nejo de Lesiones de Extremidad Inf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40" y="6165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inesiología del Deport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mplejo Ligamentoso lat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kle_sprain_anat02"/>
          <p:cNvPicPr/>
          <p:nvPr/>
        </p:nvPicPr>
        <p:blipFill>
          <a:blip r:embed="rId1"/>
          <a:stretch/>
        </p:blipFill>
        <p:spPr>
          <a:xfrm>
            <a:off x="1403280" y="2205000"/>
            <a:ext cx="6948720" cy="434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Vista anterior del tob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kle_sprain_anat01"/>
          <p:cNvPicPr/>
          <p:nvPr/>
        </p:nvPicPr>
        <p:blipFill>
          <a:blip r:embed="rId1"/>
          <a:stretch/>
        </p:blipFill>
        <p:spPr>
          <a:xfrm>
            <a:off x="2124000" y="1930320"/>
            <a:ext cx="5862600" cy="488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cuela de las lesiones ligament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ankle_syndesmosis_symptoms02"/>
          <p:cNvPicPr/>
          <p:nvPr/>
        </p:nvPicPr>
        <p:blipFill>
          <a:blip r:embed="rId1"/>
          <a:stretch/>
        </p:blipFill>
        <p:spPr>
          <a:xfrm>
            <a:off x="2987640" y="2205000"/>
            <a:ext cx="5538960" cy="415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152280" y="15228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escudo%20color"/>
          <p:cNvPicPr/>
          <p:nvPr/>
        </p:nvPicPr>
        <p:blipFill>
          <a:blip r:embed="rId4"/>
          <a:srcRect l="21694" t="0" r="21694" b="14293"/>
          <a:stretch/>
        </p:blipFill>
        <p:spPr>
          <a:xfrm>
            <a:off x="304920" y="304920"/>
            <a:ext cx="1390680" cy="191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152280" y="15228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304920" y="304920"/>
            <a:ext cx="1390680" cy="191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4"/>
          <a:stretch/>
        </p:blipFill>
        <p:spPr>
          <a:xfrm>
            <a:off x="2127240" y="1600200"/>
            <a:ext cx="56786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ón de sinde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 "/>
          <p:cNvPicPr/>
          <p:nvPr/>
        </p:nvPicPr>
        <p:blipFill>
          <a:blip r:embed="rId1"/>
          <a:stretch/>
        </p:blipFill>
        <p:spPr>
          <a:xfrm>
            <a:off x="1619280" y="1863720"/>
            <a:ext cx="6659640" cy="499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ón de sinde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 "/>
          <p:cNvPicPr/>
          <p:nvPr/>
        </p:nvPicPr>
        <p:blipFill>
          <a:blip r:embed="rId1"/>
          <a:stretch/>
        </p:blipFill>
        <p:spPr>
          <a:xfrm>
            <a:off x="0" y="2852640"/>
            <a:ext cx="4859280" cy="364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 "/>
          <p:cNvPicPr/>
          <p:nvPr/>
        </p:nvPicPr>
        <p:blipFill>
          <a:blip r:embed="rId2"/>
          <a:stretch/>
        </p:blipFill>
        <p:spPr>
          <a:xfrm>
            <a:off x="4788000" y="1773360"/>
            <a:ext cx="4356000" cy="326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siones ligamentosas rod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 "/>
          <p:cNvPicPr/>
          <p:nvPr/>
        </p:nvPicPr>
        <p:blipFill>
          <a:blip r:embed="rId1"/>
          <a:stretch/>
        </p:blipFill>
        <p:spPr>
          <a:xfrm>
            <a:off x="1476360" y="1557360"/>
            <a:ext cx="5897520" cy="516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siones ligamentosas rod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knee_pcl_intro01"/>
          <p:cNvPicPr/>
          <p:nvPr/>
        </p:nvPicPr>
        <p:blipFill>
          <a:blip r:embed="rId1"/>
          <a:stretch/>
        </p:blipFill>
        <p:spPr>
          <a:xfrm>
            <a:off x="187200" y="2133720"/>
            <a:ext cx="4305600" cy="439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 "/>
          <p:cNvPicPr/>
          <p:nvPr/>
        </p:nvPicPr>
        <p:blipFill>
          <a:blip r:embed="rId2"/>
          <a:stretch/>
        </p:blipFill>
        <p:spPr>
          <a:xfrm>
            <a:off x="4643280" y="2017800"/>
            <a:ext cx="4500720" cy="450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 "/>
          <p:cNvPicPr/>
          <p:nvPr/>
        </p:nvPicPr>
        <p:blipFill>
          <a:blip r:embed="rId1"/>
          <a:stretch/>
        </p:blipFill>
        <p:spPr>
          <a:xfrm>
            <a:off x="395280" y="183816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 "/>
          <p:cNvPicPr/>
          <p:nvPr/>
        </p:nvPicPr>
        <p:blipFill>
          <a:blip r:embed="rId2"/>
          <a:stretch/>
        </p:blipFill>
        <p:spPr>
          <a:xfrm>
            <a:off x="4788000" y="2087640"/>
            <a:ext cx="4356000" cy="43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knee_hamstring_diagnosis01"/>
          <p:cNvPicPr/>
          <p:nvPr/>
        </p:nvPicPr>
        <p:blipFill>
          <a:blip r:embed="rId1"/>
          <a:stretch/>
        </p:blipFill>
        <p:spPr>
          <a:xfrm>
            <a:off x="2340000" y="177336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3120" y="2195640"/>
            <a:ext cx="86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, Objective, Assessment and Pl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knee_hamstring_diagnosis02"/>
          <p:cNvPicPr/>
          <p:nvPr/>
        </p:nvPicPr>
        <p:blipFill>
          <a:blip r:embed="rId1"/>
          <a:stretch/>
        </p:blipFill>
        <p:spPr>
          <a:xfrm>
            <a:off x="2124000" y="1628640"/>
            <a:ext cx="5184720" cy="518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knee_hamstring_diagnosis03"/>
          <p:cNvPicPr/>
          <p:nvPr/>
        </p:nvPicPr>
        <p:blipFill>
          <a:blip r:embed="rId1"/>
          <a:stretch/>
        </p:blipFill>
        <p:spPr>
          <a:xfrm>
            <a:off x="1692360" y="1628640"/>
            <a:ext cx="5184720" cy="518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 "/>
          <p:cNvPicPr/>
          <p:nvPr/>
        </p:nvPicPr>
        <p:blipFill>
          <a:blip r:embed="rId1"/>
          <a:stretch/>
        </p:blipFill>
        <p:spPr>
          <a:xfrm>
            <a:off x="5657760" y="177336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 "/>
          <p:cNvPicPr/>
          <p:nvPr/>
        </p:nvPicPr>
        <p:blipFill>
          <a:blip r:embed="rId2"/>
          <a:stretch/>
        </p:blipFill>
        <p:spPr>
          <a:xfrm>
            <a:off x="0" y="361008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nee_itb_symptoms01"/>
          <p:cNvPicPr/>
          <p:nvPr/>
        </p:nvPicPr>
        <p:blipFill>
          <a:blip r:embed="rId3"/>
          <a:stretch/>
        </p:blipFill>
        <p:spPr>
          <a:xfrm>
            <a:off x="3203640" y="1916280"/>
            <a:ext cx="2533680" cy="44654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indrome banda iliotib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escudo%20color"/>
          <p:cNvPicPr/>
          <p:nvPr/>
        </p:nvPicPr>
        <p:blipFill>
          <a:blip r:embed="rId4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eni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 "/>
          <p:cNvPicPr/>
          <p:nvPr/>
        </p:nvPicPr>
        <p:blipFill>
          <a:blip r:embed="rId2"/>
          <a:stretch/>
        </p:blipFill>
        <p:spPr>
          <a:xfrm>
            <a:off x="0" y="3379680"/>
            <a:ext cx="4140360" cy="3362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 "/>
          <p:cNvPicPr/>
          <p:nvPr/>
        </p:nvPicPr>
        <p:blipFill>
          <a:blip r:embed="rId3"/>
          <a:stretch/>
        </p:blipFill>
        <p:spPr>
          <a:xfrm>
            <a:off x="4470480" y="19890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3" descr=" "/>
          <p:cNvPicPr/>
          <p:nvPr/>
        </p:nvPicPr>
        <p:blipFill>
          <a:blip r:embed="rId1"/>
          <a:stretch/>
        </p:blipFill>
        <p:spPr>
          <a:xfrm>
            <a:off x="0" y="2451240"/>
            <a:ext cx="3995640" cy="399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lalineamiento rotu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 "/>
          <p:cNvPicPr/>
          <p:nvPr/>
        </p:nvPicPr>
        <p:blipFill>
          <a:blip r:embed="rId3"/>
          <a:stretch/>
        </p:blipFill>
        <p:spPr>
          <a:xfrm>
            <a:off x="3780000" y="3084480"/>
            <a:ext cx="5113080" cy="3054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lalineamiento rotu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 "/>
          <p:cNvPicPr/>
          <p:nvPr/>
        </p:nvPicPr>
        <p:blipFill>
          <a:blip r:embed="rId2"/>
          <a:stretch/>
        </p:blipFill>
        <p:spPr>
          <a:xfrm>
            <a:off x="4643280" y="3610080"/>
            <a:ext cx="4500720" cy="3063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knee_patella_cause01"/>
          <p:cNvPicPr/>
          <p:nvPr/>
        </p:nvPicPr>
        <p:blipFill>
          <a:blip r:embed="rId3"/>
          <a:stretch/>
        </p:blipFill>
        <p:spPr>
          <a:xfrm>
            <a:off x="468360" y="2708280"/>
            <a:ext cx="402588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11667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uebas clínicas conf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500720" y="1998720"/>
            <a:ext cx="464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xtensión terminal 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jada de p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0" y="3341520"/>
            <a:ext cx="4329000" cy="3256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0" y="2852640"/>
            <a:ext cx="4373640" cy="325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826920" y="1928880"/>
            <a:ext cx="346572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din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 "/>
          <p:cNvPicPr/>
          <p:nvPr/>
        </p:nvPicPr>
        <p:blipFill>
          <a:blip r:embed="rId2"/>
          <a:stretch/>
        </p:blipFill>
        <p:spPr>
          <a:xfrm>
            <a:off x="1258920" y="1916280"/>
            <a:ext cx="6300720" cy="473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din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 "/>
          <p:cNvPicPr/>
          <p:nvPr/>
        </p:nvPicPr>
        <p:blipFill>
          <a:blip r:embed="rId2"/>
          <a:stretch/>
        </p:blipFill>
        <p:spPr>
          <a:xfrm>
            <a:off x="1763640" y="1844640"/>
            <a:ext cx="63025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untos de acupun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042920" y="1773360"/>
            <a:ext cx="6697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videncia  clase 1A para  la P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so en KDEP y formas de utiliz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incipios binario, quinario y práctica occid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396000" y="2195640"/>
            <a:ext cx="3181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football"/>
          <p:cNvPicPr/>
          <p:nvPr/>
        </p:nvPicPr>
        <p:blipFill>
          <a:blip r:embed="rId2"/>
          <a:stretch/>
        </p:blipFill>
        <p:spPr>
          <a:xfrm>
            <a:off x="4500720" y="3429000"/>
            <a:ext cx="403200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B: 2mm ángulo ungueal interno del hall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B: depresión distal a la base de 4º M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6B: 3 cun superior al maléolo tibial en borde posterior de la ti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B: borde de cóndilo medial de ti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B: región inguinal, lateral a arteria fem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1B: 6 cun inferior al borde de la axila, en la línea medio axila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2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43" name="Rectangle 9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11" descr="SP1 . Yin Bai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57V:unión de los vientres de los gastrocnemios con el tendón aquili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0V: depresión entre el maléolo peroneo y el tendón aquil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2V: depresión inferior al extremo del maléolo perone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7V:2 mm del ángulo ungueal externo del 5º ort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48" name="Rectangle 4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6" descr="BL23 . Shen Shu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R: 13 anterior de la planta del pie entre el 2º y 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R: punto medio entre el punto más prominente del maléolo tibial y el tendón aquil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R: anterior a la inserción medial del tendón aquil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R: 1 cun inferior al borde del maléolo tib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0R: depresión entre tendones de semimembranoso y semitendinoso con rodilla flexio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7R: borde inferior de la clavícula, 2 cun lateral al plano sag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53" name="Rectangle 9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6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56" name="Rectangle 13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KI1 . Yong Quan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7VB: cara lateral de la pierna 5 cun superior al maléolo peron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9VB: cara lateral de la pierna 3 cun superior al maléolo pero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41VB: dorso del pie, depresión entre las bases del 4º y 5º MT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4VB: cara lateral del 4º ortejo, a 2 mm del ángulo ungueal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GB32 . Zhong Du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6516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H: cara lateral del dorso del ortejo mayor a 2 mm del áng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H: dorso del pie, entre el 1</a:t>
            </a:r>
            <a:r>
              <a:rPr b="1" lang="es-ES" sz="2800" spc="-1" strike="noStrike" baseline="30000">
                <a:solidFill>
                  <a:srgbClr val="ff0000"/>
                </a:solidFill>
                <a:latin typeface="Arial"/>
              </a:rPr>
              <a:t>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y 2º MTT, 2 cun proximal al pliegue de piel intredig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5H: cara posterior del borde tibial, 5 cun proximal al maléolo tib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8H: cara medial del muslo; 4 cun proximal al cóndilo femoral, entre los tendones del sartorio y del vasto me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4H: línea medio clavicular en el 6º espacio intercos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9" descr="LR1 . Da Dun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Vendaje fun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knee_taping_5"/>
          <p:cNvPicPr/>
          <p:nvPr/>
        </p:nvPicPr>
        <p:blipFill>
          <a:blip r:embed="rId1"/>
          <a:stretch/>
        </p:blipFill>
        <p:spPr>
          <a:xfrm>
            <a:off x="2916360" y="2349360"/>
            <a:ext cx="4027320" cy="375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95280" y="2195640"/>
            <a:ext cx="4333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ngo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í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er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d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96000" y="2195640"/>
            <a:ext cx="4175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s dañ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veridad de la l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as (larg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93480" y="2195640"/>
            <a:ext cx="731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g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si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ecuencia y duración del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tos de control de ev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iterios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ankle_cryo_cuff2"/>
          <p:cNvPicPr/>
          <p:nvPr/>
        </p:nvPicPr>
        <p:blipFill>
          <a:blip r:embed="rId2"/>
          <a:stretch/>
        </p:blipFill>
        <p:spPr>
          <a:xfrm>
            <a:off x="6299280" y="1268280"/>
            <a:ext cx="2449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72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tocolo de evaluación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9320" y="2728800"/>
            <a:ext cx="8611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l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de est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neur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funcionales específicas al de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Ligam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v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 "/>
          <p:cNvPicPr/>
          <p:nvPr/>
        </p:nvPicPr>
        <p:blipFill>
          <a:blip r:embed="rId1"/>
          <a:stretch/>
        </p:blipFill>
        <p:spPr>
          <a:xfrm>
            <a:off x="4067280" y="1484280"/>
            <a:ext cx="4740120" cy="537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Ligam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nejo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 "/>
          <p:cNvPicPr/>
          <p:nvPr/>
        </p:nvPicPr>
        <p:blipFill>
          <a:blip r:embed="rId1"/>
          <a:stretch/>
        </p:blipFill>
        <p:spPr>
          <a:xfrm>
            <a:off x="4067280" y="1484280"/>
            <a:ext cx="4740120" cy="537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4:17:20Z</dcterms:created>
  <dc:creator>Medicina</dc:creator>
  <dc:description/>
  <dc:language>en-US</dc:language>
  <cp:lastModifiedBy>Marcelo Cano</cp:lastModifiedBy>
  <dcterms:modified xsi:type="dcterms:W3CDTF">2010-08-24T03:28:04Z</dcterms:modified>
  <cp:revision>47</cp:revision>
  <dc:subject/>
  <dc:title>Manejo de Lesiones de Extremidad Inferior</dc:title>
</cp:coreProperties>
</file>