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ACA-1EF8-4BC7-913B-1B78762E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8DB-2D24-4E9F-A702-B520C3ED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27A-B769-4876-97FB-02D13905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18E-D2D7-4477-8A21-A280FE0E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D51-E042-47A4-B997-C9E6798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331-AB73-4EEB-B3BC-55B0E5BB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E6F-C37D-48B4-B5F6-ED52D682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0BA-E22C-4F63-95E5-B5FC86AC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EAE-6551-41D1-96B7-294C6766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A57-88D3-4868-B975-05E89641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F59-78AC-40FF-AA05-CBC117E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053-CCDE-4628-83C6-3126351A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EF5E-4D66-495D-9C0D-2BC3C6FA034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Calibri"/>
              </a:rPr>
              <a:t>Seminario Bibliográfico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signatura Kinesiología del Depor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gos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iscus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22320" y="1635120"/>
            <a:ext cx="91137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trenamiento de agilidad, equilibrio, propiocepción, pliométrico y de fortalecimiento funcional produjo una mejoría en el equilibrio estático y dinámico detectado a través de dos pruebas clín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debe investigar la duración de estas mejorías y los resultados de un programa realizado durante la temporada de part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760" y="404640"/>
            <a:ext cx="9039240" cy="295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4968720"/>
            <a:ext cx="91440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entrenamiento neuromuscular pretende mejorar el control neuromuscular, mejorando la estabilidad funcional de la articulación. Estos programas incluyen componentes de fortalecimiento, flexibilidad, pliometría y equilib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lantea que el entrenamiento neuromuscular puede actuar en la prevención de lesiones y además mejorar el rendimiento deportivo. Debido al gran crecimiento en la adolescencia se plantea como adecuado comenzar este entrenamiento a esa e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6360" y="2205000"/>
            <a:ext cx="9455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Métodos de evalu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Balance error score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Star excursion balance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85680" y="2421000"/>
            <a:ext cx="9069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920" y="2492280"/>
            <a:ext cx="9077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9220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8440" y="1700280"/>
            <a:ext cx="8921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27:13Z</dcterms:created>
  <dc:creator>Marcelo Cano</dc:creator>
  <dc:description/>
  <dc:language>en-US</dc:language>
  <cp:lastModifiedBy>Marcelo Cano</cp:lastModifiedBy>
  <dcterms:modified xsi:type="dcterms:W3CDTF">2010-08-23T03:25:11Z</dcterms:modified>
  <cp:revision>16</cp:revision>
  <dc:subject/>
  <dc:title>Diapositiva 1</dc:title>
</cp:coreProperties>
</file>