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65C-F927-45B8-8049-A79AE574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A01-A906-496F-9D1D-09707D0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90D-B39F-4413-9072-8C21AD02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EAB-A154-4603-BC66-39B9EE7E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655-F782-486B-BA69-46B8487E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2EE-259F-4B52-B7E6-C08372B9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BAC-0C1D-4B86-8133-0ED28F0D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BB8-3F76-4A94-A497-A42DE271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1C7-DCCE-4377-8D7B-656BF330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BE1-285A-40D3-BC0D-D0841BB2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105-05B7-4A0F-A772-7B565828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E0C-214E-4DCB-8F55-23C1320A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60E3-4238-4DE5-AD28-53C002B4FFE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Calibri"/>
              </a:rPr>
              <a:t>Seminario Bibliográfico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signatura Kinesiología del Depor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gos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iscus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22320" y="1635120"/>
            <a:ext cx="91137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trenamiento de agilidad, equilibrio, propiocepción, pliométrico y de fortalecimiento funcional produjo una mejoría en el equilibrio estático y dinámico detectado a través de dos pruebas clín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debe investigar la duración de estas mejorías y los resultados de un programa realizado durante la temporada de part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760" y="404640"/>
            <a:ext cx="9039240" cy="295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4968720"/>
            <a:ext cx="91440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entrenamiento neuromuscular pretende mejorar el control neuromuscular, mejorando la estabilidad funcional de la articulación. Estos programas incluyen componentes de fortalecimiento, flexibilidad, pliometría y equilib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lantea que el entrenamiento neuromuscular puede actuar en la prevención de lesiones y además mejorar el rendimiento deportivo. Debido al gran crecimiento en la adolescencia se plantea como adecuado comenzar este entrenamiento a esa e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6360" y="2205000"/>
            <a:ext cx="9455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Métodos de evalu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Balance error score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Star excursion balance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85680" y="2421000"/>
            <a:ext cx="9069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920" y="2492280"/>
            <a:ext cx="9077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9220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8440" y="1700280"/>
            <a:ext cx="8921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27:13Z</dcterms:created>
  <dc:creator>Marcelo Cano</dc:creator>
  <dc:description/>
  <dc:language>en-US</dc:language>
  <cp:lastModifiedBy>Marcelo Cano</cp:lastModifiedBy>
  <dcterms:modified xsi:type="dcterms:W3CDTF">2010-08-23T03:25:11Z</dcterms:modified>
  <cp:revision>16</cp:revision>
  <dc:subject/>
  <dc:title>Diapositiva 1</dc:title>
</cp:coreProperties>
</file>