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638-8429-4588-94E9-E1ABE7CF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32C-77F1-4E37-AD5D-86A5E435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207-99B7-4756-A826-A15E7E75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BD9-F942-4541-99BB-BEEFCEA6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2E2-40DE-4029-937D-D2BC2225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E54-F0AC-4B1E-B7A0-30A2629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C02-12A0-441E-8D97-E3146B4B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BE2-1097-4474-9EC6-A24D3533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C06-01D7-43A6-8C99-7FCA87F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F01-DDE9-41BD-A614-61C580C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53E-6030-4983-B1AF-EF16E7B5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893-3B7F-4A59-B56F-22BB9DBB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DBA3-A42D-42EC-8236-A5561A14083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Calibri"/>
              </a:rPr>
              <a:t>Seminario Bibliográfico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signatura Kinesiología del Depor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98989"/>
                </a:solidFill>
                <a:latin typeface="Calibri"/>
              </a:rPr>
              <a:t>Agos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iscus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22320" y="1635120"/>
            <a:ext cx="91137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trenamiento de agilidad, equilibrio, propiocepción, pliométrico y de fortalecimiento funcional produjo una mejoría en el equilibrio estático y dinámico detectado a través de dos pruebas clín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debe investigar la duración de estas mejorías y los resultados de un programa realizado durante la temporada de part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760" y="404640"/>
            <a:ext cx="9039240" cy="295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4968720"/>
            <a:ext cx="91440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entrenamiento neuromuscular pretende mejorar el control neuromuscular, mejorando la estabilidad funcional de la articulación. Estos programas incluyen componentes de fortalecimiento, flexibilidad, pliometría y equilib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lantea que el entrenamiento neuromuscular puede actuar en la prevención de lesiones y además mejorar el rendimiento deportivo. Debido al gran crecimiento en la adolescencia se plantea como adecuado comenzar este entrenamiento a esa e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6360" y="2205000"/>
            <a:ext cx="9455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Métodos de evalu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Balance error score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Star excursion balance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85680" y="2421000"/>
            <a:ext cx="9069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Programa de entr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920" y="2492280"/>
            <a:ext cx="9077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9220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Resulta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8440" y="1700280"/>
            <a:ext cx="8921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27:13Z</dcterms:created>
  <dc:creator>Marcelo Cano</dc:creator>
  <dc:description/>
  <dc:language>en-US</dc:language>
  <cp:lastModifiedBy>Marcelo Cano</cp:lastModifiedBy>
  <dcterms:modified xsi:type="dcterms:W3CDTF">2010-08-23T03:25:11Z</dcterms:modified>
  <cp:revision>16</cp:revision>
  <dc:subject/>
  <dc:title>Diapositiva 1</dc:title>
</cp:coreProperties>
</file>