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D2BB-52D9-4280-8EC5-3F940776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FD72-D668-4DF7-92F2-75A2D4F5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BE28-57D4-4FB4-B6DF-21A1810A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080-E199-4298-ADEA-BF4966B7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CF2C-D013-48FD-8125-CC90483D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F7D7-874E-4439-A764-681287C5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54C-730D-4349-8857-38B1139B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0D7C-5382-4ABE-806C-F8956D03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808A-144D-4AF9-BE59-18756A86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7AD-7D78-4F90-944A-3467544C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6FB-D2E9-4C50-8F5C-0A0BE9A7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AB88-B2EC-440A-9824-31B00176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F367-C5EA-44EF-BC88-BE74540468EB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00"/>
                </a:solidFill>
                <a:latin typeface="Calibri"/>
              </a:rPr>
              <a:t>Seminario Bibliográfico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98989"/>
                </a:solidFill>
                <a:latin typeface="Calibri"/>
              </a:rPr>
              <a:t>Asignatura Kinesiología del Depor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98989"/>
                </a:solidFill>
                <a:latin typeface="Calibri"/>
              </a:rPr>
              <a:t>Agosto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Discusió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22320" y="1635120"/>
            <a:ext cx="911376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ntrenamiento de agilidad, equilibrio, propiocepción, pliométrico y de fortalecimiento funcional produjo una mejoría en el equilibrio estático y dinámico detectado a través de dos pruebas clínic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e debe investigar la duración de estas mejorías y los resultados de un programa realizado durante la temporada de part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04760" y="404640"/>
            <a:ext cx="9039240" cy="2954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0" y="4968720"/>
            <a:ext cx="914400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 entrenamiento neuromuscular pretende mejorar el control neuromuscular, mejorando la estabilidad funcional de la articulación. Estos programas incluyen componentes de fortalecimiento, flexibilidad, pliometría y equilibr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e plantea que el entrenamiento neuromuscular puede actuar en la prevención de lesiones y además mejorar el rendimiento deportivo. Debido al gran crecimiento en la adolescencia se plantea como adecuado comenzar este entrenamiento a esa e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Participa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-36360" y="2205000"/>
            <a:ext cx="94550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Métodos de evalu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Balance error score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Star excursion balance t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Programa de entren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85680" y="2421000"/>
            <a:ext cx="9069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Programa de entren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42920" y="2492280"/>
            <a:ext cx="90774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2052720"/>
            <a:ext cx="92203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Resultad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28440" y="1700280"/>
            <a:ext cx="8921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2:27:13Z</dcterms:created>
  <dc:creator>Marcelo Cano</dc:creator>
  <dc:description/>
  <dc:language>en-US</dc:language>
  <cp:lastModifiedBy>Marcelo Cano</cp:lastModifiedBy>
  <dcterms:modified xsi:type="dcterms:W3CDTF">2010-08-23T03:25:11Z</dcterms:modified>
  <cp:revision>16</cp:revision>
  <dc:subject/>
  <dc:title>Diapositiva 1</dc:title>
</cp:coreProperties>
</file>