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88D-3C3A-4082-87AE-43D00A7D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C27-7C0C-4C18-B883-335AE17F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A70-9E3D-4DAA-92A5-F1C8E82D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55A-7B43-41BA-A964-60120FF6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2F3-48DA-4950-9B05-A8DCF88E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6211-8D7A-4351-9793-A08E1C31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8CF-377B-458A-9FF7-F863C728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E3F-B657-44DF-9AC6-DDCEF486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537-46FA-4A22-AEB4-8201DD56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B9D-ECCF-4572-85F8-8C41F982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AF5-3F9C-4D92-9A00-EF5AD9F6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11A-DC62-4F2E-8EF9-340903DA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D8F5-A266-4909-9178-FDE22BE3316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24000" y="1196640"/>
            <a:ext cx="5470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Prevención de Lesiones en el De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32440" y="2133720"/>
          <a:ext cx="40766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440" y="2133720"/>
                    <a:ext cx="4076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Modelo TRI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I: Vigilancia de lesiones. Debe considerar conceptos temporales y espaciales en lo relacionado con exposición al ries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II: Comprensión de la etiología de las lesiones. Debe considerar aspectos biomecánicos, clínicos, conductuales y epidemiológic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Modelo TRI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III: Identificación de soluciones potenciales y desarrollo de medidas ad-hoc. Se deben basar en evidencia y no en conocimiento empír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IV: Evaluación de la eficacia de la intervención en condiciones de pilotaje y condiciones ideales (investigación y control de variabl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Modelo TRI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V: Identificación de barreras y facilitadores para implementar masivamente las medidas (¿quién lo va a hacer y cuándo?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VI: Implementación de la intervención en situación real a gran escala y evaluación del impa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4920" y="1196640"/>
            <a:ext cx="5470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Manejo de Lesiones</a:t>
            </a:r>
            <a:br>
              <a:rPr sz="4000"/>
            </a:b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Agu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05280" y="2666880"/>
            <a:ext cx="523872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9448" t="7610" r="7559" b="0"/>
          <a:stretch/>
        </p:blipFill>
        <p:spPr>
          <a:xfrm>
            <a:off x="50760" y="2852640"/>
            <a:ext cx="3619440" cy="4005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779640" y="2707920"/>
            <a:ext cx="56163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9900"/>
                </a:solidFill>
                <a:latin typeface="Century Gothic"/>
              </a:rPr>
              <a:t>	</a:t>
            </a:r>
            <a:r>
              <a:rPr b="0" lang="es-ES" sz="2600" spc="-1" strike="noStrike">
                <a:solidFill>
                  <a:srgbClr val="ff9900"/>
                </a:solidFill>
                <a:latin typeface="Century Gothic"/>
              </a:rPr>
              <a:t>El Klgo. Deportivo debe responder adecuadamente frente a enfermedades o lesiones agudas, tanto en situaciones de entrenamiento como en competencias; para ello se deben identificar y establecer los roles y responsabilidades en conjunto con los otros profesion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15920"/>
            <a:ext cx="8282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Intervención en lesiones </a:t>
            </a:r>
            <a:br>
              <a:rPr sz="4000"/>
            </a:b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agu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3084480"/>
            <a:ext cx="4608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Contexto del manejo agudo  de lesiones o enferme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560" y="2409840"/>
            <a:ext cx="446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Century Gothic"/>
              </a:rPr>
              <a:t>Se pueden realizar en el campo de entrenamiento o en un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Century Gothic"/>
              </a:rPr>
              <a:t>Se trabaja en un contexto multi-disciplinario, siendo clave el establecimiento de líneas de comunicación expedi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2192" t="5249" r="12192" b="5249"/>
          <a:stretch/>
        </p:blipFill>
        <p:spPr>
          <a:xfrm>
            <a:off x="58680" y="3500280"/>
            <a:ext cx="2051280" cy="3384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32000" y="1598400"/>
            <a:ext cx="7812000" cy="29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934560" indent="-56880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Predecir el impacto de diferentes enfermedades y lesiones agudas en las capacidades del deportista, siendo necesario para ello un adecuado conocimiento de biomecánica, fisiopatología y patokinesiolo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4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4560" indent="-56880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Reconocer el impacto de situaciones ambientales en el rendimiento del deportista, por ejemplo la temperatura ambiental o la altura (hipobari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4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4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5400" b="4482"/>
          <a:stretch/>
        </p:blipFill>
        <p:spPr>
          <a:xfrm>
            <a:off x="61920" y="3933720"/>
            <a:ext cx="2403360" cy="2924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8920" y="2317680"/>
            <a:ext cx="698508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1086480" indent="-6613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ción confiable de signos y síntomas relacionados a enfermedades y lesiones músculo esquelé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6480" indent="-6613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Clasificación del nivel de severidad de diferentes enfermedades o lesiones músculo-esquelé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40" y="2708280"/>
            <a:ext cx="2718000" cy="4149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43280" y="2492280"/>
            <a:ext cx="630072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ntegración de la información para generar un plan de acción individualizado, que permita al atleta volver a la práctica deportiva, inmovilizarlo y transportarlo o referir a otros profesio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20520" y="3357720"/>
            <a:ext cx="2349360" cy="35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24000" y="1268280"/>
            <a:ext cx="7020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lvl="1" marL="78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762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plicación de técnicas básicas de reanimación cardiopulmon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762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segurar la existencia de elementos necesarios para el manejo inicial, inmovilización o transporte de un deportista con una lesión o enferm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762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segurar el derecho a la privacidad y confidencialidad del deportis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770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Prevención de le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1050840"/>
            <a:ext cx="8310600" cy="5834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6497640"/>
            <a:ext cx="8066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Engebretsen (CO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12781" t="7459" r="12781" b="7459"/>
          <a:stretch/>
        </p:blipFill>
        <p:spPr>
          <a:xfrm>
            <a:off x="0" y="4348080"/>
            <a:ext cx="2987640" cy="2509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0560" y="1817640"/>
            <a:ext cx="709308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993240" indent="-6044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la mejor práctica en el manejo agudo de las diferentes lesiones o enfermedades y estar en conocimiento del sustento científico de las diferentes estrateg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240" indent="-6044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escribir la mejor práctica en relación al manejo de fluidos y elementos conta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64000" y="1817640"/>
            <a:ext cx="5580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lvl="1" marL="92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040" indent="-5619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9900"/>
                </a:solidFill>
                <a:latin typeface="Century Gothic"/>
              </a:rPr>
              <a:t>Conocer la reglamentación que regula la intervención profesional durante la competenci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040" indent="-5619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9900"/>
                </a:solidFill>
                <a:latin typeface="Century Gothic"/>
              </a:rPr>
              <a:t>Identificación de roles y responsabilidades de otros profesionales a nivel nacional e internac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360" y="2924280"/>
            <a:ext cx="34624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2843280"/>
            <a:ext cx="82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9900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9900"/>
                </a:solidFill>
                <a:latin typeface="Century Gothic"/>
              </a:rPr>
              <a:t>El Klgo. Deportivo evalúa el riesgo de lesiones asociadas con la participación de un atleta en un deporte específico o en el contexto de una actividad física. Debe informar y entrenar al atleta y a otros profesionales para disminuir la ocurrencia y recurrencia de les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15920"/>
            <a:ext cx="8281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Prevención de lesiones en el contexto de la actividad fís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Contexto de la prevención de le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25542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Se pueden realizar en la consulta, campo de entrenamiento o en una compet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Se trabaja en un contexto multi-disciplinario, donde la información del K. colabora con el desarrollo de un perfil completo del at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nalizar los efectos del entrenamiento específico para el deporte en lo referente a la anatomía, biomecánica y fisiología del ejercicio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ntegrar el conocimiento científico y deportivo para describir los mecanismos de producción de lesiones y la probable severidad de ésta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los diferentes riesgos de lesiones, tanto intrínsecos como extrínsecos, asociados a diferentes grupos de edades y gén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la epidemiología de lesiones específicas del deporte en relación a diferentes grupos de edades y género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nalizar el impacto potencial de las reglas y del equipamiento específico del deporte en el riesgo de lesione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escribir los efectos probables de agentes farmacológicos y el estado nutricional en el riesgo de le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817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Estar atento de los efectos, riesgos y relación con la regulación antidopaje de los fármacos y sustancias nutricionales emple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técnicas de evaluación específicas o protocolos, para establecer perfiles de desempeño y riesgos potenciales de le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817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estrategias de intervención disponible para minimizar los riegos específicos del deporte, en diferentes contextos (ej: vendaje funcional)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el impacto social de la práctica del deporte (y la eventual ocurrencia de una lesión) en el deportista y su ento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los riesgos de la adicción y del sobreentr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Interve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Modelo Tripp (Finch 20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Translating Research into Injury Prevention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Evolución del modelo de van Mechelen de 4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TRIPP es una conceptualización de los pasos necesarios para realizar prev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elo Cano</cp:lastModifiedBy>
  <dcterms:modified xsi:type="dcterms:W3CDTF">2010-08-10T01:32:29Z</dcterms:modified>
  <cp:revision>47</cp:revision>
  <dc:subject/>
  <dc:title>PowerPoint Presentation</dc:title>
</cp:coreProperties>
</file>