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879-CA8A-4B4D-8525-680DDFDA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09B7-36A2-4B62-96A3-DDCD4FDE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48B-F13C-4767-A78B-95F4B8DE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406-A1FB-4082-8676-951E9E07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48D1-5D2B-4A69-9D03-E2640193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B02F-BF93-4E69-A5DF-AC539635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BF8-4D0A-4935-87F1-FC4EDF18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3FD1-B8D3-40C1-A12E-7C05F417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978A-8C69-4ADF-A6CD-6950733E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7F0-49FF-4FE6-A361-F5C52FAE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6F4-0DC7-4F49-B00E-E3988B05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BEB-FEE4-4702-ADE3-5D5B5C73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86CD-3E4A-4A2C-A502-38571B49D0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032440" y="2133720"/>
          <a:ext cx="40766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440" y="2133720"/>
                    <a:ext cx="40766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: Vigilancia de lesiones. Debe considerar conceptos temporales y espaciales en lo relacionado con exposición al riesg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: Comprensión de la etiología de las lesiones. Debe considerar aspectos biomecánicos, clínicos, conductuales y epidemiológic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II: Identificación de soluciones potenciales y desarrollo de medidas ad-hoc. Se deben basar en evidencia y no en conocimiento empír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IV: Evaluación de la eficacia de la intervención en condiciones de pilotaje y condiciones ideales (investigación y control de variabl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Modelo TRI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: Identificación de barreras y facilitadores para implementar masivamente las medidas (¿quién lo va a hacer y cuándo?)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Fase VI: Implementación de la intervención en situación real a gran escala y evaluación del imp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4920" y="1196640"/>
            <a:ext cx="5470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Manejo de Lesiones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05280" y="2666880"/>
            <a:ext cx="523872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9448" t="7610" r="7559" b="0"/>
          <a:stretch/>
        </p:blipFill>
        <p:spPr>
          <a:xfrm>
            <a:off x="50760" y="2852640"/>
            <a:ext cx="3619440" cy="4005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779640" y="2707920"/>
            <a:ext cx="561636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El Klgo. Deportivo debe responder adecuadamente frente a enfermedades o lesiones agudas, tanto en situaciones de entrenamiento como en competencias; para ello se deben identificar y establecer los roles y responsabilidades en conjunto con los otros profesion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15920"/>
            <a:ext cx="8282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Intervención en lesiones </a:t>
            </a:r>
            <a:br>
              <a:rPr sz="4000"/>
            </a:b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agu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0" y="3084480"/>
            <a:ext cx="4608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l manejo agudo  de lesiones o enferme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" y="2409840"/>
            <a:ext cx="44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pueden realizar en el campo de entrenamiento o en una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Century Gothic"/>
              </a:rPr>
              <a:t>Se trabaja en un contexto multi-disciplinario, siendo clave el establecimiento de líneas de comunicación exped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2192" t="5249" r="12192" b="5249"/>
          <a:stretch/>
        </p:blipFill>
        <p:spPr>
          <a:xfrm>
            <a:off x="58680" y="3500280"/>
            <a:ext cx="2051280" cy="3384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32000" y="1598400"/>
            <a:ext cx="7812000" cy="29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Predecir el impacto de diferentes enfermedades y lesiones agudas en las capacidades del deportista, siendo necesario para ello un adecuado conocimiento de biomecánica, fisiopatología y patokinesiolog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-56880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Reconocer el impacto de situaciones ambientales en el rendimiento del deportista, por ejemplo la temperatura ambiental o la altura (hipobar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34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0" t="0" r="5400" b="4482"/>
          <a:stretch/>
        </p:blipFill>
        <p:spPr>
          <a:xfrm>
            <a:off x="61920" y="3933720"/>
            <a:ext cx="2403360" cy="2924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8920" y="2317680"/>
            <a:ext cx="6985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ción confiable de signos y síntomas relacionados a enfermedades y lesiones músculo esquelé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-6613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Clasificación del nivel de severidad de diferentes enfermedades o lesiones músculo-esquelétic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6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40" y="2708280"/>
            <a:ext cx="2718000" cy="4149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43280" y="2492280"/>
            <a:ext cx="630072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ción de la información para generar un plan de acción individualizado, que permita al atleta volver a la práctica deportiva, inmovilizarlo y transportarlo o referir a otros profesi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20520" y="3357720"/>
            <a:ext cx="2349360" cy="35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24000" y="1268280"/>
            <a:ext cx="702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plicación de técnicas básicas de reanimación cardiopulmon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la existencia de elementos necesarios para el manejo inicial, inmovilización o transporte de un deportista con una lesión o enferme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762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segurar el derecho a la privacidad y confidencialidad del deportis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770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8000" y="1050840"/>
            <a:ext cx="8310600" cy="5834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6497640"/>
            <a:ext cx="8066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Engebretsen (CO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781" t="7459" r="12781" b="7459"/>
          <a:stretch/>
        </p:blipFill>
        <p:spPr>
          <a:xfrm>
            <a:off x="0" y="4348080"/>
            <a:ext cx="298764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050560" y="1817640"/>
            <a:ext cx="709308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a mejor práctica en el manejo agudo de las diferentes lesiones o enfermedades y estar en conocimiento del sustento científico de las diferentes estrateg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-60444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a mejor práctica en relación al manejo de fluidos y elementos conta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64000" y="1817640"/>
            <a:ext cx="5580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Conocer la reglamentación que regula la intervención profesional durante la competenc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3040" indent="-561960"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9900"/>
                </a:solidFill>
                <a:latin typeface="Century Gothic"/>
              </a:rPr>
              <a:t>Identificación de roles y responsabilidades de otros profesionales a nivel nacional e internacion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21694" t="0" r="21694" b="11910"/>
          <a:stretch/>
        </p:blipFill>
        <p:spPr>
          <a:xfrm>
            <a:off x="7900920" y="0"/>
            <a:ext cx="1243080" cy="1762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3360" y="2924280"/>
            <a:ext cx="34624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2843280"/>
            <a:ext cx="82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	</a:t>
            </a:r>
            <a:r>
              <a:rPr b="0" lang="es-ES" sz="3000" spc="-1" strike="noStrike">
                <a:solidFill>
                  <a:srgbClr val="ff9900"/>
                </a:solidFill>
                <a:latin typeface="Century Gothic"/>
              </a:rPr>
              <a:t>El Klgo. Deportivo evalúa el riesgo de lesiones asociadas con la participación de un atleta en un deporte específico o en el contexto de una actividad física. Debe informar y entrenar al atleta y a otros profesionales para disminuir la ocurrencia y recurrencia de lesio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115920"/>
            <a:ext cx="8281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Prevención de lesiones en el contexto de la actividad fís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9900"/>
                </a:solidFill>
                <a:latin typeface="Century Gothic"/>
              </a:rPr>
              <a:t>Contexto de la prevención de le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25542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pueden realizar en la consulta, campo de entrenamiento o en una compet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Se trabaja en un contexto multi-disciplinario, donde la información del K. colabora con el desarrollo de un perfil completo del atl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27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los efectos del entrenamiento específico para el deporte en lo referente a la anatomía, biomecánica y fisiología del ejercicio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ntegrar el conocimiento científico y deportivo para describir los mecanismos de producción de lesiones y la probable severidad de ésta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-4978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os diferentes riesgos de lesiones, tanto intrínsecos como extrínsecos, asociados a diferentes grupos de edades y géne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la epidemiología de lesiones específicas del deporte en relación a diferentes grupos de edades y género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Analizar el impacto potencial de las reglas y del equipamiento específico del deporte en el riesgo de lesiones en diferentes contex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-50472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escribir los efectos probables de agentes farmacológicos y el estado nutricional en el riesgo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9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Estar atento de los efectos, riesgos y relación con la regulación antidopaje de los fármacos y sustancias nutricionales emple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técnicas de evaluación específicas o protocolos, para establecer perfiles de desempeño y riesgos potenciales de le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Conocimiento de 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817640"/>
            <a:ext cx="9144000" cy="29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estrategias de intervención disponible para minimizar los riegos específicos del deporte, en diferentes contextos (ej: vendaje funcional)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Discutir el impacto social de la práctica del deporte (y la eventual ocurrencia de una lesión) en el deportista y su entor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-54756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Century Gothic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Century Gothic"/>
              </a:rPr>
              <a:t>Identificar los riesgos de la adicción y del sobreentr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2f"/>
            </a:gs>
            <a:gs pos="100000">
              <a:srgbClr val="00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Century Gothic"/>
              </a:rPr>
              <a:t>Interv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6453360"/>
            <a:ext cx="870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9900"/>
                </a:solidFill>
                <a:latin typeface="Century Gothic"/>
              </a:rPr>
              <a:t>Kinesiología del Deporte 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22518" t="0" r="26849" b="13483"/>
          <a:stretch/>
        </p:blipFill>
        <p:spPr>
          <a:xfrm>
            <a:off x="8226360" y="144360"/>
            <a:ext cx="954000" cy="14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Modelo Tripp (Finch 2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00"/>
                </a:solidFill>
                <a:latin typeface="Times New Roman"/>
              </a:rPr>
              <a:t>Translating Research into Injury Prevention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Evolución del modelo de van Mechelen de 4 etap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00"/>
                </a:solidFill>
                <a:latin typeface="Times New Roman"/>
              </a:rPr>
              <a:t>TRIPP es una conceptualización de los pasos necesarios para realizar preven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celo Cano</cp:lastModifiedBy>
  <dcterms:modified xsi:type="dcterms:W3CDTF">2010-08-10T01:32:29Z</dcterms:modified>
  <cp:revision>47</cp:revision>
  <dc:subject/>
  <dc:title>PowerPoint Presentation</dc:title>
</cp:coreProperties>
</file>