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DB5-CC34-4C39-AA69-A7C8911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421-1AE8-4EEF-8B75-34ECCDC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64B-4323-4562-B161-77291793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03E-38F5-4F88-8D65-963AFB68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857-5816-4164-87C8-8544B2A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F0F-F0AA-4427-883D-833E4068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726-69DC-4C28-906C-54CD9C44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611-B417-4C78-8528-4124A4CA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A9E-A29D-4A9D-9CDB-4F9D701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43C-905A-4192-A2C6-2440521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C4C-F209-4D39-8476-2C007F7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198-BADA-49B2-B4CE-1FA8D8E2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8F4-930F-4B74-B8DA-5CE85D381F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440" y="2133720"/>
          <a:ext cx="4076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2133720"/>
                    <a:ext cx="4076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: Vigilancia de lesiones. Debe considerar conceptos temporales y espaciales en lo relacionado con exposición al ries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: Comprensión de la etiología de las lesiones. Debe considerar aspectos biomecánicos, clínicos, conductuales y epidemiológic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I: Identificación de soluciones potenciales y desarrollo de medidas ad-hoc. Se deben basar en evidencia y no en conocimiento empí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V: Evaluación de la eficacia de la intervención en condiciones de pilotaje y condiciones ideales (investigación y control de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: Identificación de barreras y facilitadores para implementar masivamente las medidas (¿quién lo va a hacer y cuándo?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I: Implementación de la intervención en situación real a gran escala y evaluación del imp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492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Manejo de Lesiones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05280" y="266688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448" t="7610" r="7559" b="0"/>
          <a:stretch/>
        </p:blipFill>
        <p:spPr>
          <a:xfrm>
            <a:off x="50760" y="2852640"/>
            <a:ext cx="361944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79640" y="2707920"/>
            <a:ext cx="56163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El Klgo. Deportivo debe responder adecuadamente frente a enfermedades o lesiones agudas, tanto en situaciones de entrenamiento como en competencias; para ello se deben identificar y establecer los roles y responsabilidades en conjunto con los otros profesion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15920"/>
            <a:ext cx="828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Intervención en lesiones 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084480"/>
            <a:ext cx="4608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l manejo agudo  de lesiones o enferme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" y="2409840"/>
            <a:ext cx="44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pueden realizar en el campo de entrenamiento o en un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trabaja en un contexto multi-disciplinario, siendo clave el establecimiento de líneas de comunicación exped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2192" t="5249" r="12192" b="5249"/>
          <a:stretch/>
        </p:blipFill>
        <p:spPr>
          <a:xfrm>
            <a:off x="58680" y="3500280"/>
            <a:ext cx="2051280" cy="3384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598400"/>
            <a:ext cx="781200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Predecir el impacto de diferentes enfermedades y lesiones agudas en las capacidades del deportista, siendo necesario para ello un adecuado conocimiento de biomecánica, fisiopatología y patokinesi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Reconocer el impacto de situaciones ambientales en el rendimiento del deportista, por ejemplo la temperatura ambiental o la altura (hipobar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5400" b="4482"/>
          <a:stretch/>
        </p:blipFill>
        <p:spPr>
          <a:xfrm>
            <a:off x="61920" y="3933720"/>
            <a:ext cx="2403360" cy="2924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8920" y="2317680"/>
            <a:ext cx="6985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ción confiable de signos y síntomas relacionados a enfermedades y lesiones músculo esquelé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Clasificación del nivel de severidad de diferentes enfermedades o lesiones músculo-esquelé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40" y="2708280"/>
            <a:ext cx="2718000" cy="4149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43280" y="2492280"/>
            <a:ext cx="630072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ción de la información para generar un plan de acción individualizado, que permita al atleta volver a la práctica deportiva, inmovilizarlo y transportarlo o referir a otros profes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0520" y="3357720"/>
            <a:ext cx="2349360" cy="35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24000" y="1268280"/>
            <a:ext cx="702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plicación de técnicas básicas de reanimación cardiopulmon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la existencia de elementos necesarios para el manejo inicial, inmovilización o transporte de un deportista con una lesión o enferm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el derecho a la privacidad y confidencialidad del depor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770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050840"/>
            <a:ext cx="8310600" cy="5834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6497640"/>
            <a:ext cx="806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Engebretsen (CO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781" t="7459" r="12781" b="7459"/>
          <a:stretch/>
        </p:blipFill>
        <p:spPr>
          <a:xfrm>
            <a:off x="0" y="4348080"/>
            <a:ext cx="298764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560" y="1817640"/>
            <a:ext cx="7093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a mejor práctica en el manejo agudo de las diferentes lesiones o enfermedades y estar en conocimiento del sustento científico de las diferentes estrateg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a mejor práctica en relación al manejo de fluidos y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4000" y="1817640"/>
            <a:ext cx="558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Conocer la reglamentación que regula la intervención profesional durante la competenc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Identificación de roles y responsabilidades de otros profesionales a nivel nacional e internac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360" y="2924280"/>
            <a:ext cx="34624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84328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El Klgo. Deportivo evalúa el riesgo de lesiones asociadas con la participación de un atleta en un deporte específico o en el contexto de una actividad física. Debe informar y entrenar al atleta y a otros profesionales para disminuir la ocurrencia y recurrencia de le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15920"/>
            <a:ext cx="82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contexto de la actividad fí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 la 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25542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pueden realizar en la consulta, campo de entrenamiento o en un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trabaja en un contexto multi-disciplinario, donde la información del K. colabora con el desarrollo de un perfil completo del at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los efectos del entrenamiento específico para el deporte en lo referente a la anatomía, biomecánica y fisiología del ejercicio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r el conocimiento científico y deportivo para describir los mecanismos de producción de lesiones y la probable severidad de ésta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os diferentes riesgos de lesiones, tanto intrínsecos como extrínsecos, asociados a diferentes grupos de edades y gén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a epidemiología de lesiones específicas del deporte en relación a diferentes grupos de edades y género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el impacto potencial de las reglas y del equipamiento específico del deporte en el riesgo de lesione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os efectos probables de agentes farmacológicos y el estado nutricional en el riesgo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star atento de los efectos, riesgos y relación con la regulación antidopaje de los fármacos y sustancias nutricionales emple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técnicas de evaluación específicas o protocolos, para establecer perfiles de desempeño y riesgos potenciales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estrategias de intervención disponible para minimizar los riegos específicos del deporte, en diferentes contextos (ej: vendaje funcional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el impacto social de la práctica del deporte (y la eventual ocurrencia de una lesión) en el deportista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os riesgos de la adicción y del sobreentr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Modelo Tripp (Finch 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Translating Research into Injury Preventio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Evolución del modelo de van Mechelen de 4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TRIPP es una conceptualización de los pasos necesarios para realizar pre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10T01:32:29Z</dcterms:modified>
  <cp:revision>47</cp:revision>
  <dc:subject/>
  <dc:title>PowerPoint Presentation</dc:title>
</cp:coreProperties>
</file>