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C07-6712-4C18-B4B5-1D360EA5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167-4289-4AC4-B814-025EA12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BC1-3895-4CCD-9ADA-4E2306DD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F99-6298-4308-8201-E24BA130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B0B-17EB-4784-A080-75F7194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20F-58F1-4CFC-AB93-43EE2A6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9B1-16B1-4A50-BC5B-28517F0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10B-721A-4EDD-AEBB-08C1212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9EF-4B49-49D6-8350-293CB53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1C2-0068-4D5C-9895-102358B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994-3A37-44AF-AD94-CFF9A30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019-FCF8-4F4F-BFCE-B440D64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434-6C51-479A-A79D-27C186370CB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lu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contramos el vestid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enden telas bara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tiem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imos al jardí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ientr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los demás estudia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llamas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ntes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ques a la pu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 pensé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pués (de)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l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a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quiero i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engo s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ontestaste, fui so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a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equivocamos, empecemos de nue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cond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uentas, no tengo cómo sab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retó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si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 fuera el culp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ra tan fuerte el ru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despert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lovió toda la noche, dejando muchos damnific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c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tengo dinero, quiero ir ig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debimos haber 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hubiéramos perdido el pre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dó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por la calle do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ramos el pan donde el caballero ca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ives donde el diablo perdió el pon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nde no lo vio, se enojó con é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parece lógico como lo plant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 resolvimos como lo hicieron en cl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zlo como te lo mostr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ece como que va a ll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itó como desafo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blas tanto como mi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4:35:06Z</dcterms:created>
  <dc:creator>medicina</dc:creator>
  <dc:description/>
  <dc:language>en-US</dc:language>
  <cp:lastModifiedBy>medicina</cp:lastModifiedBy>
  <dcterms:modified xsi:type="dcterms:W3CDTF">2010-10-06T15:51:08Z</dcterms:modified>
  <cp:revision>2</cp:revision>
  <dc:subject/>
  <dc:title>Diapositiva 1</dc:title>
</cp:coreProperties>
</file>