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010-ABF8-45B9-9692-288C02E5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106-B95B-4710-8E08-F31E304A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F92-7A38-488E-8BC9-709F8086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DF7-98E2-499E-BE54-9297A6DA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781-B0AE-4274-B307-697990A5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26B-8B2D-412D-A829-58689621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921-BCD7-4451-A90F-305BDDB5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0A7-5A89-4A12-8BEB-F7F3BFC3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A1A-98A9-4FAD-9EDC-F1A4F0B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111-F52D-4C72-8E30-D5A04926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545-718D-44F2-8999-43E152D9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F67-7E86-4F32-8AB6-7E6274A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A35A-F1B6-4F37-AE02-73A8B7B65B0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lu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contramos el vestido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n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enden telas bara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tiem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imos al jardí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ientr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los demás estudia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 llamas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ntes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ques a la pue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 pensé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pués (de)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bl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a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quiero i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or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engo s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me contestaste, fui so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a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equivocamos, empecemos de nue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condi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me cuentas, no tengo cómo sab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 retó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si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 fuera el culp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secuencia 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ra tan fuerte el ruido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s despert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secuencia (I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lovió toda la noche, dejando muchos damnific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ce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un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tengo dinero, quiero ir ig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debimos haber ido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un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s hubiéramos perdido el pre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uvimos que preguntar dónde viv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uvimos que preguntar por la calle donde viv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ramos el pan donde el caballero can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ives donde el diablo perdió el pon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nde no lo vio, se enojó con é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parece lógico como lo plant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 resolvimos como lo hicieron en cl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zlo como te lo mostr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ece como que va a ll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itó como desafo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blas tanto como mi pa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4:35:06Z</dcterms:created>
  <dc:creator>medicina</dc:creator>
  <dc:description/>
  <dc:language>en-US</dc:language>
  <cp:lastModifiedBy>medicina</cp:lastModifiedBy>
  <dcterms:modified xsi:type="dcterms:W3CDTF">2010-10-06T15:51:08Z</dcterms:modified>
  <cp:revision>2</cp:revision>
  <dc:subject/>
  <dc:title>Diapositiva 1</dc:title>
</cp:coreProperties>
</file>