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9CD-529F-44EB-BDE6-29E31B6F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A645-B948-4AB7-894F-BDA9523C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DEF-27F6-4F27-8095-C794CC74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0CAD-3381-4EBC-B70B-AA1B9690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A9F-FA04-4AE9-9169-1EA59496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D4BA-1CDD-4F1A-A66C-E5B94489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A20A-C830-4DF6-8F65-898F5E6B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BBA-CE28-4D5A-B691-61F8C20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B4A7-BD8E-4ECA-9550-9F3F8084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15B-6494-4661-8AB2-FFE72258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946-E803-4494-9B13-0019E962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444-8244-426B-92E8-7AD33983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EE42-4ECA-4BD3-9090-79B09804266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lug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ncontramos el vestido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ond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venden telas bara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tiemp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Fuimos al jardín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mientra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los demás estudia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 llamas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ntes qu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oques a la puer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 pensé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después (de) qu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abl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au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quiero ir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por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tengo sueñ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 me contestaste, fui so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a que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s equivocamos, empecemos de nue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condi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 me cuentas, no tengo cómo saber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 retó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omo si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o fuera el culp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onsecuencia (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ra tan fuerte el ruido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s desperta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onsecuencia (I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lovió toda la noche, dejando muchos damnific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láusula adverbial de conce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un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 tengo dinero, quiero ir ig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s debimos haber ido,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aunqu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nos hubiéramos perdido el prem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uvimos que preguntar dónde viv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uvimos que preguntar por la calle donde viví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pramos el pan donde el caballero cano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ives donde el diablo perdió el ponch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onde no lo vio, se enojó con é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e parece lógico como lo plant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 resolvimos como lo hicieron en cl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zlo como te lo mostr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rece como que va a llo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Gritó como desafor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Hablas tanto como mi pad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4:35:06Z</dcterms:created>
  <dc:creator>medicina</dc:creator>
  <dc:description/>
  <dc:language>en-US</dc:language>
  <cp:lastModifiedBy>medicina</cp:lastModifiedBy>
  <dcterms:modified xsi:type="dcterms:W3CDTF">2010-10-06T15:51:08Z</dcterms:modified>
  <cp:revision>2</cp:revision>
  <dc:subject/>
  <dc:title>Diapositiva 1</dc:title>
</cp:coreProperties>
</file>