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D7B-CF72-4E82-B39E-E5B853FF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7D0-0FD8-47BD-9E77-A3911EA7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0D9-C040-4EC0-844F-818E9AB6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5C2-8F2D-472C-A2B0-680FBF10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2B0-D4A0-49B3-8D78-110EFFC5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903-4FC3-4237-A313-CBFC24D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88E-84EA-466F-802A-086123F4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89A-8531-4D81-A13E-CD67DA0B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85B-3219-46AA-BB9C-18236895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186-AD1B-409D-891B-B9309BD0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C8C-AC3B-4FE7-8392-F05DD30B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072-FB57-4B85-8D7B-2CF888E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9317-D779-4496-AE85-ED6E46A2F93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gonzars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arga que te mires al espejo tantas v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úbrete a ti m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aron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é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va a operar de las cad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s fug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voy para la pl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0-10-06T15:50:16Z</dcterms:modified>
  <cp:revision>4</cp:revision>
  <dc:subject/>
  <dc:title>Los pronominales o   pronombres personales átonos</dc:title>
</cp:coreProperties>
</file>