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806-85E8-4516-959B-9E42E9F1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042-5163-462F-B27A-0177C818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5A7-A206-4790-9F6D-441A801A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1DF-042A-4FC9-A6F6-3396AD71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F5A-6289-47D8-A7CD-A9F10D1D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36F-F63D-4016-8AEA-848A74C1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820-2D10-4217-91FD-B943C0C2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35A-30E5-42D3-B241-280BF7F1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D65-1148-4A94-A088-D4EDC0CD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34E-C1F1-4025-BC15-94595779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4FB-88AF-4B19-B997-EA39F71E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705-C483-4B71-A9C1-2F4FD71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F2A8-B73A-4C34-99F0-39FF02520B4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vergonzars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arga que te mires al espejo tantas v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úbrete a ti m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aron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é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va a operar de las cad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s fug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voy para la pl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0-10-06T15:50:16Z</dcterms:modified>
  <cp:revision>4</cp:revision>
  <dc:subject/>
  <dc:title>Los pronominales o   pronombres personales átonos</dc:title>
</cp:coreProperties>
</file>