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5B90-8177-4999-AF1F-118ED4918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A5E6-E900-43FE-9C26-CAAB54C7F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7788-544D-4A38-89DB-DD13B0554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6E84-D60A-4032-99F5-07FA12895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45DD-E16A-4AFC-8EE3-0D2CEE447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582A-FDDE-49C7-8D50-593AC6D40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F269-FB58-40CE-9EE2-44086B62B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67A8-7069-42AC-BBD7-CD303A82A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7D70-7093-42A2-8F89-D7D6D760F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D749-EF6E-406D-9B4C-800C0F95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ADA2-E88D-4B81-9024-A4C1C9CD6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2012-4579-43DB-AB11-5E095E80C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F730D-C57B-4A60-BDC1-EE6946B783DF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Los pronominales o   pronombres personales áton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Verbos pronomin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Verbos que se construyen con un pronomi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l pronominal es parte del verb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or lo tanto, el pronominal no tiene función sintáctic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Ir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Fugarse des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Rendir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Avergonzarse 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116000" y="2637000"/>
          <a:ext cx="6985080" cy="1900080"/>
        </p:xfrm>
        <a:graphic>
          <a:graphicData uri="http://schemas.openxmlformats.org/drawingml/2006/table">
            <a:tbl>
              <a:tblPr/>
              <a:tblGrid>
                <a:gridCol w="3492360"/>
                <a:gridCol w="3492720"/>
              </a:tblGrid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emplazo de C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Complementarios direc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emplazo de 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Complementarios indirec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 la (s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 (s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s las (s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 (s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1116000" y="549360"/>
          <a:ext cx="6985080" cy="1935000"/>
        </p:xfrm>
        <a:graphic>
          <a:graphicData uri="http://schemas.openxmlformats.org/drawingml/2006/table">
            <a:tbl>
              <a:tblPr/>
              <a:tblGrid>
                <a:gridCol w="3492360"/>
                <a:gridCol w="3492720"/>
              </a:tblGrid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Complementarios direc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Complementarios indirec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1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  n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s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Los pronomin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eterminan de manera directa al verb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Te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vimos en la bibliote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Te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traje la medicina que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te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promet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Nos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dijeron que no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los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esperáram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Van a traér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melo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maña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Me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contaron que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nos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darán vacaci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La mayoría de ellos funciona como pronombre que reemplaza un CD o un C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La mayoría, por lo tanto, se clasifica como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complementario directo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o como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complementario indirec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116000" y="2637000"/>
          <a:ext cx="6985080" cy="1900080"/>
        </p:xfrm>
        <a:graphic>
          <a:graphicData uri="http://schemas.openxmlformats.org/drawingml/2006/table">
            <a:tbl>
              <a:tblPr/>
              <a:tblGrid>
                <a:gridCol w="3492360"/>
                <a:gridCol w="3492720"/>
              </a:tblGrid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emplazo de C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Complementarios direc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emplazo de 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Complementarios indirec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 la (s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 (s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s las (s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 (s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1116000" y="549360"/>
          <a:ext cx="6985080" cy="1935000"/>
        </p:xfrm>
        <a:graphic>
          <a:graphicData uri="http://schemas.openxmlformats.org/drawingml/2006/table">
            <a:tbl>
              <a:tblPr/>
              <a:tblGrid>
                <a:gridCol w="3492360"/>
                <a:gridCol w="3492720"/>
              </a:tblGrid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Complementarios direc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Complementarios indirec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1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  n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s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Reemplazo pronominal para identificación de función sintáct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Te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vimos en la bibliote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 vimos en la biblioteca / *Le vimos en la bibliote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Te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: complementario direc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Te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traje la medicina que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te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promet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*La traje la medicina / le traje la medici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Te(1)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: complementario indirec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*La medicina que la prometí / la medicina que le promet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Te(2)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: complementario indirec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Nos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dijeron que no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los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esperáram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Nos: 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s: c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Van a traér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melo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maña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e: 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: c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Me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contaron que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nos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darán vacaci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e: 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Nos: 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Oraciones con pronominales reflej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Se lava solito todas las mañana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El sujeto del verbo es, a la vez, el objeto del ver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Se”: pronominal </a:t>
            </a: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reflejo</a:t>
            </a: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 con función </a:t>
            </a: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c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Se lava el pelo solito todas las mañan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El objeto del verbo es una parte semántica del sujeto del ver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Se”: pronominal </a:t>
            </a: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reflejo</a:t>
            </a: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 con función </a:t>
            </a: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c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La lava todas las mañan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El objeto del verbo no coincide con el sujeto del ver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La” no es reflejo (es </a:t>
            </a: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oblicuo</a:t>
            </a: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), con función </a:t>
            </a: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c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Me carga que te mires al espejo tantas ve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escúbrete a ti mism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Me cortaron el pe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Me corté el pe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 va a operar de las cader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Nos fugam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Me voy para la play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0T14:14:58Z</dcterms:created>
  <dc:creator>medicina</dc:creator>
  <dc:description/>
  <dc:language>en-US</dc:language>
  <cp:lastModifiedBy>medicina</cp:lastModifiedBy>
  <dcterms:modified xsi:type="dcterms:W3CDTF">2010-10-06T15:50:16Z</dcterms:modified>
  <cp:revision>4</cp:revision>
  <dc:subject/>
  <dc:title>Los pronominales o   pronombres personales átonos</dc:title>
</cp:coreProperties>
</file>