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980C-B2FD-41A6-B501-75B9FFE0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ED65-EBB2-489F-83AB-BEC589E1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2EC2-F58F-4A6C-A7D1-1AA9E569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6818-2AB5-45B5-8D04-A7D7B9BB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CC41-44EE-4100-8C1E-5E152F27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2F04-17CF-4D82-9923-41F229E5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A5AC-A72E-4B8A-8476-A5F47FE7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3452-48F4-4662-B793-578A0D57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A1B5-FFC2-4333-A663-26F1AD65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6676-5090-48B4-9AC4-9668E080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793B-8483-4492-9A8B-138783AB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3611-DB5E-44D3-9DA4-2042083E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AC71-5465-4C78-AE3A-CC3FF90FFDA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s pronominales o   pronombres personales áton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Verbos pronomin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erbos que se construyen con un pronomi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pronominal es parte del ver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or lo tanto, el pronominal no tiene función sintácti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ugarse des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ndi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vergonzarse 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116000" y="2637000"/>
          <a:ext cx="6985080" cy="190008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la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la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116000" y="549360"/>
          <a:ext cx="6985080" cy="193500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 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s pronomin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terminan de manera directa al ver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vimos en la bibli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traje la medicina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rome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ijeron que n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esperár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an a traér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l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mañ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contaron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arán vac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mayoría de ellos funciona como pronombre que reemplaza un CD o un 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mayoría, por lo tanto, se clasifica com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lementario direct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 com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lementario indir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16000" y="2637000"/>
          <a:ext cx="6985080" cy="190008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la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la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116000" y="549360"/>
          <a:ext cx="6985080" cy="193500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 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Reemplazo pronominal para identificación de función sintáct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vimos en la bibli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vimos en la biblioteca / *Le vimos en la bibliote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traje la medicina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rome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*La traje la medicina / le traje la medic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(1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in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*La medicina que la prometí / la medicina que le prome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(2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in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ijeron que n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esperár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s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: 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an a traér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l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mañ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: 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contaron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arán vac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s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Oraciones con pronominales reflej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lava solito todas las mañan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sujeto del verbo es, a la vez, el ob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”: pronominal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reflej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lava el pelo solito todas las mañan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objeto del verbo es una parte semántica del su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”: pronominal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reflej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La lava todas las mañan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objeto del verbo no coincide con el su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La” no es reflejo (es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oblicu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),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carga que te mires al espejo tantas ve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scúbrete a ti mis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cortaron el pe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corté el pe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va a operar de las cade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s fuga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voy para la pla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4:14:58Z</dcterms:created>
  <dc:creator>medicina</dc:creator>
  <dc:description/>
  <dc:language>en-US</dc:language>
  <cp:lastModifiedBy>medicina</cp:lastModifiedBy>
  <dcterms:modified xsi:type="dcterms:W3CDTF">2010-10-06T15:50:16Z</dcterms:modified>
  <cp:revision>4</cp:revision>
  <dc:subject/>
  <dc:title>Los pronominales o   pronombres personales átonos</dc:title>
</cp:coreProperties>
</file>