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651-9329-4A00-9779-88A11C57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5A7-7B68-4559-8209-E538ABBE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C82-3E5F-4E40-B7D5-C6A1C457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D62-ED22-41A9-8A80-F57723D9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FC0-5366-4E83-B43D-018C0EC9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DF2-996A-4342-A403-AB4A8FA2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92D-9D15-4ACF-89DE-781FE9D0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744-4BF0-410B-A553-7D1D491A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941-048A-4AB7-89D2-F3AAA655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1C9-C331-4172-A1C2-C5742D28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D77-225F-4578-B791-7E8FDAC3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3D8-F9F8-4AE7-8AF7-CC708DFB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87DB-D9B7-4793-98FF-A2BED97FCD4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 o   pronombres personales áto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erb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rbos que se construyen con un pronom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nominal es parte de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r lo tanto, el pronominal no tiene función sintáct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ugarse des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vergonzarse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erminan de manera directa a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 de ellos funciona como pronombre que reemplaza un CD o un 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, por lo tanto, se clasifica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direct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in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emplazo pronominal para identificación de función sintác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vimos en la biblioteca / *Le vimos en la bibliote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traje la medicina / le traje la medic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1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medicina que la prometí / la medicina que le prome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2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raciones con pronominales reflej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solito todas las mañan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sujeto del verbo es, a la vez, el ob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el pelo solito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es una parte semántica d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lava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no coincide con 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” no es reflejo (es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licu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),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arga que te mires al espejo tantas v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úbrete a ti mis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aron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é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va a operar de las cade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s fuga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voy para la pla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4:14:58Z</dcterms:created>
  <dc:creator>medicina</dc:creator>
  <dc:description/>
  <dc:language>en-US</dc:language>
  <cp:lastModifiedBy>medicina</cp:lastModifiedBy>
  <dcterms:modified xsi:type="dcterms:W3CDTF">2010-09-30T21:54:30Z</dcterms:modified>
  <cp:revision>4</cp:revision>
  <dc:subject/>
  <dc:title>Los pronominales o   pronombres personales átonos</dc:title>
</cp:coreProperties>
</file>