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164-EDA8-42C8-BA13-71682C7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12B-4DB2-41D1-8B0A-758B1DD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D79-2DB2-4473-A55C-7C2C0E0C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43B-4F01-4DE6-B61F-2B5FE9C5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6D5-2C71-4848-A8C9-42E2C9E7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B3B-B135-4365-A127-CA8C4E3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F35-3334-4774-A241-40748E8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DDE-30DC-4258-805D-77CBE394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7DB-D766-47DB-BDD0-8DBDE0D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80B-E123-43CF-818B-6BE7616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B8F-EFE8-4D63-953E-001EA4F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6E1-4910-4340-87BC-B684C64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4D3-FE95-4FF5-B829-D1DA2556C4C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09-30T21:54:30Z</dcterms:modified>
  <cp:revision>4</cp:revision>
  <dc:subject/>
  <dc:title>Los pronominales o   pronombres personales átonos</dc:title>
</cp:coreProperties>
</file>