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674-9A70-4E50-9D9E-63C81741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E15-7F85-40BB-ADF0-C2E1977D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120F-376C-4D1D-B808-78C02AF0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598A-2CD6-4C6B-96E6-644DE651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C4E5-817E-4672-8B67-1C2A2E66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263D-1F80-4A1F-B8D3-354382FC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0F5-8724-452A-93D7-FC54E74D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E61-9705-4191-90C6-DC003850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35EA-5BEA-4FCC-A7FC-50447074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4E81-3262-4A30-92D5-BC12423F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A0D-91B5-4FCF-9458-14BDF5F4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559-A06C-4918-AAC4-CB514079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B929-DF05-49AF-9D82-5439D2BD10D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 o   pronombres personales áton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Verb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rbos que se construyen con un pronom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ronominal es parte de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r lo tanto, el pronominal no tiene función sintáct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ugarse des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nd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vergonzarse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16000" y="549360"/>
          <a:ext cx="6985080" cy="19350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terminan de manera directa a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 de ellos funciona como pronombre que reemplaza un CD o un 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, por lo tanto, se clasifica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direct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indir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16000" y="549360"/>
          <a:ext cx="6985080" cy="19350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Reemplazo pronominal para identificación de función sintáct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vimos en la biblioteca / *Le vimos en la bibliote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traje la medicina / le traje la medic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1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medicina que la prometí / la medicina que le prome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2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Oraciones con pronominales reflej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solito todas las mañan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sujeto del verbo es, a la vez, el ob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el pelo solito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es una parte semántica d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lava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no coincide con 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” no es reflejo (es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licu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),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arga que te mires al espejo tantas ve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úbrete a ti mis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ortaron el p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orté el p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va a operar de las cade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s fuga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voy para la pla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4:14:58Z</dcterms:created>
  <dc:creator>medicina</dc:creator>
  <dc:description/>
  <dc:language>en-US</dc:language>
  <cp:lastModifiedBy>medicina</cp:lastModifiedBy>
  <dcterms:modified xsi:type="dcterms:W3CDTF">2010-09-30T21:54:30Z</dcterms:modified>
  <cp:revision>4</cp:revision>
  <dc:subject/>
  <dc:title>Los pronominales o   pronombres personales átonos</dc:title>
</cp:coreProperties>
</file>