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34AD-3601-417F-A8EA-A5D431C9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525B-60C7-47B3-9012-B2FB9FD5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506D-340C-41D1-9978-B1835ED3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6EE0-8759-48CC-9973-951EAD67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8DD2-DC3B-41E3-8288-D3BB9EDD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E62D-4EF6-4F2A-A0D6-493EED69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B5C2-4786-4A37-A53A-6C0F1C39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E69B-B66E-478A-BBD8-03E46C31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3CAD-85EC-4CF6-88A6-552F943A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E56E-A3DE-40B0-B346-4BD04B52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3852-763F-4A4C-B8D0-9184F9AB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FF15-7AF4-4FA1-B846-62B6B7B0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1445-20EB-431A-A0F8-B1950D7B181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os pronominales o   pronombres personales áton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Verbos pronomin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erbos que se construyen con un pronomi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pronominal es parte del ver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or lo tanto, el pronominal no tiene función sintácti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ugarse des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ndi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vergonzarse 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116000" y="2637000"/>
          <a:ext cx="6985080" cy="190008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 la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la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116000" y="549360"/>
          <a:ext cx="6985080" cy="193500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 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os pronomin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terminan de manera directa al ver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vimos en la bibliot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traje la medicina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rome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ijeron que n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esperáram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an a traér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l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mañ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contaron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arán vac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mayoría de ellos funciona como pronombre que reemplaza un CD o un 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mayoría, por lo tanto, se clasifica com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mplementario directo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 com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mplementario indir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16000" y="2637000"/>
          <a:ext cx="6985080" cy="190008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 la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la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116000" y="549360"/>
          <a:ext cx="6985080" cy="193500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 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Reemplazo pronominal para identificación de función sintáct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vimos en la bibliot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vimos en la biblioteca / *Le vimos en la bibliote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traje la medicina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rome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*La traje la medicina / le traje la medic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(1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in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*La medicina que la prometí / la medicina que le prome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(2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in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ijeron que n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esperáram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s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: c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an a traér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l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mañ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: c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contaron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arán vac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s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Oraciones con pronominales reflej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lava solito todas las mañan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sujeto del verbo es, a la vez, el ob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”: pronominal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reflej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lava el pelo solito todas las mañan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objeto del verbo es una parte semántica del su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”: pronominal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reflej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La lava todas las mañan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objeto del verbo no coincide con el su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La” no es reflejo (es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oblicu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),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carga que te mires al espejo tantas ve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scúbrete a ti mis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cortaron el pe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corté el pe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va a operar de las cade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s fuga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voy para la pla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14:14:58Z</dcterms:created>
  <dc:creator>medicina</dc:creator>
  <dc:description/>
  <dc:language>en-US</dc:language>
  <cp:lastModifiedBy>medicina</cp:lastModifiedBy>
  <dcterms:modified xsi:type="dcterms:W3CDTF">2010-09-30T21:54:30Z</dcterms:modified>
  <cp:revision>4</cp:revision>
  <dc:subject/>
  <dc:title>Los pronominales o   pronombres personales átonos</dc:title>
</cp:coreProperties>
</file>