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B54-5F33-44BD-B167-644DA18E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B84-850B-4A95-8154-7F78D58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CF9-A458-4381-8142-CB72641A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DA6-0479-418F-BD83-A7A6115A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C30-C76F-4286-95BF-ADF12FD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334-D548-401C-9C1E-61AE192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275-6B29-4A1F-A732-E7123A3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0F3-FA96-48BB-A78D-950D562F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930-500A-470A-A803-1B57BEC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1FE-C062-4AE1-8444-6AB0917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DD7-CBC0-4852-B9CC-1F1E4AE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FF8-A3BF-416B-83EF-0893042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4782-2532-4C7D-A255-ADFA3AE35F2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gonzars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50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arga que te mires al espejo tantas v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úbrete a ti m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aron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corté el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va a operar de las cad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s fug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voy para la pl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0-09-30T21:54:30Z</dcterms:modified>
  <cp:revision>4</cp:revision>
  <dc:subject/>
  <dc:title>Los pronominales o   pronombres personales átonos</dc:title>
</cp:coreProperties>
</file>