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C076-7134-42AA-88A3-CAD8D025D0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 denotació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es el significado objetivo de una palabra, el significado “de diccionario”. Por ejemplo: la palabra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horizonte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significa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línea que limita la visión desde un punto cualquiera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 Sería su significado denotativo. Pero en la frase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l horizonte de la humanidad es muy sombrío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, la misma palabra significa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futuro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, que es un significado añadido, subjetivo y a veces metafórico. Es el significado connotativo o 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onnotació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090B-BD8A-484C-8684-F663B3E15F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72E1-CB98-4833-8340-C522939B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A27-F673-420E-81AF-754C462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3E3-AEA3-4696-A95C-35032EC0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052-A9C9-4872-9A3E-B9D14380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A2B-CDFA-4B9F-A5C6-2A343871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1C6-E217-4E28-9B80-F627C810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294-8D3B-4F1B-A085-929876B4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9C6-CC64-46D7-802F-11693D22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F04-D2B2-4C60-8AE4-D543CFB7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D2B-CE85-492F-893B-CFFCE107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2BC-D5EC-495E-9861-BA65DE8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B82-992D-485D-A2E8-66CC7DD3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6875-4851-4B5C-8FEB-EFD2FBFEF3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POS SEMÁN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4760"/>
            <a:ext cx="640080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Arial"/>
              </a:rPr>
              <a:t>Claudia Ar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8" name="Text Box 49"/>
          <p:cNvSpPr/>
          <p:nvPr/>
        </p:nvSpPr>
        <p:spPr>
          <a:xfrm>
            <a:off x="1332000" y="5734080"/>
            <a:ext cx="6624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Arial"/>
              </a:rPr>
              <a:t>SEMA: núcleo de significación o rasgo semá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356400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6 CuadroTexto"/>
          <p:cNvSpPr/>
          <p:nvPr/>
        </p:nvSpPr>
        <p:spPr>
          <a:xfrm>
            <a:off x="464328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572436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673272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7" name="12 Conector recto de flecha"/>
          <p:cNvCxnSpPr/>
          <p:nvPr/>
        </p:nvCxnSpPr>
        <p:spPr>
          <a:xfrm flipH="1">
            <a:off x="507600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8" name="13 Conector recto de flecha"/>
          <p:cNvCxnSpPr/>
          <p:nvPr/>
        </p:nvCxnSpPr>
        <p:spPr>
          <a:xfrm flipH="1">
            <a:off x="3994920" y="1125360"/>
            <a:ext cx="252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9" name="14 Conector recto de flecha"/>
          <p:cNvCxnSpPr/>
          <p:nvPr/>
        </p:nvCxnSpPr>
        <p:spPr>
          <a:xfrm flipH="1">
            <a:off x="615564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0" name="15 Conector recto de flecha"/>
          <p:cNvCxnSpPr/>
          <p:nvPr/>
        </p:nvCxnSpPr>
        <p:spPr>
          <a:xfrm flipH="1">
            <a:off x="7235640" y="1125360"/>
            <a:ext cx="216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1" name="Text Box 59"/>
          <p:cNvSpPr/>
          <p:nvPr/>
        </p:nvSpPr>
        <p:spPr>
          <a:xfrm>
            <a:off x="1332000" y="5734080"/>
            <a:ext cx="6624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Arial"/>
              </a:rPr>
              <a:t>SEMA: núcleo de significación o rasgo semá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CuadroTexto"/>
          <p:cNvSpPr/>
          <p:nvPr/>
        </p:nvSpPr>
        <p:spPr>
          <a:xfrm>
            <a:off x="468360" y="907920"/>
            <a:ext cx="1511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CLAS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CuadroTexto"/>
          <p:cNvSpPr/>
          <p:nvPr/>
        </p:nvSpPr>
        <p:spPr>
          <a:xfrm>
            <a:off x="356400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6 CuadroTexto"/>
          <p:cNvSpPr/>
          <p:nvPr/>
        </p:nvSpPr>
        <p:spPr>
          <a:xfrm>
            <a:off x="464328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7 CuadroTexto"/>
          <p:cNvSpPr/>
          <p:nvPr/>
        </p:nvSpPr>
        <p:spPr>
          <a:xfrm>
            <a:off x="572436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CuadroTexto"/>
          <p:cNvSpPr/>
          <p:nvPr/>
        </p:nvSpPr>
        <p:spPr>
          <a:xfrm>
            <a:off x="673272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1" name="12 Conector recto de flecha"/>
          <p:cNvCxnSpPr/>
          <p:nvPr/>
        </p:nvCxnSpPr>
        <p:spPr>
          <a:xfrm flipH="1">
            <a:off x="507600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2" name="13 Conector recto de flecha"/>
          <p:cNvCxnSpPr/>
          <p:nvPr/>
        </p:nvCxnSpPr>
        <p:spPr>
          <a:xfrm flipH="1">
            <a:off x="3994920" y="1125360"/>
            <a:ext cx="252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3" name="14 Conector recto de flecha"/>
          <p:cNvCxnSpPr/>
          <p:nvPr/>
        </p:nvCxnSpPr>
        <p:spPr>
          <a:xfrm flipH="1">
            <a:off x="615564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4" name="15 Conector recto de flecha"/>
          <p:cNvCxnSpPr/>
          <p:nvPr/>
        </p:nvCxnSpPr>
        <p:spPr>
          <a:xfrm flipH="1">
            <a:off x="7235640" y="1125360"/>
            <a:ext cx="216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5" name="16 Flecha derecha"/>
          <p:cNvSpPr/>
          <p:nvPr/>
        </p:nvSpPr>
        <p:spPr>
          <a:xfrm>
            <a:off x="2050920" y="981000"/>
            <a:ext cx="433440" cy="216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1"/>
          <p:cNvSpPr/>
          <p:nvPr/>
        </p:nvSpPr>
        <p:spPr>
          <a:xfrm>
            <a:off x="1332000" y="5734080"/>
            <a:ext cx="6624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Arial"/>
              </a:rPr>
              <a:t>SEMA: núcleo de significación o rasgo semá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os se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560" y="1413000"/>
            <a:ext cx="889308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rasgos significativos y distintivos mínimos que dan significado a las palabras y permiten diferenciar sus sign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NAVAJA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ES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+ arma blanca                           + arma b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+ articulada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           - artic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+ pequeña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           - peque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que una oración tenga un sentido semánticamente aceptable, sus palabras tienen que ser semánticamente compatibles en cuanto a sus semas. Por ejemplo: *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El niño come barc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semánticamente inaceptable porque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arc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no tiene el sema + al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 de palabras que se relacionan por su sign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significado de cada signo comparte un sema genérico (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lasem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995640" y="4437000"/>
            <a:ext cx="27432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asgo general que informa sobre lo esencial de la pala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3059280" y="47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059280" y="51577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7 CuadroTexto"/>
          <p:cNvSpPr/>
          <p:nvPr/>
        </p:nvSpPr>
        <p:spPr>
          <a:xfrm>
            <a:off x="1187280" y="3068640"/>
            <a:ext cx="64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SILLA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    SILLÓN       SOFÁ     P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términos </a:t>
            </a:r>
            <a:r>
              <a:rPr b="1" lang="es-MX" sz="2400" spc="-1" strike="noStrike">
                <a:solidFill>
                  <a:srgbClr val="008000"/>
                </a:solidFill>
                <a:latin typeface="Arial"/>
              </a:rPr>
              <a:t>experienciales,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o conform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conjunto de </a:t>
            </a: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referent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que tienen características comunes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términos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léxico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semánticos,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es un 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upo de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palabr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que se relaciona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or su signif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términos de teoría 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semántica,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es un 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upo de palabras que se relacionan porqu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mparten un </a:t>
            </a:r>
            <a:r>
              <a:rPr b="1" lang="es-ES" sz="2400" spc="-1" strike="noStrike" u="sng">
                <a:solidFill>
                  <a:srgbClr val="c00000"/>
                </a:solidFill>
                <a:uFillTx/>
                <a:latin typeface="Arial"/>
              </a:rPr>
              <a:t>clasema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asgo general que informa sobre lo esencial de la palab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 Flecha abajo"/>
          <p:cNvSpPr/>
          <p:nvPr/>
        </p:nvSpPr>
        <p:spPr>
          <a:xfrm>
            <a:off x="3635280" y="4149720"/>
            <a:ext cx="136836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8636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2843280" y="2276640"/>
            <a:ext cx="1079280" cy="86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4500720" y="2205000"/>
            <a:ext cx="158400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4"/>
          <a:stretch/>
        </p:blipFill>
        <p:spPr>
          <a:xfrm>
            <a:off x="6588000" y="2349360"/>
            <a:ext cx="792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684360" y="1916280"/>
          <a:ext cx="8064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8064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2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03640" y="2349360"/>
            <a:ext cx="3529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635280" y="2637000"/>
            <a:ext cx="7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003640" y="2276640"/>
            <a:ext cx="345600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3635280" y="2565360"/>
            <a:ext cx="144144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042920" y="227664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684360" y="1916280"/>
          <a:ext cx="8064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8064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2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003640" y="2349360"/>
            <a:ext cx="3529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635280" y="2637000"/>
            <a:ext cx="7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003640" y="2276640"/>
            <a:ext cx="345600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042920" y="227664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684360" y="1989000"/>
          <a:ext cx="806436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064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2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042920" y="234936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5003640" y="2349360"/>
            <a:ext cx="28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mas distingu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é es un campo semán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campo semántico está constituido por un grupo de palabras que están relacionadas por su significado, compartiendo ciertas características comunes o referen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4764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348000" y="422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14836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f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94836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cc"/>
                </a:solidFill>
                <a:latin typeface="Arial"/>
              </a:rPr>
              <a:t>¿Cuáles son los semas (rasgos semánticos) que componen el significado de TORBELLIN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1. perturbación atmosféric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2. vi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3. giro circula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4. reducido a una pequeña área geográfic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La integración de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 cuatro sem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dan el concepto de </a:t>
            </a:r>
            <a:r>
              <a:rPr b="1" i="1" lang="es-ES_tradnl" sz="17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cc"/>
                </a:solidFill>
                <a:latin typeface="Arial"/>
              </a:rPr>
              <a:t>¿Qué sucede al sustituir el sema 4 (área pequeña) por un nuevo sema: “extensa área geográfica”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Ya no es </a:t>
            </a:r>
            <a:r>
              <a:rPr b="1" i="1" lang="es-ES_tradnl" sz="17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, sino </a:t>
            </a:r>
            <a:r>
              <a:rPr b="1" i="1" lang="es-ES_tradnl" sz="1700" spc="-1" strike="noStrike">
                <a:solidFill>
                  <a:srgbClr val="000000"/>
                </a:solidFill>
                <a:latin typeface="Arial"/>
              </a:rPr>
              <a:t>huracá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Huracán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pertenecen al mismo campo semántico porque tienen semas comunes (1,2 y 3) y otros por los que se oponen: 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extensa área geográfic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frente a 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pequeña área geográfic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1337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Huracá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enen en común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turbación atmosférica, viento, circular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s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xtensa área geográfica / pequeña área geográ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jemplo anterior [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] nos aclara lo que es un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mpo semán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un conjunto de palabras cuyo significado tiene semas comunes y, al mismo tiempo, también semas propios por medio de los cuales se diferencian unos de otros dentro del mismo camp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mpo semántico 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lores”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rojo, amarillo, azu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mpo semántico 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esco”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dre, madre, hermano, abue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1" lang="es-ES_tradnl" sz="2800" spc="-1" strike="noStrike">
                <a:solidFill>
                  <a:srgbClr val="800000"/>
                </a:solidFill>
                <a:latin typeface="Arial"/>
              </a:rPr>
              <a:t>campo léxic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os vocablos guardan entre sí un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lación no sól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significad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como en el campo semántico),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o también en la form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puesto que tienen en común el </a:t>
            </a: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lexem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la </a:t>
            </a: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raíz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lanc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lanc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ura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lanqu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ar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lanqu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ado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r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á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ico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r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urre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tc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l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n mucho más subjetivos y agrupan a aquellas palabras que, según nuestra experiencia personal o social, </a:t>
            </a:r>
            <a:r>
              <a:rPr b="1" lang="es-ES" sz="2600" spc="-1" strike="noStrike">
                <a:solidFill>
                  <a:srgbClr val="7030a0"/>
                </a:solidFill>
                <a:latin typeface="Arial"/>
              </a:rPr>
              <a:t>se agrupan en torno a un significado aunque no compartan ningún sem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or ejemplo, </a:t>
            </a:r>
            <a:r>
              <a:rPr b="1" lang="es-ES" sz="2600" spc="-1" strike="noStrike">
                <a:solidFill>
                  <a:srgbClr val="7030a0"/>
                </a:solidFill>
                <a:latin typeface="Arial"/>
              </a:rPr>
              <a:t>el campo asociativo </a:t>
            </a:r>
            <a:r>
              <a:rPr b="0" lang="es-ES" sz="2600" spc="-1" strike="noStrike">
                <a:solidFill>
                  <a:srgbClr val="7030a0"/>
                </a:solidFill>
                <a:latin typeface="Arial"/>
              </a:rPr>
              <a:t>de la 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nseñanza</a:t>
            </a:r>
            <a:r>
              <a:rPr b="1" lang="es-ES" sz="2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 constituirían palabras tan dispares en cuanto a sus semas pero relacionadas conceptualmente como </a:t>
            </a:r>
            <a:r>
              <a:rPr b="0" i="1" lang="es-ES" sz="2600" spc="-1" strike="noStrike">
                <a:solidFill>
                  <a:srgbClr val="ff0000"/>
                </a:solidFill>
                <a:latin typeface="Arial"/>
              </a:rPr>
              <a:t>profesor, pizarra, alumno, carpeta, estuche, sirena, recr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léxico - asoci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8000"/>
                </a:solidFill>
                <a:latin typeface="Arial"/>
              </a:rPr>
              <a:t>¿campo semántico, campo léxico o campo asociati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sa, casilla, caserón, casero, cas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uey, vaca, toro, ternero, cuernos, rumiar, carreta, yugo, labranza, fuerza, resistencia, pas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pejismo - delirio - ficción - fantasía - alucinación - sueño - quimera - utop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Completa las oraciones siguientes con las palabras adecuadas del campo semántico de </a:t>
            </a:r>
            <a:r>
              <a:rPr b="1" lang="es-ES" sz="1800" spc="-1" strike="noStrike" u="sng">
                <a:solidFill>
                  <a:srgbClr val="008000"/>
                </a:solidFill>
                <a:uFillTx/>
                <a:latin typeface="Arial"/>
              </a:rPr>
              <a:t>irrealidad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00000" y="436608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novelas son obras de ____________ 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dro tiene una desbordante _____________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paciente sufre de ______________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explorador vio un ______________ en el desierto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u plan es irrealizable; es una _______________ 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 ______________ es ser un buen pianista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e hombre tiene _______________de grandeza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iere ser astronauta pero eso es una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________________________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DefaultOcx" descr=""/>
          <p:cNvPicPr/>
          <p:nvPr/>
        </p:nvPicPr>
        <p:blipFill>
          <a:blip r:embed="rId1"/>
          <a:stretch/>
        </p:blipFill>
        <p:spPr>
          <a:xfrm>
            <a:off x="3365640" y="2773440"/>
            <a:ext cx="106668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HTMLText1" descr=""/>
          <p:cNvPicPr/>
          <p:nvPr/>
        </p:nvPicPr>
        <p:blipFill>
          <a:blip r:embed="rId2"/>
          <a:stretch/>
        </p:blipFill>
        <p:spPr>
          <a:xfrm>
            <a:off x="3365640" y="2773440"/>
            <a:ext cx="106668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9" name="HTMLText2" descr=""/>
          <p:cNvPicPr/>
          <p:nvPr/>
        </p:nvPicPr>
        <p:blipFill>
          <a:blip r:embed="rId3"/>
          <a:stretch/>
        </p:blipFill>
        <p:spPr>
          <a:xfrm>
            <a:off x="3365640" y="2773440"/>
            <a:ext cx="106668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0" name="HTMLText3" descr=""/>
          <p:cNvPicPr/>
          <p:nvPr/>
        </p:nvPicPr>
        <p:blipFill>
          <a:blip r:embed="rId4"/>
          <a:stretch/>
        </p:blipFill>
        <p:spPr>
          <a:xfrm>
            <a:off x="7380360" y="3429000"/>
            <a:ext cx="106668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HTMLText4" descr=""/>
          <p:cNvPicPr/>
          <p:nvPr/>
        </p:nvPicPr>
        <p:blipFill>
          <a:blip r:embed="rId5"/>
          <a:stretch/>
        </p:blipFill>
        <p:spPr>
          <a:xfrm>
            <a:off x="7308720" y="1700280"/>
            <a:ext cx="106704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HTMLText5" descr=""/>
          <p:cNvPicPr/>
          <p:nvPr/>
        </p:nvPicPr>
        <p:blipFill>
          <a:blip r:embed="rId6"/>
          <a:stretch/>
        </p:blipFill>
        <p:spPr>
          <a:xfrm>
            <a:off x="7308720" y="1413000"/>
            <a:ext cx="106704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8000"/>
                </a:solidFill>
                <a:latin typeface="Arial"/>
              </a:rPr>
              <a:t>Clasifica los siguientes verbos en dos campos semántico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fraternizar - aborrecer - repugnar - congeniar - intimar - detest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                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AMISTAD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ENEMIS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¿BAJO CUÁLES DOS CLASEMAS ES POSIBLE AGRUPAR LOS SIGUIENTES CONCEPTOS?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fume - rumor - acústico - fétido - crujir - fragancia - chirriar - susurro - audición - pestilencia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irar - tañido - irrespirable - olfatear - hedor - auscultar - murmullo - husmear - audibl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8000"/>
                </a:solidFill>
                <a:latin typeface="Arial"/>
              </a:rPr>
              <a:t>CLASEMA 1: ___________ CLASEMA 2:____________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mpos semánticos /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tegorizar implic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r la re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grupar elementos diferentes según un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ara categorizar se requie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neraliz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No se consideran las diferencias entre las entidades y se agrupan según sus semejanz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Discrimin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enfatizar las diferencias de 2 o más entidades para que no se confund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tenidos del curso: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MÁ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mántica léx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pos de sign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laciones léx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sinónimos y antón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mpos semán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nguaje fig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curso y ámbito semán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380880"/>
            <a:ext cx="79200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LOS TIPOS DE SIGN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85800" y="2209680"/>
            <a:ext cx="25146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s de sign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V="1">
            <a:off x="3276720" y="1988640"/>
            <a:ext cx="2158920" cy="677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334120" y="167652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notativo/ Conno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(Ej. Yo hablo </a:t>
            </a:r>
            <a:r>
              <a:rPr b="1" lang="es-MX" sz="2400" spc="-1" strike="noStrike">
                <a:solidFill>
                  <a:srgbClr val="333399"/>
                </a:solidFill>
                <a:latin typeface="Times New Roman"/>
              </a:rPr>
              <a:t>castellano</a:t>
            </a: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3276720" y="2666880"/>
            <a:ext cx="2232000" cy="546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334120" y="297180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amatical/l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(Ej. Cason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3276720" y="2666880"/>
            <a:ext cx="2303280" cy="191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635280" y="5373720"/>
            <a:ext cx="55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il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(Ej. “lorea”, “la pava”, “pan batido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3276720" y="2666880"/>
            <a:ext cx="2374920" cy="2922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4932360" y="4365720"/>
            <a:ext cx="39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f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(Ej. Ella es una </a:t>
            </a:r>
            <a:r>
              <a:rPr b="1" lang="es-MX" sz="2400" spc="-1" strike="noStrike">
                <a:solidFill>
                  <a:srgbClr val="333399"/>
                </a:solidFill>
                <a:latin typeface="Times New Roman"/>
              </a:rPr>
              <a:t>mujeraza</a:t>
            </a: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é es un campo semán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campo semántico está constituido por un grupo de palabras que están relacionadas por su significado, compartiendo ciertas características comunes o referen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4 Conector recto de flecha"/>
          <p:cNvCxnSpPr/>
          <p:nvPr/>
        </p:nvCxnSpPr>
        <p:spPr>
          <a:xfrm>
            <a:off x="2123640" y="4723920"/>
            <a:ext cx="20883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6 Conector recto de flecha"/>
          <p:cNvCxnSpPr/>
          <p:nvPr/>
        </p:nvCxnSpPr>
        <p:spPr>
          <a:xfrm flipH="1">
            <a:off x="5076360" y="4723200"/>
            <a:ext cx="216000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8 Conector recto de flecha"/>
          <p:cNvCxnSpPr/>
          <p:nvPr/>
        </p:nvCxnSpPr>
        <p:spPr>
          <a:xfrm>
            <a:off x="3851280" y="4723920"/>
            <a:ext cx="6501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10 Conector recto de flecha"/>
          <p:cNvCxnSpPr/>
          <p:nvPr/>
        </p:nvCxnSpPr>
        <p:spPr>
          <a:xfrm flipH="1">
            <a:off x="4858920" y="4723920"/>
            <a:ext cx="6501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11 CuadroTexto"/>
          <p:cNvSpPr/>
          <p:nvPr/>
        </p:nvSpPr>
        <p:spPr>
          <a:xfrm>
            <a:off x="3419640" y="573264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SIRVE PARA SE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54764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348000" y="422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14836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f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94836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ones que se establecen entre los significados de las 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 flipH="1">
            <a:off x="914040" y="2286000"/>
            <a:ext cx="3352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-25236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 flipH="1">
            <a:off x="2518200" y="2399760"/>
            <a:ext cx="1796400" cy="230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692360" y="4797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4343400" y="2362320"/>
            <a:ext cx="3808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492360" y="4797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s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4419720" y="2362320"/>
            <a:ext cx="2057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364000" y="47973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4420080" y="2280960"/>
            <a:ext cx="3958200" cy="229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187280" y="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AS RELACIONES LÉ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0" y="558972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EL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T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619280" y="558972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EL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348000" y="55897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de la ola/del gal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7164360" y="4724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ero/Hip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48360" y="55897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metal/ verbo cobr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948360" y="558972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1. Prueba para evaluar </a:t>
            </a:r>
            <a:r>
              <a:rPr b="1" i="1" lang="es-CL" sz="3200" spc="-1" strike="noStrike">
                <a:solidFill>
                  <a:srgbClr val="ff0000"/>
                </a:solidFill>
                <a:latin typeface="Arial"/>
              </a:rPr>
              <a:t>habilidades semánticas</a:t>
            </a: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 relacionadas con el dis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valuación de uso de 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sinónimos y antón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. Método para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valuar discurso descriptivo y narrativ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4 CuadroTexto"/>
          <p:cNvSpPr/>
          <p:nvPr/>
        </p:nvSpPr>
        <p:spPr>
          <a:xfrm>
            <a:off x="468360" y="907920"/>
            <a:ext cx="1511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CLAS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5 CuadroTexto"/>
          <p:cNvSpPr/>
          <p:nvPr/>
        </p:nvSpPr>
        <p:spPr>
          <a:xfrm>
            <a:off x="356400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6 CuadroTexto"/>
          <p:cNvSpPr/>
          <p:nvPr/>
        </p:nvSpPr>
        <p:spPr>
          <a:xfrm>
            <a:off x="464328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7 CuadroTexto"/>
          <p:cNvSpPr/>
          <p:nvPr/>
        </p:nvSpPr>
        <p:spPr>
          <a:xfrm>
            <a:off x="572436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CuadroTexto"/>
          <p:cNvSpPr/>
          <p:nvPr/>
        </p:nvSpPr>
        <p:spPr>
          <a:xfrm>
            <a:off x="673272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19" name="12 Conector recto de flecha"/>
          <p:cNvCxnSpPr/>
          <p:nvPr/>
        </p:nvCxnSpPr>
        <p:spPr>
          <a:xfrm flipH="1">
            <a:off x="507600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0" name="13 Conector recto de flecha"/>
          <p:cNvCxnSpPr/>
          <p:nvPr/>
        </p:nvCxnSpPr>
        <p:spPr>
          <a:xfrm flipH="1">
            <a:off x="3994920" y="1125360"/>
            <a:ext cx="252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1" name="14 Conector recto de flecha"/>
          <p:cNvCxnSpPr/>
          <p:nvPr/>
        </p:nvCxnSpPr>
        <p:spPr>
          <a:xfrm flipH="1">
            <a:off x="615564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2" name="15 Conector recto de flecha"/>
          <p:cNvCxnSpPr/>
          <p:nvPr/>
        </p:nvCxnSpPr>
        <p:spPr>
          <a:xfrm flipH="1">
            <a:off x="7235640" y="1125360"/>
            <a:ext cx="216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23" name="16 Flecha derecha"/>
          <p:cNvSpPr/>
          <p:nvPr/>
        </p:nvSpPr>
        <p:spPr>
          <a:xfrm>
            <a:off x="2050920" y="981000"/>
            <a:ext cx="433440" cy="216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1"/>
          <p:cNvSpPr/>
          <p:nvPr/>
        </p:nvSpPr>
        <p:spPr>
          <a:xfrm>
            <a:off x="1332000" y="5734080"/>
            <a:ext cx="6624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Arial"/>
              </a:rPr>
              <a:t>SEMA: núcleo de significación o rasgo semá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mpos Semán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ernard Potti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aboró un modelo que le permitió describir la </a:t>
            </a:r>
            <a:r>
              <a:rPr b="1" lang="es-ES" sz="3200" spc="-1" strike="noStrike">
                <a:solidFill>
                  <a:srgbClr val="7030a0"/>
                </a:solidFill>
                <a:latin typeface="Arial"/>
              </a:rPr>
              <a:t>organización de los campos semántic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676520" y="5257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9:15:29Z</dcterms:created>
  <dc:creator>a</dc:creator>
  <dc:description/>
  <dc:language>en-US</dc:language>
  <cp:lastModifiedBy>a</cp:lastModifiedBy>
  <dcterms:modified xsi:type="dcterms:W3CDTF">2010-08-17T14:35:56Z</dcterms:modified>
  <cp:revision>26</cp:revision>
  <dc:subject/>
  <dc:title>CAMPOS SEMÁNTICOS</dc:title>
</cp:coreProperties>
</file>