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F28-B893-4D68-8B4E-E0539A90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881-6FF3-4C6D-9DB6-3758EB6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E41-93B1-4D31-B884-4EE4BFA3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ACF-CD09-434D-862F-28E5AA41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8E2-A6DE-471B-824E-5FFBD6A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347-4FD3-4D32-932A-68EB8FC4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59B-50C2-4A83-AD7C-5A93597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C4C-120D-4206-B0F3-6C1FC0E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0C6-3A68-43E8-AB13-687880BE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8ED-B350-4293-94B6-3DE09BB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F73-85E0-4A5D-848D-B326A97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21F-B23B-4ACD-B580-620C8521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476-8E7C-4843-BC02-434EE9A9343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 rot="471000">
            <a:off x="2837160" y="139860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Cata, te espero a las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714240" y="3429000"/>
            <a:ext cx="4286520" cy="1434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"/>
              </a:rPr>
              <a:t>HOY NO SE FÍA, MAÑANA S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o todas las personas </a:t>
            </a: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verbales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son          personas </a:t>
            </a: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la enunc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 CuadroTexto"/>
          <p:cNvSpPr/>
          <p:nvPr/>
        </p:nvSpPr>
        <p:spPr>
          <a:xfrm>
            <a:off x="1000080" y="1714680"/>
            <a:ext cx="2571840" cy="459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° persona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4786200" y="1714680"/>
            <a:ext cx="2571840" cy="459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° persona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000080" y="25718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nunciación “sin persona”:  la 3° persona (la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no-persona en la enunciación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) [origen ostensivo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1042920" y="3429000"/>
            <a:ext cx="65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a llamada “1° persona plural” no siempre es una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persona en el discurso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luralidad del 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 1° persona más 2° persona (personas en el discurs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 1° persona más no-persona(s) (ostensiv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1071720" y="507204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a llamada “2° persona plural” 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luralidad de interlocutores presentes en la enunciación (personas en el discurs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</a:rPr>
              <a:t>2°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sona más no-persona(s) (ostensiv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380360" y="1557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9 Rectángulo"/>
          <p:cNvSpPr/>
          <p:nvPr/>
        </p:nvSpPr>
        <p:spPr>
          <a:xfrm>
            <a:off x="3564000" y="292428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Él – ella – ellos – nosotros – ustedes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quí – all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ste – ese – esto – es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Verbos de dire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r – ve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er - lle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700360" y="1916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cio y  osten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4 CuadroTexto"/>
          <p:cNvSpPr/>
          <p:nvPr/>
        </p:nvSpPr>
        <p:spPr>
          <a:xfrm>
            <a:off x="1835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2987640" y="2781360"/>
            <a:ext cx="52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Hoy – ayer – mañ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hora – antes – despu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iempos verb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nto – cant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ab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vas a cantar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5326200" cy="256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068720" y="3284640"/>
            <a:ext cx="481968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 rot="471000">
            <a:off x="2837160" y="139860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Cata, </a:t>
            </a:r>
            <a:r>
              <a:rPr b="1" lang="es-CL" sz="4400" spc="-1" strike="noStrike">
                <a:solidFill>
                  <a:srgbClr val="ff0000"/>
                </a:solidFill>
                <a:latin typeface="Bradley Hand ITC"/>
              </a:rPr>
              <a:t>te</a:t>
            </a: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 espero a las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250920" y="23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Particularidad semántico - pr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3492360" y="3213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enuncia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2340000" y="3789360"/>
            <a:ext cx="16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ación unimembre vo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8 CuadroTexto"/>
          <p:cNvSpPr/>
          <p:nvPr/>
        </p:nvSpPr>
        <p:spPr>
          <a:xfrm>
            <a:off x="4643280" y="3789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pa + núcleo verbal +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.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9 CuadroTexto"/>
          <p:cNvSpPr/>
          <p:nvPr/>
        </p:nvSpPr>
        <p:spPr>
          <a:xfrm>
            <a:off x="406728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11 Conector recto de flecha"/>
          <p:cNvCxnSpPr/>
          <p:nvPr/>
        </p:nvCxnSpPr>
        <p:spPr>
          <a:xfrm flipH="1">
            <a:off x="2842560" y="1773360"/>
            <a:ext cx="1585080" cy="7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CuadroTexto"/>
          <p:cNvSpPr/>
          <p:nvPr/>
        </p:nvSpPr>
        <p:spPr>
          <a:xfrm rot="471000">
            <a:off x="2837160" y="139860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Cata, </a:t>
            </a:r>
            <a:r>
              <a:rPr b="1" lang="es-CL" sz="4400" spc="-1" strike="noStrike">
                <a:solidFill>
                  <a:srgbClr val="ff0000"/>
                </a:solidFill>
                <a:latin typeface="Bradley Hand ITC"/>
              </a:rPr>
              <a:t>te</a:t>
            </a: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 espero a las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250920" y="23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Particularidad semántico - pr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11 Conector recto de flecha"/>
          <p:cNvCxnSpPr/>
          <p:nvPr/>
        </p:nvCxnSpPr>
        <p:spPr>
          <a:xfrm flipH="1">
            <a:off x="2842560" y="1773360"/>
            <a:ext cx="1585080" cy="7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10 CuadroTexto"/>
          <p:cNvSpPr/>
          <p:nvPr/>
        </p:nvSpPr>
        <p:spPr>
          <a:xfrm>
            <a:off x="250920" y="3429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labra sin significado estable en el sistema de la leng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714240" y="3429000"/>
            <a:ext cx="4286520" cy="1434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"/>
              </a:rPr>
              <a:t>HOY</a:t>
            </a:r>
            <a:r>
              <a:rPr b="0" lang="es-CL" sz="4400" spc="-1" strike="noStrike">
                <a:solidFill>
                  <a:srgbClr val="000000"/>
                </a:solidFill>
                <a:latin typeface="comic"/>
              </a:rPr>
              <a:t> NO SE FÍA, </a:t>
            </a:r>
            <a:r>
              <a:rPr b="0" lang="es-CL" sz="4400" spc="-1" strike="noStrike">
                <a:solidFill>
                  <a:srgbClr val="ff0000"/>
                </a:solidFill>
                <a:latin typeface="comic"/>
              </a:rPr>
              <a:t>MAÑANA</a:t>
            </a:r>
            <a:r>
              <a:rPr b="0" lang="es-CL" sz="4400" spc="-1" strike="noStrike">
                <a:solidFill>
                  <a:srgbClr val="000000"/>
                </a:solidFill>
                <a:latin typeface="comic"/>
              </a:rPr>
              <a:t> S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 CuadroTexto"/>
          <p:cNvSpPr/>
          <p:nvPr/>
        </p:nvSpPr>
        <p:spPr>
          <a:xfrm>
            <a:off x="4427640" y="5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Particularidad semántico - pr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3 Conector recto de flecha"/>
          <p:cNvCxnSpPr/>
          <p:nvPr/>
        </p:nvCxnSpPr>
        <p:spPr>
          <a:xfrm flipV="1">
            <a:off x="2050560" y="1412640"/>
            <a:ext cx="2592720" cy="19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4 CuadroTexto"/>
          <p:cNvSpPr/>
          <p:nvPr/>
        </p:nvSpPr>
        <p:spPr>
          <a:xfrm>
            <a:off x="5076720" y="1341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labras sin significado estable en el sistema de la leng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8 Conector recto de flecha"/>
          <p:cNvCxnSpPr/>
          <p:nvPr/>
        </p:nvCxnSpPr>
        <p:spPr>
          <a:xfrm flipV="1">
            <a:off x="2770560" y="1412640"/>
            <a:ext cx="2088360" cy="2808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pragmática no estudia el enunciado (sintaxis), sino la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enunci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 Marcador de contenido"/>
          <p:cNvSpPr/>
          <p:nvPr/>
        </p:nvSpPr>
        <p:spPr>
          <a:xfrm>
            <a:off x="1476360" y="1916280"/>
            <a:ext cx="7221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eoría que precisa las condiciones de empleo de la lengua: “poner a funcionar la lengua por un acto individual de utilización” (Benveniste, 1966, p. 8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 objeto de estudio no es el producto, sino el “acto mismo de producir un enunciado” (p. 83) desde una perspectiv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punto de vist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está dado por la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instanciación,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a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actualización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del locutor en la enunciación del mensa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 CuadroTexto"/>
          <p:cNvSpPr/>
          <p:nvPr/>
        </p:nvSpPr>
        <p:spPr>
          <a:xfrm>
            <a:off x="324000" y="306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1835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 Conector recto"/>
          <p:cNvSpPr/>
          <p:nvPr/>
        </p:nvSpPr>
        <p:spPr>
          <a:xfrm flipV="1">
            <a:off x="1186560" y="2435040"/>
            <a:ext cx="1513080" cy="63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8 Conector recto"/>
          <p:cNvSpPr/>
          <p:nvPr/>
        </p:nvSpPr>
        <p:spPr>
          <a:xfrm flipH="1">
            <a:off x="2700000" y="2666880"/>
            <a:ext cx="863640" cy="15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0 Conector recto"/>
          <p:cNvSpPr/>
          <p:nvPr/>
        </p:nvSpPr>
        <p:spPr>
          <a:xfrm>
            <a:off x="1187280" y="3530520"/>
            <a:ext cx="648000" cy="92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2700360" y="1844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cio y  osten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2 CuadroTexto"/>
          <p:cNvSpPr/>
          <p:nvPr/>
        </p:nvSpPr>
        <p:spPr>
          <a:xfrm>
            <a:off x="4572000" y="213372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lementos gramaticale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e materializan estas instanciaciones en la enunciación se llaman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deíct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 CuadroTexto"/>
          <p:cNvSpPr/>
          <p:nvPr/>
        </p:nvSpPr>
        <p:spPr>
          <a:xfrm>
            <a:off x="324000" y="306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4 CuadroTexto"/>
          <p:cNvSpPr/>
          <p:nvPr/>
        </p:nvSpPr>
        <p:spPr>
          <a:xfrm>
            <a:off x="1835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 Conector recto"/>
          <p:cNvSpPr/>
          <p:nvPr/>
        </p:nvSpPr>
        <p:spPr>
          <a:xfrm flipV="1">
            <a:off x="1186560" y="2435040"/>
            <a:ext cx="1513080" cy="63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8 Conector recto"/>
          <p:cNvSpPr/>
          <p:nvPr/>
        </p:nvSpPr>
        <p:spPr>
          <a:xfrm flipH="1">
            <a:off x="2700000" y="2666880"/>
            <a:ext cx="863640" cy="15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0 Conector recto"/>
          <p:cNvSpPr/>
          <p:nvPr/>
        </p:nvSpPr>
        <p:spPr>
          <a:xfrm>
            <a:off x="1187280" y="3530520"/>
            <a:ext cx="648000" cy="92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1 CuadroTexto"/>
          <p:cNvSpPr/>
          <p:nvPr/>
        </p:nvSpPr>
        <p:spPr>
          <a:xfrm>
            <a:off x="4572000" y="213372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deíctic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signos que pertenecen a distintas categorías gramaticales (verbo, actualizadores, adverbios, etc.) con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significado solo prag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2700360" y="1844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cio y  osten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 CuadroTexto"/>
          <p:cNvSpPr/>
          <p:nvPr/>
        </p:nvSpPr>
        <p:spPr>
          <a:xfrm>
            <a:off x="324000" y="306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835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6 Conector recto"/>
          <p:cNvSpPr/>
          <p:nvPr/>
        </p:nvSpPr>
        <p:spPr>
          <a:xfrm flipV="1">
            <a:off x="1186560" y="2435040"/>
            <a:ext cx="1513080" cy="63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8 Conector recto"/>
          <p:cNvSpPr/>
          <p:nvPr/>
        </p:nvSpPr>
        <p:spPr>
          <a:xfrm flipH="1">
            <a:off x="2700000" y="2666880"/>
            <a:ext cx="863640" cy="15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0 Conector recto"/>
          <p:cNvSpPr/>
          <p:nvPr/>
        </p:nvSpPr>
        <p:spPr>
          <a:xfrm>
            <a:off x="1187280" y="3530520"/>
            <a:ext cx="648000" cy="92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11 CuadroTexto"/>
          <p:cNvSpPr/>
          <p:nvPr/>
        </p:nvSpPr>
        <p:spPr>
          <a:xfrm>
            <a:off x="4572000" y="213372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deíctic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tienen significado léxico, solo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referencia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l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nunciació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s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9 CuadroTexto"/>
          <p:cNvSpPr/>
          <p:nvPr/>
        </p:nvSpPr>
        <p:spPr>
          <a:xfrm>
            <a:off x="2700360" y="1844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cio y  osten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el proceso de la enunciación         hay tres </a:t>
            </a: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instanciacione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cla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2 CuadroTexto"/>
          <p:cNvSpPr/>
          <p:nvPr/>
        </p:nvSpPr>
        <p:spPr>
          <a:xfrm>
            <a:off x="324000" y="306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9 Rectángulo"/>
          <p:cNvSpPr/>
          <p:nvPr/>
        </p:nvSpPr>
        <p:spPr>
          <a:xfrm>
            <a:off x="2987640" y="2421000"/>
            <a:ext cx="54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Yo – tú – usted – nosotros* – ustedes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sinencia verbal (1° y 2° p. sing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ig</a:t>
            </a: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viene</a:t>
            </a: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nt</a:t>
            </a: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va</a:t>
            </a: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a hab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i – tu – su (2° p. sing. form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16:01Z</dcterms:created>
  <dc:creator>medicina</dc:creator>
  <dc:description/>
  <dc:language>en-US</dc:language>
  <cp:lastModifiedBy>medicina</cp:lastModifiedBy>
  <dcterms:modified xsi:type="dcterms:W3CDTF">2010-11-05T13:29:58Z</dcterms:modified>
  <cp:revision>8</cp:revision>
  <dc:subject/>
  <dc:title>Diapositiva 1</dc:title>
</cp:coreProperties>
</file>