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0444-0558-40A6-BA56-D7E30EC4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16ED-9F5F-4545-8AD2-3AC46CCA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3D1-BF46-4AFF-833C-65A57FCA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62EE-258B-4FB4-AEA8-F77579B9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DB2-5989-48F7-A114-2A69DADC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022-0015-4794-8556-BF0D334A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258-7B73-4192-8FE0-8D946EAE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761-DD84-4F9D-A67C-DFD386DD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698-F8BF-4DB8-ABDF-8D058A49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036-FC4F-40D6-AA5F-02634E8A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6813-9727-468C-AEF1-CAFC216D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F169-FBE3-4294-B6A4-ACB21BD2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68CFCD-B262-44CB-94AC-E8F89ABD69C8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éneros discurs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rmatos de comun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éneros comunic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pos de discur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2 CuadroTexto"/>
          <p:cNvSpPr/>
          <p:nvPr/>
        </p:nvSpPr>
        <p:spPr>
          <a:xfrm>
            <a:off x="4583160" y="960480"/>
            <a:ext cx="49528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ción de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“géneros discursivo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3 Rectángulo"/>
          <p:cNvSpPr/>
          <p:nvPr/>
        </p:nvSpPr>
        <p:spPr>
          <a:xfrm>
            <a:off x="3745080" y="2712960"/>
            <a:ext cx="595296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r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Son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formas arquetípicas relativamente estables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n las que ocurre la interacción comunic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r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Son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de naturaleza sociocognitiva: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los individuos sociales desarrollamos géneros para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lograr fines / propósi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r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ada individuo social es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educado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en los distintos géneros válidos en su comunidad, con el fin de que tenga interacciones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adecu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5 Conector recto"/>
          <p:cNvSpPr/>
          <p:nvPr/>
        </p:nvSpPr>
        <p:spPr>
          <a:xfrm>
            <a:off x="4049640" y="655560"/>
            <a:ext cx="5410440" cy="180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decuación a los gén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03280" y="1767960"/>
            <a:ext cx="44560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la interacción social se vuelve coherente adecuarse a tal o cual género para lograr determinado fin (comunic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111280" y="1767960"/>
            <a:ext cx="4457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interacción social “educa” al individuo en los distintos forma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esquemas fun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intas instancias de educación: los “juegos” de lengu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versidad de gén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3280" y="1767960"/>
            <a:ext cx="44560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En cuántos formatos comunicativos distintos interactuamos a diar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Cuántos formatos comunicativos especializados conoce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11280" y="1767960"/>
            <a:ext cx="4457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exigencias pragmáticas diversas nos exigen los distintos géner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2:15:55Z</dcterms:created>
  <dc:creator>Natalia Rivera Vera</dc:creator>
  <dc:description/>
  <dc:language>en-US</dc:language>
  <cp:lastModifiedBy>medicina</cp:lastModifiedBy>
  <dcterms:modified xsi:type="dcterms:W3CDTF">2010-10-15T13:21:39Z</dcterms:modified>
  <cp:revision>19</cp:revision>
  <dc:subject/>
  <dc:title>Diapositiva 1</dc:title>
</cp:coreProperties>
</file>