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D8D-9E61-4BF9-84DF-1EC84F60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465-D9DE-4AEA-B874-ABAD99D5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B2B-3522-4797-9265-7D699804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EB5-9BDB-455A-A4ED-234E29FC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C74-EC2F-4D09-A0D7-84D718B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C8E-8ADD-4721-A8FB-63E7DBFC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AAA-8BB5-4EBF-B765-3E606922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909-7710-4FB4-8A09-351E5E14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6E0-0401-4641-9178-35685898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A89-08AD-48C7-9278-54B75721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DD7-25A6-41CA-9263-F71238B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170-DAE3-45FA-9485-2702770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DB9C-3C7E-4F20-A955-ABD335E3A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cur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137160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laciones entre los significados de las oraciones particulares constituyentes de un dis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9718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laciones de coherencia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ás características del discurso nar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19200" y="4952880"/>
            <a:ext cx="22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fi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laciones de coherencia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02920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emp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520" y="49528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u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514240" y="4114800"/>
            <a:ext cx="1066680" cy="685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3962520"/>
            <a:ext cx="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4114800"/>
            <a:ext cx="685800" cy="685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52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de relaciones cau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7848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ción provoca nuevo estado físico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comió toda la comida y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gordó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90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ción o estado físico provoca nuevo estado ment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o engordó tanto prometió no robar nunca la comida de sus amiguit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1148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evos estados físicos provocan  o evitan 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quebró la patita y no pudo sal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4100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s mentales provoca accion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o el sapito estaba feliz saltaba por todas part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762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nálisis de las relaciones tempo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5909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dentificación de conectores que marcan la relación tempo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267080"/>
            <a:ext cx="74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e dejaron chocolate, huevito/ y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dekue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lo  comió to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oraciones relacionadas semánt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uden a un tema cent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n una intención comunic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nifiestan en un con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unicativ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9810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40384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án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ucha una voz y nota una sombra. La lleva sobre su espalda con gran esfuerzo. Se siente perdida pero no se preocupa. Es una carga enorme. A cada paso pierde el equilibrio y tiene que volver a levantarse. Un gigantesco dedo la aplasta contra e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a carga en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352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leva sobre su espalda con gran esfue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da paso pierde el equilibrio y tiene que volver a levant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siente perdida pero no se preocu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105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ucha una voz y nota una so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gigantesco dedo la aplasta contra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discurs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acionales: se elabora con la participación de todos los involucrados en la interacción (colaborativ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nversacionales: la elaboración recae en el emisor del discurso (no colaborativ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ón del discurso no convers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del contenido: relaciones semánticas que se establecen entre las oraciones que componen un dis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formal: categorías que constituyen el esquema de un discurso partic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6094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discursos no conversa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iscurso narr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048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scurso exposi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86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Discurso descrip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648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iscurso argument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rso nar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junto de oraciones que aluden a una sucesión de acontecimi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os acontecimientos están relacionados temporal y  causalmente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l discurso narrativo se caracteriza por su complicación  y orientación hacia una re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09680" y="1828800"/>
            <a:ext cx="533412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abía  una  vez  una  ardillita que vivía en el bosque y era muy glotona. Todos los días la ardillita iba y les robaba la comida a todos  sus amigos del bos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animalitos le quisieron dar una  lección  para que  la ardillita  no les comiera más su comida.  Se  les  ocurrió hacerle  una casa  bien chiquitita, con ventanas  y puertas chiquititas y adentro de  la casa  le  dejaron: nueces, chocolates,  miel,  dulces, tortas  y he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762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ARDILLITA GLOT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685800"/>
            <a:ext cx="6705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ardillita  estaba  tan contenta que entró  a su casa y se comió toda la comida y se puso gorda, gor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tonces vinieron sus amiguitos para invitarla a jugar y como ella estaba tan gorda no pudo salir  ni por la puertas  ni por las vent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rque éstas eran muy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tonces  la pobre ardillita, como no pudo salir de su casa,  se puso muy triste porque no podía  ir a jugar con  sus  amiguitos,  sólo podía  mirarlos  por la  vent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tonces, prometió que nunca más iba a comer tanto, y que nunca más les iba a quitar  la comida  porque así ella podría salir de su casa y jugar con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9:31:41Z</dcterms:created>
  <dc:creator>Fac. de Medicina</dc:creator>
  <dc:description/>
  <dc:language>en-US</dc:language>
  <cp:lastModifiedBy>Fac. de Medicina</cp:lastModifiedBy>
  <dcterms:modified xsi:type="dcterms:W3CDTF">2006-09-14T13:48:41Z</dcterms:modified>
  <cp:revision>14</cp:revision>
  <dc:subject/>
  <dc:title>Discurso</dc:title>
</cp:coreProperties>
</file>