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015-6CE7-4DF5-AF76-D358A7A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4D9-D419-4836-94F7-0D3732DF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796-C064-4A79-A030-35100F28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364-D239-4C2B-9261-C94137B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231-6023-4BFF-A6E6-A68DD79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8F3-1FE4-47AE-AAA3-FEF110D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7B4-B084-4E12-B559-675C349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61B-ABA5-4072-820E-786996D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559-C770-4FF1-A5FE-57100C1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61D-046E-468E-B189-A462BE9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49B-F762-445E-8134-9F33571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5A5-E202-4F66-B087-17A3CB4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88E5-38FD-4B74-BF5E-FC555CEEBC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ia indirecta mediante la cual se alude a una entidad implícita a través de una explíc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ena el teléfo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 comí un plato de poro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entina ha sido descortés con Ch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57200"/>
            <a:ext cx="71629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oni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ncipales Metonim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rte por el todo: es un turbo diesel prec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28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todo por la parte: Lavé el auto el sáb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tinente por el contenido : Tomó tres copas de v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048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lugar físico por la institución situada en ese lugar: USA aún no se ha pronunciado al resp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114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nstitución por la personas responsables: La Escuela de Fonoaudiología aprobó los planes de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r por el producto: ¿Puedes pasarme un Kleen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5:13Z</dcterms:created>
  <dc:creator>Fac. de Medicina</dc:creator>
  <dc:description/>
  <dc:language>en-US</dc:language>
  <cp:lastModifiedBy>Carmen</cp:lastModifiedBy>
  <dcterms:modified xsi:type="dcterms:W3CDTF">2010-08-13T20:14:58Z</dcterms:modified>
  <cp:revision>10</cp:revision>
  <dc:subject/>
  <dc:title>METONIMIA</dc:title>
</cp:coreProperties>
</file>