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A322-F1F4-4DE1-A04A-43D7E0D2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58AC-36CF-425A-B4BE-2EEE00FF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6FE8-DDAF-457A-A81A-9E6FA829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228E-ED19-4D58-80B7-4887A820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2723-7041-4893-82FF-82DCCD92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AC3-F5FB-4F57-8B76-A0961513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CB3F-E89A-41EA-9D4D-A47EE012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1EF-93F5-4559-A13E-8F184BB0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F00-2108-407A-B115-D7DAC53E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F43-8FCC-4EF1-AC8A-366AB0A5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5E9-B137-48D1-8BCD-332BA73D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A89-A193-48E7-B494-1B0F7B80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DE9A-E3E1-4033-9B7A-B9511E6AF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imientos para evaluar discurs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ría Mercedes Pav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rmen Julia Col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riangela Maggi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uis Martín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uis Rom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caus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es experimentadas o ejecutadas provocan cambios en los estados men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: El joven cayó al agua y se asust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esos naturales provocan Acciones o cambios en los estados men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: Hubo una ola muy fuerte y el asust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dos físicos o cambio en estado físico provoca nueva acción ejecutada o experiment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balsa parece que está rota y se empieza a hund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era chico el bote no los aguantó a los d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entiende por tema a un contenido que se desarrolla en el discurso, agregando información nueva acerca de é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mismo tema puede tener diferentes informaciones enunciadas en momentos difer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contenidos del enunciado base se convierten en tema si se agrega información nueva acerca de el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ede agregarse información nueva sobre algún contenido de otros enunciados. Cuando ocurre se convierten en tem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análisis se inicia considerando la primera oración como enunciado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ción global: se presenta un todo sin individualizaciones (hay un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e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 la playa - se v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os jóve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 la play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ción analítica: se individualiza a cada personaje (hay u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iñ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 un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iñ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versando – e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v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tá mostrando los músculos a l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iñ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52480" y="533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v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estra su físico a un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qu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133720" y="99072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0574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después se mete con u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447560" y="30481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1148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bote se empieza a hund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11430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22860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a lo mira desde la ori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24480" y="1066680"/>
            <a:ext cx="7632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la niña lo va a ayu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114800" y="2209680"/>
            <a:ext cx="7632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57150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 final salen juntos del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1280" y="1219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3200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34320" y="3124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6172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roestructura (narració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e a una frase que sintetiza los más importante del discur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la narración la frase correcta es la que se  relaciona con el conflicto o con la motivación que origina el rel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s de macroestruc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res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nunciado que está presente en la nar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stitu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nciado que corresponde a un concepto que generaliza e incluye a los contenidos del discur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nciado nuevo que implica al conjunto de los enunciados, sustituyendo e integrando a todos los anteri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x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uando una parte de la macroestructura corresponde a una supresión y la otra a una sustitu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jemplo de análisis de macroestru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y un joven y una niña en la playa. El joven se mete con un bote al mar. Ella lo mira desde la orilla. El bote se hunde y el joven se empieza a ahogar y la niña va y lo salva. Al final salen juntos del agua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ses propuest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niña salva al jo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eligro en el m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ver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uto1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029200" cy="357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pción de escena (form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JE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acio, objetos del marco y personaje del mar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ÓN DEL PERSONAJE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jidad de la superestructura (1-2-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pción de escena 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s espa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s de cu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 de macroestructura (0 - 1 - 1.5 ó 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étodo para evaluar discur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valúan dos tipos de discurs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r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9240" y="4038480"/>
            <a:ext cx="40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ción de esce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á en el mar/ había gente / había cosas/ dos personas jugando con la pelota / y dos personas que estaban hablando/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 chicos en la play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 dos jóvenes que están en la playa y atrás de ellos se ve una canoa y a lo lejos se ve mucha gente / al lado más o menos cerca de ellos hay unos jarritos de juegos / un niñito / un balde con una pala / la niña tiene el pelo largo / él usa short negro / la niña usa un biki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roestruc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correcta cuando se relaciona con uno de los temas más desarroll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descripciones enumerativas pueden tener una macroestructura correcta tipo sustit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y una pareja en la playa/ el joven luce sus músculos / y la niña lo mira / Están conversando / el muchacho la quiere conquist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pareja en la pla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día en la play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joven presum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uto1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886200" cy="312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auto1" descr=""/>
          <p:cNvPicPr/>
          <p:nvPr/>
        </p:nvPicPr>
        <p:blipFill>
          <a:blip r:embed="rId2"/>
          <a:stretch/>
        </p:blipFill>
        <p:spPr>
          <a:xfrm>
            <a:off x="4648320" y="152280"/>
            <a:ext cx="434340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auto1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388620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auto1" descr=""/>
          <p:cNvPicPr/>
          <p:nvPr/>
        </p:nvPicPr>
        <p:blipFill>
          <a:blip r:embed="rId4"/>
          <a:stretch/>
        </p:blipFill>
        <p:spPr>
          <a:xfrm>
            <a:off x="4724280" y="3505320"/>
            <a:ext cx="4267440" cy="295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rración (form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CIÓN DEL PERSONA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SODIO COMPLE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ones, obstáculo, resul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jidad de la superestruct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rración 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s tempor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s caus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 de macroestru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-1-1.5 ó 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caus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relaciones causales aquellas en que se asocian acciones con estados mentales o físic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iones ejecut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r los personajes que actúan como ag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: el niño se sube a un b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iones experiment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r los personajes o por los objetos. En ambos casos les ocurren las ac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: él se cayó del bote, el bote se hund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cesos natura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e ocurren en la narr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: había una torm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ta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ncluyen las emociones, cogniciones, intenciones y disposiciones de los personaj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: ella se asustó, ella sabía nad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ísic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ncluyen características materiales de los obje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: el bote estaba ro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caus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dos mentales causan Acciones ejecutadas o experiment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: El niño quiere conquistar a la niña y la invita a pasear en bo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es experimentadas provocan acciones ejecutadas o experiment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joven se estaba ahogando y la niña lo salv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bote se hunde y el niño se empieza a ahog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bote se hunde y ella lo sa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20:30:02Z</dcterms:created>
  <dc:creator>Fac. de Medicina</dc:creator>
  <dc:description/>
  <dc:language>en-US</dc:language>
  <cp:lastModifiedBy>Carmen</cp:lastModifiedBy>
  <dcterms:modified xsi:type="dcterms:W3CDTF">2010-09-14T14:16:34Z</dcterms:modified>
  <cp:revision>29</cp:revision>
  <dc:subject/>
  <dc:title>Procedimientos para evaluar discurso PREDI </dc:title>
</cp:coreProperties>
</file>