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6CA1-0022-4C34-8430-F0CCFD2614A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 denotación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es el significado objetivo de una palabra, el significado “de diccionario”. Por ejemplo: la palabra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horizonte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significa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línea que limita la visión desde un punto cualquiera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 Sería su significado denotativo. Pero en la frase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El horizonte de la humanidad es muy sombrío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, la misma palabra significa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futuro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, que es un significado añadido, subjetivo y a veces metafórico. Es el significado connotativo o </a:t>
            </a: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onnotación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23FB-9DFE-45DA-8B74-3E421426E7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5157-BE3A-4392-BEDA-FC0941D6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C1C5-9043-4ECE-8328-E640BCE5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7414-2143-41FB-BA14-8C42FF4A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D31C-270A-4144-BD31-8B1C20F2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FF2E-7ACD-48A4-BFAD-665024BE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D329-0071-4DB4-AAD7-77C61395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0B0-0250-46B8-9B93-D792FAD1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CDE7-AC8D-4E4E-9B26-0E01635F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A5A6-081F-470A-B9DC-4CE34857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3FC-58EA-440E-986A-CFE0EF3B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FEE-EFFB-4992-893F-21205C85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E4C-55C1-4743-B58B-72AD27E9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B9D7-E06D-4E25-A916-FCE8696C3A4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MPOS SEMÁN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4760"/>
            <a:ext cx="6400800" cy="17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98989"/>
                </a:solidFill>
                <a:latin typeface="Arial"/>
              </a:rPr>
              <a:t>Claudia Ar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98989"/>
                </a:solidFill>
                <a:latin typeface="Arial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762120" y="1523880"/>
          <a:ext cx="7162560" cy="3714840"/>
        </p:xfrm>
        <a:graphic>
          <a:graphicData uri="http://schemas.openxmlformats.org/drawingml/2006/table">
            <a:tbl>
              <a:tblPr/>
              <a:tblGrid>
                <a:gridCol w="1752480"/>
                <a:gridCol w="1066680"/>
                <a:gridCol w="1067040"/>
                <a:gridCol w="990360"/>
                <a:gridCol w="1067040"/>
                <a:gridCol w="1218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s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ueble para senta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respa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bra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más de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Text Box 73"/>
          <p:cNvSpPr/>
          <p:nvPr/>
        </p:nvSpPr>
        <p:spPr>
          <a:xfrm>
            <a:off x="1523880" y="3808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mplo de Campo Semán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 CuadroTexto"/>
          <p:cNvSpPr/>
          <p:nvPr/>
        </p:nvSpPr>
        <p:spPr>
          <a:xfrm>
            <a:off x="2484360" y="907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10 Conector recto de flecha"/>
          <p:cNvCxnSpPr/>
          <p:nvPr/>
        </p:nvCxnSpPr>
        <p:spPr>
          <a:xfrm flipH="1">
            <a:off x="2986920" y="1125360"/>
            <a:ext cx="108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762120" y="1523880"/>
          <a:ext cx="7162560" cy="3714840"/>
        </p:xfrm>
        <a:graphic>
          <a:graphicData uri="http://schemas.openxmlformats.org/drawingml/2006/table">
            <a:tbl>
              <a:tblPr/>
              <a:tblGrid>
                <a:gridCol w="1752480"/>
                <a:gridCol w="1066680"/>
                <a:gridCol w="1067040"/>
                <a:gridCol w="990360"/>
                <a:gridCol w="1067040"/>
                <a:gridCol w="1218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s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ueble para senta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respa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bra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más de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73"/>
          <p:cNvSpPr/>
          <p:nvPr/>
        </p:nvSpPr>
        <p:spPr>
          <a:xfrm>
            <a:off x="1523880" y="3808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mplo de Campo Semán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3 CuadroTexto"/>
          <p:cNvSpPr/>
          <p:nvPr/>
        </p:nvSpPr>
        <p:spPr>
          <a:xfrm>
            <a:off x="2484360" y="907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10 Conector recto de flecha"/>
          <p:cNvCxnSpPr/>
          <p:nvPr/>
        </p:nvCxnSpPr>
        <p:spPr>
          <a:xfrm flipH="1">
            <a:off x="2986920" y="1125360"/>
            <a:ext cx="108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8" name="Text Box 49"/>
          <p:cNvSpPr/>
          <p:nvPr/>
        </p:nvSpPr>
        <p:spPr>
          <a:xfrm>
            <a:off x="1332000" y="5734080"/>
            <a:ext cx="66247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cc"/>
                </a:solidFill>
                <a:latin typeface="Arial"/>
              </a:rPr>
              <a:t>SEMA: núcleo de significación o rasgo semán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762120" y="1523880"/>
          <a:ext cx="7162560" cy="3714840"/>
        </p:xfrm>
        <a:graphic>
          <a:graphicData uri="http://schemas.openxmlformats.org/drawingml/2006/table">
            <a:tbl>
              <a:tblPr/>
              <a:tblGrid>
                <a:gridCol w="1752480"/>
                <a:gridCol w="1066680"/>
                <a:gridCol w="1067040"/>
                <a:gridCol w="990360"/>
                <a:gridCol w="1067040"/>
                <a:gridCol w="1218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s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ueble para senta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respa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bra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más de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73"/>
          <p:cNvSpPr/>
          <p:nvPr/>
        </p:nvSpPr>
        <p:spPr>
          <a:xfrm>
            <a:off x="1523880" y="3808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mplo de Campo Semán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 CuadroTexto"/>
          <p:cNvSpPr/>
          <p:nvPr/>
        </p:nvSpPr>
        <p:spPr>
          <a:xfrm>
            <a:off x="2484360" y="907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5 CuadroTexto"/>
          <p:cNvSpPr/>
          <p:nvPr/>
        </p:nvSpPr>
        <p:spPr>
          <a:xfrm>
            <a:off x="3564000" y="907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6 CuadroTexto"/>
          <p:cNvSpPr/>
          <p:nvPr/>
        </p:nvSpPr>
        <p:spPr>
          <a:xfrm>
            <a:off x="4643280" y="9079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7 CuadroTexto"/>
          <p:cNvSpPr/>
          <p:nvPr/>
        </p:nvSpPr>
        <p:spPr>
          <a:xfrm>
            <a:off x="5724360" y="9079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8 CuadroTexto"/>
          <p:cNvSpPr/>
          <p:nvPr/>
        </p:nvSpPr>
        <p:spPr>
          <a:xfrm>
            <a:off x="6732720" y="907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10 Conector recto de flecha"/>
          <p:cNvCxnSpPr/>
          <p:nvPr/>
        </p:nvCxnSpPr>
        <p:spPr>
          <a:xfrm flipH="1">
            <a:off x="2986920" y="1125360"/>
            <a:ext cx="108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7" name="12 Conector recto de flecha"/>
          <p:cNvCxnSpPr/>
          <p:nvPr/>
        </p:nvCxnSpPr>
        <p:spPr>
          <a:xfrm flipH="1">
            <a:off x="5076000" y="1125360"/>
            <a:ext cx="108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8" name="13 Conector recto de flecha"/>
          <p:cNvCxnSpPr/>
          <p:nvPr/>
        </p:nvCxnSpPr>
        <p:spPr>
          <a:xfrm flipH="1">
            <a:off x="3994920" y="1125360"/>
            <a:ext cx="252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9" name="14 Conector recto de flecha"/>
          <p:cNvCxnSpPr/>
          <p:nvPr/>
        </p:nvCxnSpPr>
        <p:spPr>
          <a:xfrm flipH="1">
            <a:off x="6155640" y="1125360"/>
            <a:ext cx="108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0" name="15 Conector recto de flecha"/>
          <p:cNvCxnSpPr/>
          <p:nvPr/>
        </p:nvCxnSpPr>
        <p:spPr>
          <a:xfrm flipH="1">
            <a:off x="7235640" y="1125360"/>
            <a:ext cx="216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01" name="Text Box 59"/>
          <p:cNvSpPr/>
          <p:nvPr/>
        </p:nvSpPr>
        <p:spPr>
          <a:xfrm>
            <a:off x="1332000" y="5734080"/>
            <a:ext cx="66247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cc"/>
                </a:solidFill>
                <a:latin typeface="Arial"/>
              </a:rPr>
              <a:t>SEMA: núcleo de significación o rasgo semán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762120" y="1523880"/>
          <a:ext cx="7162560" cy="3714840"/>
        </p:xfrm>
        <a:graphic>
          <a:graphicData uri="http://schemas.openxmlformats.org/drawingml/2006/table">
            <a:tbl>
              <a:tblPr/>
              <a:tblGrid>
                <a:gridCol w="1752480"/>
                <a:gridCol w="1066680"/>
                <a:gridCol w="1067040"/>
                <a:gridCol w="990360"/>
                <a:gridCol w="1067040"/>
                <a:gridCol w="1218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s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ueble para senta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respa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bra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más de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73"/>
          <p:cNvSpPr/>
          <p:nvPr/>
        </p:nvSpPr>
        <p:spPr>
          <a:xfrm>
            <a:off x="1523880" y="3808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mplo de Campo Semán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 CuadroTexto"/>
          <p:cNvSpPr/>
          <p:nvPr/>
        </p:nvSpPr>
        <p:spPr>
          <a:xfrm>
            <a:off x="2484360" y="907920"/>
            <a:ext cx="1008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</a:rPr>
              <a:t>S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CuadroTexto"/>
          <p:cNvSpPr/>
          <p:nvPr/>
        </p:nvSpPr>
        <p:spPr>
          <a:xfrm>
            <a:off x="468360" y="907920"/>
            <a:ext cx="1511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CLASE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5 CuadroTexto"/>
          <p:cNvSpPr/>
          <p:nvPr/>
        </p:nvSpPr>
        <p:spPr>
          <a:xfrm>
            <a:off x="3564000" y="907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6 CuadroTexto"/>
          <p:cNvSpPr/>
          <p:nvPr/>
        </p:nvSpPr>
        <p:spPr>
          <a:xfrm>
            <a:off x="4643280" y="9079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7 CuadroTexto"/>
          <p:cNvSpPr/>
          <p:nvPr/>
        </p:nvSpPr>
        <p:spPr>
          <a:xfrm>
            <a:off x="5724360" y="9079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8 CuadroTexto"/>
          <p:cNvSpPr/>
          <p:nvPr/>
        </p:nvSpPr>
        <p:spPr>
          <a:xfrm>
            <a:off x="6732720" y="907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10 Conector recto de flecha"/>
          <p:cNvCxnSpPr/>
          <p:nvPr/>
        </p:nvCxnSpPr>
        <p:spPr>
          <a:xfrm flipH="1">
            <a:off x="2986920" y="1125360"/>
            <a:ext cx="108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1" name="12 Conector recto de flecha"/>
          <p:cNvCxnSpPr/>
          <p:nvPr/>
        </p:nvCxnSpPr>
        <p:spPr>
          <a:xfrm flipH="1">
            <a:off x="5076000" y="1125360"/>
            <a:ext cx="108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2" name="13 Conector recto de flecha"/>
          <p:cNvCxnSpPr/>
          <p:nvPr/>
        </p:nvCxnSpPr>
        <p:spPr>
          <a:xfrm flipH="1">
            <a:off x="3994920" y="1125360"/>
            <a:ext cx="252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3" name="14 Conector recto de flecha"/>
          <p:cNvCxnSpPr/>
          <p:nvPr/>
        </p:nvCxnSpPr>
        <p:spPr>
          <a:xfrm flipH="1">
            <a:off x="6155640" y="1125360"/>
            <a:ext cx="108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4" name="15 Conector recto de flecha"/>
          <p:cNvCxnSpPr/>
          <p:nvPr/>
        </p:nvCxnSpPr>
        <p:spPr>
          <a:xfrm flipH="1">
            <a:off x="7235640" y="1125360"/>
            <a:ext cx="216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15" name="16 Flecha derecha"/>
          <p:cNvSpPr/>
          <p:nvPr/>
        </p:nvSpPr>
        <p:spPr>
          <a:xfrm>
            <a:off x="2050920" y="981000"/>
            <a:ext cx="433440" cy="2160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1"/>
          <p:cNvSpPr/>
          <p:nvPr/>
        </p:nvSpPr>
        <p:spPr>
          <a:xfrm>
            <a:off x="1332000" y="5734080"/>
            <a:ext cx="66247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cc"/>
                </a:solidFill>
                <a:latin typeface="Arial"/>
              </a:rPr>
              <a:t>SEMA: núcleo de significación o rasgo semán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Los sem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560" y="1413000"/>
            <a:ext cx="8893080" cy="478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n rasgos significativos y distintivos mínimos que dan significado a las palabras y permiten diferenciar sus signifi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NAVAJA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ESP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+ arma blanca                           + arma bla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+ articulada 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            - articu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+ pequeña 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            - peque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a que una oración tenga un sentido semánticamente aceptable, sus palabras tienen que ser semánticamente compatibles en cuanto a sus semas. Por ejemplo: *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El niño come barc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es semánticamente inaceptable porque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barc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no tiene el sema + alimen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ampo semán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rupo de palabras que se relacionan por su sign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significado de cada signo comparte un sema genérico (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Clasem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995640" y="4437000"/>
            <a:ext cx="27432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Rasgo general que informa sobre lo esencial de la palab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3059280" y="4724280"/>
            <a:ext cx="0" cy="4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3059280" y="51577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7 CuadroTexto"/>
          <p:cNvSpPr/>
          <p:nvPr/>
        </p:nvSpPr>
        <p:spPr>
          <a:xfrm>
            <a:off x="1187280" y="3068640"/>
            <a:ext cx="64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SILLA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    SILLÓN       SOFÁ     P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528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 términos </a:t>
            </a:r>
            <a:r>
              <a:rPr b="1" lang="es-MX" sz="2400" spc="-1" strike="noStrike">
                <a:solidFill>
                  <a:srgbClr val="008000"/>
                </a:solidFill>
                <a:latin typeface="Arial"/>
              </a:rPr>
              <a:t>experienciales,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lo conform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n conjunto de </a:t>
            </a: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referente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que tienen características comunes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 términos </a:t>
            </a: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léxico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semánticos,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es un g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upo de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palabra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que se relacionan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por su signifi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 términos de teoría 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semántica,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es un g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upo de palabras que se relacionan porque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comparten un </a:t>
            </a:r>
            <a:r>
              <a:rPr b="1" lang="es-ES" sz="2400" spc="-1" strike="noStrike" u="sng">
                <a:solidFill>
                  <a:srgbClr val="c00000"/>
                </a:solidFill>
                <a:uFillTx/>
                <a:latin typeface="Arial"/>
              </a:rPr>
              <a:t>clasema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 (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Rasgo general que informa sobre lo esencial de la palab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3 Flecha abajo"/>
          <p:cNvSpPr/>
          <p:nvPr/>
        </p:nvSpPr>
        <p:spPr>
          <a:xfrm>
            <a:off x="3635280" y="4149720"/>
            <a:ext cx="1368360" cy="100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ampo semán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8636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2843280" y="2276640"/>
            <a:ext cx="1079280" cy="86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3"/>
          <a:stretch/>
        </p:blipFill>
        <p:spPr>
          <a:xfrm>
            <a:off x="4500720" y="2205000"/>
            <a:ext cx="1584000" cy="936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/>
          <p:cNvPicPr/>
          <p:nvPr/>
        </p:nvPicPr>
        <p:blipFill>
          <a:blip r:embed="rId4"/>
          <a:stretch/>
        </p:blipFill>
        <p:spPr>
          <a:xfrm>
            <a:off x="6588000" y="2349360"/>
            <a:ext cx="7923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jemplo de campo semán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684360" y="1916280"/>
          <a:ext cx="806436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16280"/>
                    <a:ext cx="806436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2"/>
          <p:cNvSpPr/>
          <p:nvPr/>
        </p:nvSpPr>
        <p:spPr>
          <a:xfrm>
            <a:off x="611280" y="47628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Ejemplo de campo semán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03640" y="2349360"/>
            <a:ext cx="35290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635280" y="2637000"/>
            <a:ext cx="7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5003640" y="2276640"/>
            <a:ext cx="3456000" cy="31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3635280" y="2565360"/>
            <a:ext cx="1441440" cy="26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1042920" y="227664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jemplo de campo semán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684360" y="1916280"/>
          <a:ext cx="806436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16280"/>
                    <a:ext cx="806436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2"/>
          <p:cNvSpPr/>
          <p:nvPr/>
        </p:nvSpPr>
        <p:spPr>
          <a:xfrm>
            <a:off x="611280" y="47628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Ejemplo de campo semán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5003640" y="2349360"/>
            <a:ext cx="35290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635280" y="2637000"/>
            <a:ext cx="730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003640" y="2276640"/>
            <a:ext cx="3456000" cy="31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1042920" y="227664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jemplo de campo semán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3"/>
          <p:cNvGraphicFramePr/>
          <p:nvPr/>
        </p:nvGraphicFramePr>
        <p:xfrm>
          <a:off x="684360" y="1989000"/>
          <a:ext cx="806436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806436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2"/>
          <p:cNvSpPr/>
          <p:nvPr/>
        </p:nvSpPr>
        <p:spPr>
          <a:xfrm>
            <a:off x="611280" y="47628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Ejemplo de campo semán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042920" y="234936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5003640" y="2349360"/>
            <a:ext cx="288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mas distingu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¿Qué es un campo semánt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campo semántico está constituido por un grupo de palabras que están relacionadas por su significado, compartiendo ciertas características comunes o referen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547640" y="42926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348000" y="4221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ll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5148360" y="42926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f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6948360" y="42926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ampo semán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843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700" spc="-1" strike="noStrike">
                <a:solidFill>
                  <a:srgbClr val="0000cc"/>
                </a:solidFill>
                <a:latin typeface="Arial"/>
              </a:rPr>
              <a:t>¿Cuáles son los semas (rasgos semánticos) que componen el significado de TORBELLINO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1. perturbación atmosféric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2. vie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3. giro circula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4. reducido a una pequeña área geográfica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La integración de</a:t>
            </a: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 cuatro semas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dan el concepto de </a:t>
            </a:r>
            <a:r>
              <a:rPr b="1" i="1" lang="es-ES_tradnl" sz="1700" spc="-1" strike="noStrike">
                <a:solidFill>
                  <a:srgbClr val="000000"/>
                </a:solidFill>
                <a:latin typeface="Arial"/>
              </a:rPr>
              <a:t>torbellino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700" spc="-1" strike="noStrike">
                <a:solidFill>
                  <a:srgbClr val="0000cc"/>
                </a:solidFill>
                <a:latin typeface="Arial"/>
              </a:rPr>
              <a:t>¿Qué sucede al sustituir el sema 4 (área pequeña) por un nuevo sema: “extensa área geográfica”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Ya no es </a:t>
            </a:r>
            <a:r>
              <a:rPr b="1" i="1" lang="es-ES_tradnl" sz="1700" spc="-1" strike="noStrike">
                <a:solidFill>
                  <a:srgbClr val="000000"/>
                </a:solidFill>
                <a:latin typeface="Arial"/>
              </a:rPr>
              <a:t>torbellino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, sino </a:t>
            </a:r>
            <a:r>
              <a:rPr b="1" i="1" lang="es-ES_tradnl" sz="1700" spc="-1" strike="noStrike">
                <a:solidFill>
                  <a:srgbClr val="000000"/>
                </a:solidFill>
                <a:latin typeface="Arial"/>
              </a:rPr>
              <a:t>huracán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Huracán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torbellino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pertenecen al mismo campo semántico porque tienen semas comunes (1,2 y 3) y otros por los que se oponen: </a:t>
            </a: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extensa área geográfica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frente a </a:t>
            </a: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pequeña área geográfica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13372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Huracá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torbelli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tienen en común: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erturbación atmosférica, viento, circular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ferencias: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extensa área geográfica / pequeña área geográ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ejemplo anterior [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torbelli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] nos aclara lo que es un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campo semánt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un conjunto de palabras cuyo significado tiene semas comunes y, al mismo tiempo, también semas propios por medio de los cuales se diferencian unos de otros dentro del mismo camp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ampo semántico 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lores”: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rojo, amarillo, azu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ampo semántico 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entesco”: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adre, madre, hermano, abuel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ampo semán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</a:t>
            </a:r>
            <a:r>
              <a:rPr b="1" lang="es-ES_tradnl" sz="2800" spc="-1" strike="noStrike">
                <a:solidFill>
                  <a:srgbClr val="800000"/>
                </a:solidFill>
                <a:latin typeface="Arial"/>
              </a:rPr>
              <a:t>campo léxic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los vocablos guardan entre sí una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lación no sól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 significad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(como en el campo semántico),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no también en la form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puesto que tienen en común el </a:t>
            </a:r>
            <a:r>
              <a:rPr b="0" lang="es-ES_tradnl" sz="2800" spc="-1" strike="noStrike">
                <a:solidFill>
                  <a:srgbClr val="800000"/>
                </a:solidFill>
                <a:latin typeface="Arial"/>
              </a:rPr>
              <a:t>lexem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o la </a:t>
            </a:r>
            <a:r>
              <a:rPr b="0" lang="es-ES_tradnl" sz="2800" spc="-1" strike="noStrike">
                <a:solidFill>
                  <a:srgbClr val="800000"/>
                </a:solidFill>
                <a:latin typeface="Arial"/>
              </a:rPr>
              <a:t>raíz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Blanc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o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blanc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ura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blanqu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ear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blanqu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eado,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ant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o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ant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or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ánt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ico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ant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ar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ant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urrea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etc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ampo léx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on mucho más subjetivos y agrupan a aquellas palabras que, según nuestra experiencia personal o social, </a:t>
            </a:r>
            <a:r>
              <a:rPr b="1" lang="es-ES" sz="2600" spc="-1" strike="noStrike">
                <a:solidFill>
                  <a:srgbClr val="7030a0"/>
                </a:solidFill>
                <a:latin typeface="Arial"/>
              </a:rPr>
              <a:t>se agrupan en torno a un significado aunque no compartan ningún sem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or ejemplo, </a:t>
            </a:r>
            <a:r>
              <a:rPr b="1" lang="es-ES" sz="2600" spc="-1" strike="noStrike">
                <a:solidFill>
                  <a:srgbClr val="7030a0"/>
                </a:solidFill>
                <a:latin typeface="Arial"/>
              </a:rPr>
              <a:t>el campo asociativo </a:t>
            </a:r>
            <a:r>
              <a:rPr b="0" lang="es-ES" sz="2600" spc="-1" strike="noStrike">
                <a:solidFill>
                  <a:srgbClr val="7030a0"/>
                </a:solidFill>
                <a:latin typeface="Arial"/>
              </a:rPr>
              <a:t>de la 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nseñanza</a:t>
            </a:r>
            <a:r>
              <a:rPr b="1" lang="es-ES" sz="2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 constituirían palabras tan dispares en cuanto a sus semas pero relacionadas conceptualmente como </a:t>
            </a:r>
            <a:r>
              <a:rPr b="0" i="1" lang="es-ES" sz="2600" spc="-1" strike="noStrike">
                <a:solidFill>
                  <a:srgbClr val="ff0000"/>
                </a:solidFill>
                <a:latin typeface="Arial"/>
              </a:rPr>
              <a:t>profesor, pizarra, alumno, carpeta, estuche, sirena, recre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ampo léxico - asoci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8000"/>
                </a:solidFill>
                <a:latin typeface="Arial"/>
              </a:rPr>
              <a:t>¿campo semántico, campo léxico o campo asociativ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sa, casilla, caserón, casero, cas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buey, vaca, toro, ternero, cuernos, rumiar, carreta, yugo, labranza, fuerza, resistencia, pas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pejismo - delirio - ficción - fantasía - alucinación - sueño - quimera - utop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</a:rPr>
              <a:t>Completa las oraciones siguientes con las palabras adecuadas del campo semántico de </a:t>
            </a:r>
            <a:r>
              <a:rPr b="1" lang="es-ES" sz="1800" spc="-1" strike="noStrike" u="sng">
                <a:solidFill>
                  <a:srgbClr val="008000"/>
                </a:solidFill>
                <a:uFillTx/>
                <a:latin typeface="Arial"/>
              </a:rPr>
              <a:t>irrealidad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900000" y="4366080"/>
            <a:ext cx="65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s novelas son obras de ____________ 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dro tiene una desbordante _____________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paciente sufre de ______________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explorador vio un ______________ en el desierto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u plan es irrealizable; es una _______________ 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 ______________ es ser un buen pianista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e hombre tiene _______________de grandeza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iere ser astronauta pero eso es una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________________________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DefaultOcx" descr=""/>
          <p:cNvPicPr/>
          <p:nvPr/>
        </p:nvPicPr>
        <p:blipFill>
          <a:blip r:embed="rId1"/>
          <a:stretch/>
        </p:blipFill>
        <p:spPr>
          <a:xfrm>
            <a:off x="3365640" y="2773440"/>
            <a:ext cx="106668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8" name="HTMLText1" descr=""/>
          <p:cNvPicPr/>
          <p:nvPr/>
        </p:nvPicPr>
        <p:blipFill>
          <a:blip r:embed="rId2"/>
          <a:stretch/>
        </p:blipFill>
        <p:spPr>
          <a:xfrm>
            <a:off x="3365640" y="2773440"/>
            <a:ext cx="106668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9" name="HTMLText2" descr=""/>
          <p:cNvPicPr/>
          <p:nvPr/>
        </p:nvPicPr>
        <p:blipFill>
          <a:blip r:embed="rId3"/>
          <a:stretch/>
        </p:blipFill>
        <p:spPr>
          <a:xfrm>
            <a:off x="3365640" y="2773440"/>
            <a:ext cx="106668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0" name="HTMLText3" descr=""/>
          <p:cNvPicPr/>
          <p:nvPr/>
        </p:nvPicPr>
        <p:blipFill>
          <a:blip r:embed="rId4"/>
          <a:stretch/>
        </p:blipFill>
        <p:spPr>
          <a:xfrm>
            <a:off x="7380360" y="3429000"/>
            <a:ext cx="106668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HTMLText4" descr=""/>
          <p:cNvPicPr/>
          <p:nvPr/>
        </p:nvPicPr>
        <p:blipFill>
          <a:blip r:embed="rId5"/>
          <a:stretch/>
        </p:blipFill>
        <p:spPr>
          <a:xfrm>
            <a:off x="7308720" y="1700280"/>
            <a:ext cx="106704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HTMLText5" descr=""/>
          <p:cNvPicPr/>
          <p:nvPr/>
        </p:nvPicPr>
        <p:blipFill>
          <a:blip r:embed="rId6"/>
          <a:stretch/>
        </p:blipFill>
        <p:spPr>
          <a:xfrm>
            <a:off x="7308720" y="1413000"/>
            <a:ext cx="106704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8000"/>
                </a:solidFill>
                <a:latin typeface="Arial"/>
              </a:rPr>
              <a:t>Clasifica los siguientes verbos en dos campos semántico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fraternizar - aborrecer - repugnar - congeniar - intimar - detesta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800000"/>
                </a:solidFill>
                <a:latin typeface="Arial"/>
              </a:rPr>
              <a:t>                </a:t>
            </a:r>
            <a:r>
              <a:rPr b="1" lang="es-CL" sz="2400" spc="-1" strike="noStrike">
                <a:solidFill>
                  <a:srgbClr val="800000"/>
                </a:solidFill>
                <a:latin typeface="Arial"/>
              </a:rPr>
              <a:t>AMISTAD</a:t>
            </a:r>
            <a:r>
              <a:rPr b="1" lang="es-C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800000"/>
                </a:solidFill>
                <a:latin typeface="Arial"/>
              </a:rPr>
              <a:t>ENEMIST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¿BAJO CUÁLES DOS CLASEMAS ES POSIBLE AGRUPAR LOS SIGUIENTES CONCEPTOS?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rfume - rumor - acústico - fétido - crujir - fragancia - chirriar - susurro - audición - pestilencia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pirar - tañido - irrespirable - olfatear - hedor - auscultar - murmullo - husmear - audibl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8000"/>
                </a:solidFill>
                <a:latin typeface="Arial"/>
              </a:rPr>
              <a:t>CLASEMA 1: ___________ CLASEMA 2:____________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mpos semánticos / Categor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tegorizar implic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ganizar la re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grupar elementos diferentes según un crite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ara categorizar se requie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Generaliz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No se consideran las diferencias entre las entidades y se agrupan según sus semejanz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Discrimin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enfatizar las diferencias de 2 o más entidades para que no se confund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ontenidos del curso: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MÁN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mántica léx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ipos de sign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laciones léx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valuación de sinónimos y antón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mpos semán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enguaje figu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curso y ámbito semán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640" y="380880"/>
            <a:ext cx="7920000" cy="9907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LOS TIPOS DE SIGNIFI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85800" y="2209680"/>
            <a:ext cx="25146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pos de signifi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 flipV="1">
            <a:off x="3276720" y="1988640"/>
            <a:ext cx="2158920" cy="677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5334120" y="167652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notativo/ Connot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imes New Roman"/>
              </a:rPr>
              <a:t>(Ej. Yo hablo </a:t>
            </a:r>
            <a:r>
              <a:rPr b="1" lang="es-MX" sz="2400" spc="-1" strike="noStrike">
                <a:solidFill>
                  <a:srgbClr val="333399"/>
                </a:solidFill>
                <a:latin typeface="Times New Roman"/>
              </a:rPr>
              <a:t>castellano</a:t>
            </a:r>
            <a:r>
              <a:rPr b="0" lang="es-MX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3276720" y="2666880"/>
            <a:ext cx="2232000" cy="546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5334120" y="2971800"/>
            <a:ext cx="289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ramatical/lé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imes New Roman"/>
              </a:rPr>
              <a:t>(Ej. Casona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3276720" y="2666880"/>
            <a:ext cx="2303280" cy="1914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3635280" y="5373720"/>
            <a:ext cx="55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il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imes New Roman"/>
              </a:rPr>
              <a:t>(Ej. “lorea”, “la pava”, “pan batido”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>
            <a:off x="3276720" y="2666880"/>
            <a:ext cx="2374920" cy="2922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4932360" y="4365720"/>
            <a:ext cx="396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fe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333399"/>
                </a:solidFill>
                <a:latin typeface="Times New Roman"/>
              </a:rPr>
              <a:t>(Ej. Ella es una </a:t>
            </a:r>
            <a:r>
              <a:rPr b="1" lang="es-MX" sz="2400" spc="-1" strike="noStrike">
                <a:solidFill>
                  <a:srgbClr val="333399"/>
                </a:solidFill>
                <a:latin typeface="Times New Roman"/>
              </a:rPr>
              <a:t>mujeraza</a:t>
            </a:r>
            <a:r>
              <a:rPr b="0" lang="es-MX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¿Qué es un campo semánt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campo semántico está constituido por un grupo de palabras que están relacionadas por su significado, compartiendo ciertas características comunes o referen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4 Conector recto de flecha"/>
          <p:cNvCxnSpPr/>
          <p:nvPr/>
        </p:nvCxnSpPr>
        <p:spPr>
          <a:xfrm>
            <a:off x="2123640" y="4723920"/>
            <a:ext cx="208836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6 Conector recto de flecha"/>
          <p:cNvCxnSpPr/>
          <p:nvPr/>
        </p:nvCxnSpPr>
        <p:spPr>
          <a:xfrm flipH="1">
            <a:off x="5076360" y="4723200"/>
            <a:ext cx="216000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8 Conector recto de flecha"/>
          <p:cNvCxnSpPr/>
          <p:nvPr/>
        </p:nvCxnSpPr>
        <p:spPr>
          <a:xfrm>
            <a:off x="3851280" y="4723920"/>
            <a:ext cx="65016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10 Conector recto de flecha"/>
          <p:cNvCxnSpPr/>
          <p:nvPr/>
        </p:nvCxnSpPr>
        <p:spPr>
          <a:xfrm flipH="1">
            <a:off x="4858920" y="4723920"/>
            <a:ext cx="65016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11 CuadroTexto"/>
          <p:cNvSpPr/>
          <p:nvPr/>
        </p:nvSpPr>
        <p:spPr>
          <a:xfrm>
            <a:off x="3419640" y="573264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alibri"/>
              </a:rPr>
              <a:t>SIRVE PARA SENT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547640" y="42926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3348000" y="4221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ll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5148360" y="42926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f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6948360" y="42926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aciones que se establecen entre los significados de las pala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 flipH="1">
            <a:off x="914040" y="2286000"/>
            <a:ext cx="335268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-252360" y="4724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oni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7"/>
          <p:cNvSpPr/>
          <p:nvPr/>
        </p:nvSpPr>
        <p:spPr>
          <a:xfrm flipH="1">
            <a:off x="2518200" y="2399760"/>
            <a:ext cx="1796400" cy="230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692360" y="4797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oni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4343400" y="2362320"/>
            <a:ext cx="3808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492360" y="47973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s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4419720" y="2362320"/>
            <a:ext cx="2057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5364000" y="479736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moni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4420080" y="2280960"/>
            <a:ext cx="3958200" cy="229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187280" y="0"/>
            <a:ext cx="69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LAS RELACIONES LÉX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0" y="5589720"/>
            <a:ext cx="19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EL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T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619280" y="5589720"/>
            <a:ext cx="19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EL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R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348000" y="558972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R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de la ola/del gal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7164360" y="47242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pero/Hiponi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148360" y="558972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B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metal/ verbo cobr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6948360" y="5589720"/>
            <a:ext cx="198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G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1. Prueba para evaluar </a:t>
            </a:r>
            <a:r>
              <a:rPr b="1" i="1" lang="es-CL" sz="3200" spc="-1" strike="noStrike">
                <a:solidFill>
                  <a:srgbClr val="ff0000"/>
                </a:solidFill>
                <a:latin typeface="Arial"/>
              </a:rPr>
              <a:t>habilidades semánticas</a:t>
            </a: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 relacionadas con el discur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valuación de uso de </a:t>
            </a: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sinónimos y antón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. Método para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valuar discurso descriptivo y narrativo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762120" y="1523880"/>
          <a:ext cx="7162560" cy="3714840"/>
        </p:xfrm>
        <a:graphic>
          <a:graphicData uri="http://schemas.openxmlformats.org/drawingml/2006/table">
            <a:tbl>
              <a:tblPr/>
              <a:tblGrid>
                <a:gridCol w="1752480"/>
                <a:gridCol w="1066680"/>
                <a:gridCol w="1067040"/>
                <a:gridCol w="990360"/>
                <a:gridCol w="1067040"/>
                <a:gridCol w="1218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s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ueble para senta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respa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bra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más de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Text Box 73"/>
          <p:cNvSpPr/>
          <p:nvPr/>
        </p:nvSpPr>
        <p:spPr>
          <a:xfrm>
            <a:off x="1523880" y="3808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mplo de Campo Semán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3 CuadroTexto"/>
          <p:cNvSpPr/>
          <p:nvPr/>
        </p:nvSpPr>
        <p:spPr>
          <a:xfrm>
            <a:off x="2484360" y="907920"/>
            <a:ext cx="1008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</a:rPr>
              <a:t>S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4 CuadroTexto"/>
          <p:cNvSpPr/>
          <p:nvPr/>
        </p:nvSpPr>
        <p:spPr>
          <a:xfrm>
            <a:off x="468360" y="907920"/>
            <a:ext cx="1511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CLASE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5 CuadroTexto"/>
          <p:cNvSpPr/>
          <p:nvPr/>
        </p:nvSpPr>
        <p:spPr>
          <a:xfrm>
            <a:off x="3564000" y="907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6 CuadroTexto"/>
          <p:cNvSpPr/>
          <p:nvPr/>
        </p:nvSpPr>
        <p:spPr>
          <a:xfrm>
            <a:off x="4643280" y="9079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7 CuadroTexto"/>
          <p:cNvSpPr/>
          <p:nvPr/>
        </p:nvSpPr>
        <p:spPr>
          <a:xfrm>
            <a:off x="5724360" y="9079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CuadroTexto"/>
          <p:cNvSpPr/>
          <p:nvPr/>
        </p:nvSpPr>
        <p:spPr>
          <a:xfrm>
            <a:off x="6732720" y="907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</a:rPr>
              <a:t>SEMA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10 Conector recto de flecha"/>
          <p:cNvCxnSpPr/>
          <p:nvPr/>
        </p:nvCxnSpPr>
        <p:spPr>
          <a:xfrm flipH="1">
            <a:off x="2986920" y="1125360"/>
            <a:ext cx="108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19" name="12 Conector recto de flecha"/>
          <p:cNvCxnSpPr/>
          <p:nvPr/>
        </p:nvCxnSpPr>
        <p:spPr>
          <a:xfrm flipH="1">
            <a:off x="5076000" y="1125360"/>
            <a:ext cx="108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20" name="13 Conector recto de flecha"/>
          <p:cNvCxnSpPr/>
          <p:nvPr/>
        </p:nvCxnSpPr>
        <p:spPr>
          <a:xfrm flipH="1">
            <a:off x="3994920" y="1125360"/>
            <a:ext cx="252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21" name="14 Conector recto de flecha"/>
          <p:cNvCxnSpPr/>
          <p:nvPr/>
        </p:nvCxnSpPr>
        <p:spPr>
          <a:xfrm flipH="1">
            <a:off x="6155640" y="1125360"/>
            <a:ext cx="108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22" name="15 Conector recto de flecha"/>
          <p:cNvCxnSpPr/>
          <p:nvPr/>
        </p:nvCxnSpPr>
        <p:spPr>
          <a:xfrm flipH="1">
            <a:off x="7235640" y="1125360"/>
            <a:ext cx="2160" cy="361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23" name="16 Flecha derecha"/>
          <p:cNvSpPr/>
          <p:nvPr/>
        </p:nvSpPr>
        <p:spPr>
          <a:xfrm>
            <a:off x="2050920" y="981000"/>
            <a:ext cx="433440" cy="2160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1"/>
          <p:cNvSpPr/>
          <p:nvPr/>
        </p:nvSpPr>
        <p:spPr>
          <a:xfrm>
            <a:off x="1332000" y="5734080"/>
            <a:ext cx="66247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cc"/>
                </a:solidFill>
                <a:latin typeface="Arial"/>
              </a:rPr>
              <a:t>SEMA: núcleo de significación o rasgo semán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mpos Semán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ernard Potti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aboró un modelo que le permitió describir la </a:t>
            </a:r>
            <a:r>
              <a:rPr b="1" lang="es-ES" sz="3200" spc="-1" strike="noStrike">
                <a:solidFill>
                  <a:srgbClr val="7030a0"/>
                </a:solidFill>
                <a:latin typeface="Arial"/>
              </a:rPr>
              <a:t>organización de los campos semántico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676520" y="5257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762120" y="1523880"/>
          <a:ext cx="7162560" cy="3714840"/>
        </p:xfrm>
        <a:graphic>
          <a:graphicData uri="http://schemas.openxmlformats.org/drawingml/2006/table">
            <a:tbl>
              <a:tblPr/>
              <a:tblGrid>
                <a:gridCol w="1752480"/>
                <a:gridCol w="1066680"/>
                <a:gridCol w="1067040"/>
                <a:gridCol w="990360"/>
                <a:gridCol w="1067040"/>
                <a:gridCol w="1218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s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eble para senta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73"/>
          <p:cNvSpPr/>
          <p:nvPr/>
        </p:nvSpPr>
        <p:spPr>
          <a:xfrm>
            <a:off x="1523880" y="3808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mplo de Campo Semán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762120" y="1523880"/>
          <a:ext cx="7162560" cy="3714840"/>
        </p:xfrm>
        <a:graphic>
          <a:graphicData uri="http://schemas.openxmlformats.org/drawingml/2006/table">
            <a:tbl>
              <a:tblPr/>
              <a:tblGrid>
                <a:gridCol w="1752480"/>
                <a:gridCol w="1066680"/>
                <a:gridCol w="1067040"/>
                <a:gridCol w="990360"/>
                <a:gridCol w="1067040"/>
                <a:gridCol w="1218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s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eble para senta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respa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73"/>
          <p:cNvSpPr/>
          <p:nvPr/>
        </p:nvSpPr>
        <p:spPr>
          <a:xfrm>
            <a:off x="1523880" y="3808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mplo de Campo Semán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762120" y="1523880"/>
          <a:ext cx="7162560" cy="3714840"/>
        </p:xfrm>
        <a:graphic>
          <a:graphicData uri="http://schemas.openxmlformats.org/drawingml/2006/table">
            <a:tbl>
              <a:tblPr/>
              <a:tblGrid>
                <a:gridCol w="1752480"/>
                <a:gridCol w="1066680"/>
                <a:gridCol w="1067040"/>
                <a:gridCol w="990360"/>
                <a:gridCol w="1067040"/>
                <a:gridCol w="1218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s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eble para senta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respa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bra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73"/>
          <p:cNvSpPr/>
          <p:nvPr/>
        </p:nvSpPr>
        <p:spPr>
          <a:xfrm>
            <a:off x="1523880" y="3808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mplo de Campo Semán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762120" y="1523880"/>
          <a:ext cx="7162560" cy="3714840"/>
        </p:xfrm>
        <a:graphic>
          <a:graphicData uri="http://schemas.openxmlformats.org/drawingml/2006/table">
            <a:tbl>
              <a:tblPr/>
              <a:tblGrid>
                <a:gridCol w="1752480"/>
                <a:gridCol w="1066680"/>
                <a:gridCol w="1067040"/>
                <a:gridCol w="990360"/>
                <a:gridCol w="1067040"/>
                <a:gridCol w="1218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s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eble para senta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respa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bra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73"/>
          <p:cNvSpPr/>
          <p:nvPr/>
        </p:nvSpPr>
        <p:spPr>
          <a:xfrm>
            <a:off x="1523880" y="3808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mplo de Campo Semán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762120" y="1523880"/>
          <a:ext cx="7162560" cy="3714840"/>
        </p:xfrm>
        <a:graphic>
          <a:graphicData uri="http://schemas.openxmlformats.org/drawingml/2006/table">
            <a:tbl>
              <a:tblPr/>
              <a:tblGrid>
                <a:gridCol w="1752480"/>
                <a:gridCol w="1066680"/>
                <a:gridCol w="1067040"/>
                <a:gridCol w="990360"/>
                <a:gridCol w="1067040"/>
                <a:gridCol w="1218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s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eble para senta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respa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bra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más de una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73"/>
          <p:cNvSpPr/>
          <p:nvPr/>
        </p:nvSpPr>
        <p:spPr>
          <a:xfrm>
            <a:off x="1523880" y="3808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mplo de Campo Semán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19:15:29Z</dcterms:created>
  <dc:creator>a</dc:creator>
  <dc:description/>
  <dc:language>en-US</dc:language>
  <cp:lastModifiedBy>a</cp:lastModifiedBy>
  <dcterms:modified xsi:type="dcterms:W3CDTF">2010-08-17T14:35:56Z</dcterms:modified>
  <cp:revision>26</cp:revision>
  <dc:subject/>
  <dc:title>CAMPOS SEMÁNTICOS</dc:title>
</cp:coreProperties>
</file>