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E98-D3ED-4635-832D-F9727A29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BB2-11AA-4F70-9C0F-9F621DA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672-DE1B-4CE4-A004-33DF83E3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B40-0B2F-462A-9D2A-869C20D8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8D26-C2B3-423F-904D-5275BD57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1400-5E56-4444-8E31-F84DCF2E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0C90-31E8-4BDE-8A54-56855495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CAC6-B86B-4EFF-9080-B6E25F48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E0FF-4DB1-4FFD-B781-DD9FF33F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8C9C-0DB2-48D8-8ABD-CB675582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0873-DE56-406A-85D3-2688C10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6E8-28F9-462E-AABC-92F37F50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A5F1-BAD4-4B2E-A2FE-FC69CC9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F303-E34E-41C1-87F9-7A1789EA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44C1-A9E7-4A38-A5A9-7B4D9AD4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32BF-E02E-4573-9636-9AE4B8CD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74D2-D32C-44D5-AFBC-D7C863F9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D2E-6958-4A43-9F19-4DFECCA1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951-197C-4BE7-8AB5-8F9574E7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D2A-62FC-4D94-92B4-91818FB8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9F3-D6B7-4723-8718-E95DBFE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9C1-085E-4327-A7C5-2452EF6C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81A-2957-4F6C-8AB9-BC68CCDD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C4C-75F3-4A56-BD16-C1F7EB56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037B-CE85-4746-A1A1-13D81F3115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1A3F-4E39-4718-8B04-23A747A07B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7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i="1" lang="es-CL" sz="3700" spc="-1" strike="noStrike">
                <a:solidFill>
                  <a:srgbClr val="336666"/>
                </a:solidFill>
                <a:latin typeface="Arial Black"/>
              </a:rPr>
              <a:t>PREDI: evaluación del uso de antónimos y sinónimos en adolescentes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udia Ar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Investigaciones revelan que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 Jóvenes derivados al fonoaudiólogo por problemas de rendimiento escolar presentan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rendimientos significativamente inferiores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algunas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habilidades semántic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elacionadas con el discurso al compararlos con un grupo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) Adolescentes con dificultades en el manejo del discurso evidencian problemas en la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estructura forma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en el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conteni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e sus descripciones, narraciones y argumentaciones. 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En definitiva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) a menor manejo de discurso, menor rendimiento escola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B) mayor incidencia en liceos municipalizad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) habilidades semánticas descendid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D) estructura y contenido del discurso deficitari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700" spc="-1" strike="noStrike">
                <a:solidFill>
                  <a:srgbClr val="336666"/>
                </a:solidFill>
                <a:latin typeface="Arial"/>
              </a:rPr>
              <a:t>A partir de lo establecido por estos hallazgos se elabora entonces el PREDI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Desarrollo lingüístico en adolescen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i bien es más lento y es poco perceptible, este sigue ocurriend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1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i="1" lang="es-CL" sz="3100" spc="-1" strike="noStrike">
                <a:solidFill>
                  <a:srgbClr val="336666"/>
                </a:solidFill>
                <a:latin typeface="Arial"/>
              </a:rPr>
              <a:t>¿Qué implica esto?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Que aún puede alterarse y que, por tanto, está sujeto a intervenció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3780000" y="3716280"/>
            <a:ext cx="107928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Desarrollo lingüístico en adolescen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plano sintáctico, se advierte un incremento en la complejidad sintáctica de las o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de mayor variedad de oraciones subordinadas y de nexos de subord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708360" y="3429000"/>
            <a:ext cx="1295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Desarrollo lingüístico en adolescen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3772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el plano semántico, se destaca el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aumento del léxico abstrac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especializa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surge por la interacción con el lenguaje escrito y los contenidos esco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lectura6"/>
          <p:cNvPicPr/>
          <p:nvPr/>
        </p:nvPicPr>
        <p:blipFill>
          <a:blip r:embed="rId1"/>
          <a:stretch/>
        </p:blipFill>
        <p:spPr>
          <a:xfrm>
            <a:off x="4686480" y="2133720"/>
            <a:ext cx="3989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6666"/>
                </a:solidFill>
                <a:latin typeface="Arial Black"/>
              </a:rPr>
              <a:t>PREDI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1. Prueba para evaluar </a:t>
            </a:r>
            <a:r>
              <a:rPr b="1" i="1" lang="es-CL" sz="3100" spc="-1" strike="noStrike">
                <a:solidFill>
                  <a:srgbClr val="000000"/>
                </a:solidFill>
                <a:latin typeface="Arial"/>
              </a:rPr>
              <a:t>habilidades semánticas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relacionadas con el discurs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2. Método para </a:t>
            </a: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evaluar discurso descriptivo y narrativ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6666"/>
                </a:solidFill>
                <a:latin typeface="Arial Black"/>
              </a:rPr>
              <a:t>PREDI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0000"/>
                </a:solidFill>
                <a:latin typeface="Arial"/>
              </a:rPr>
              <a:t>1. Prueba para evaluar </a:t>
            </a:r>
            <a:r>
              <a:rPr b="1" i="1" lang="es-CL" sz="3100" spc="-1" strike="noStrike">
                <a:solidFill>
                  <a:srgbClr val="ff0000"/>
                </a:solidFill>
                <a:latin typeface="Arial"/>
              </a:rPr>
              <a:t>habilidades semánticas</a:t>
            </a:r>
            <a:r>
              <a:rPr b="0" lang="es-CL" sz="3100" spc="-1" strike="noStrike">
                <a:solidFill>
                  <a:srgbClr val="ff0000"/>
                </a:solidFill>
                <a:latin typeface="Arial"/>
              </a:rPr>
              <a:t> relacionadas con el discurs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2. Método para </a:t>
            </a: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evaluar discurso descriptivo y narrativ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336666"/>
                </a:solidFill>
                <a:latin typeface="Arial Black"/>
              </a:rPr>
              <a:t>Prueba para evaluar </a:t>
            </a:r>
            <a:r>
              <a:rPr b="1" i="1" lang="es-CL" sz="2900" spc="-1" strike="noStrike">
                <a:solidFill>
                  <a:srgbClr val="336666"/>
                </a:solidFill>
                <a:latin typeface="Arial Black"/>
              </a:rPr>
              <a:t>habilidades semánticas</a:t>
            </a:r>
            <a:r>
              <a:rPr b="0" lang="es-CL" sz="2900" spc="-1" strike="noStrike">
                <a:solidFill>
                  <a:srgbClr val="336666"/>
                </a:solidFill>
                <a:latin typeface="Arial Black"/>
              </a:rPr>
              <a:t> relacionadas con el discurso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Arial"/>
              </a:rPr>
              <a:t>PROPÓSITO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: conocer el manejo de algunas </a:t>
            </a:r>
            <a:r>
              <a:rPr b="1" lang="es-CL" sz="2700" spc="-1" strike="noStrike">
                <a:solidFill>
                  <a:srgbClr val="ff0000"/>
                </a:solidFill>
                <a:latin typeface="Arial"/>
              </a:rPr>
              <a:t>habilidades semánticas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 relacionadas con el discurso en adolescentes, estudiantes de enseñanza medi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Dentro de estas </a:t>
            </a:r>
            <a:r>
              <a:rPr b="1" lang="es-CL" sz="2700" spc="-1" strike="noStrike">
                <a:solidFill>
                  <a:srgbClr val="000000"/>
                </a:solidFill>
                <a:latin typeface="Arial"/>
              </a:rPr>
              <a:t>habilidades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, la prueba evalúa la habilidad para establecer </a:t>
            </a:r>
            <a:r>
              <a:rPr b="1" lang="es-CL" sz="2700" spc="-1" strike="noStrike">
                <a:solidFill>
                  <a:srgbClr val="000000"/>
                </a:solidFill>
                <a:latin typeface="Arial"/>
              </a:rPr>
              <a:t>relaciones léxicas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 en un contexto oraciona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6666"/>
                </a:solidFill>
                <a:latin typeface="Arial Black"/>
              </a:rPr>
              <a:t>Tareas para evaluar </a:t>
            </a:r>
            <a:r>
              <a:rPr b="1" lang="es-CL" sz="2800" spc="-1" strike="noStrike">
                <a:solidFill>
                  <a:srgbClr val="c00000"/>
                </a:solidFill>
                <a:latin typeface="Arial Black"/>
              </a:rPr>
              <a:t>relaciones léxicas</a:t>
            </a:r>
            <a:r>
              <a:rPr b="0" lang="es-CL" sz="2800" spc="-1" strike="noStrike">
                <a:solidFill>
                  <a:srgbClr val="336666"/>
                </a:solidFill>
                <a:latin typeface="Arial Black"/>
              </a:rPr>
              <a:t> en un contexto oracional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Habilidad para encontrar </a:t>
            </a:r>
            <a:r>
              <a:rPr b="1" lang="es-CL" sz="3100" spc="-1" strike="noStrike">
                <a:solidFill>
                  <a:srgbClr val="ff0000"/>
                </a:solidFill>
                <a:latin typeface="Arial"/>
              </a:rPr>
              <a:t>sinónimos y antónimos 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en un contexto oracion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Tarea solicitada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: reemplazar por un sinónimo o antónimo (según lo establezca la tarea) la palabra estímulo entregada en una oració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336666"/>
                </a:solidFill>
                <a:latin typeface="Arial Black"/>
              </a:rPr>
              <a:t>Administración y corrección de la prueb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26560" y="177336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Se aplica en forma individu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No se controla el tiempo de las respuest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Si el joven necesita repetición, se repite el estímulo hasta dos veces y se registra el hecho junto a la respuesta en el protocol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sta información puede ser útil en un análisis cualitativodel desempeño de los jóv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ones que se establecen entre los significados de las 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914040" y="2286000"/>
            <a:ext cx="3352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25236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2518200" y="2399760"/>
            <a:ext cx="1796400" cy="230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692360" y="4797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343400" y="2362320"/>
            <a:ext cx="3808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492360" y="4797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s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419720" y="2362320"/>
            <a:ext cx="2057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364000" y="47973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4420080" y="2280960"/>
            <a:ext cx="3958200" cy="229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187280" y="33336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(CLASE ANT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AS RELACIONES LÉ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7164360" y="4724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ero/Hip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6666"/>
                </a:solidFill>
                <a:latin typeface="Arial Black"/>
              </a:rPr>
              <a:t>Respuestas correctas en la evaluación de </a:t>
            </a:r>
            <a:r>
              <a:rPr b="0" lang="es-MX" sz="2800" spc="-1" strike="noStrike">
                <a:solidFill>
                  <a:srgbClr val="c00000"/>
                </a:solidFill>
                <a:latin typeface="Arial Black"/>
              </a:rPr>
              <a:t>sinónimos</a:t>
            </a:r>
            <a:r>
              <a:rPr b="0" lang="es-MX" sz="2800" spc="-1" strike="noStrike">
                <a:solidFill>
                  <a:srgbClr val="336666"/>
                </a:solidFill>
                <a:latin typeface="Arial Black"/>
              </a:rPr>
              <a:t> y </a:t>
            </a:r>
            <a:r>
              <a:rPr b="0" lang="es-MX" sz="2800" spc="-1" strike="noStrike">
                <a:solidFill>
                  <a:srgbClr val="c00000"/>
                </a:solidFill>
                <a:latin typeface="Arial Black"/>
              </a:rPr>
              <a:t>antónimos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respuestas que se consideran correctas se obtuvieron del </a:t>
            </a:r>
            <a:r>
              <a:rPr b="1" lang="es-MX" sz="2400" spc="-1" strike="noStrike">
                <a:solidFill>
                  <a:srgbClr val="336666"/>
                </a:solidFill>
                <a:latin typeface="Arial"/>
              </a:rPr>
              <a:t>análisis de la frecuencia de respuestas formuladas por adolescentes de liceos municipalizados</a:t>
            </a:r>
            <a:r>
              <a:rPr b="0" lang="es-MX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una aplicación preliminar de los ítemes (Álvarez, G. y otros, 1994) y de la información proveniente de diversos diccio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alternativas correctas que aparecen en primer término corresponden a las respuestas más frecuentes de los jóv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336666"/>
                </a:solidFill>
                <a:latin typeface="Arial Black"/>
              </a:rPr>
              <a:t>RESPUESTAS CORRECT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5640" y="177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la sección de sinónimos, se consideran correctas solamente las palabras que aparecen registradas en el protoc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la sección de antónimos, no calif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las estructuras negativas (“no audaz”), 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las expresiones que impliquen más de una palabra (“alguien que se atreve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Neologismos del sujeto (“inaudaz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obstante, es recomendable considerarlas para una interpretación cualitativa del desempeño del joven que puede ser importante desde una perspectiva clínica o edu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ones que se establecen entre los significados de las 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 flipH="1">
            <a:off x="914040" y="2286000"/>
            <a:ext cx="3352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25236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2518200" y="2399760"/>
            <a:ext cx="1796400" cy="230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4797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4343400" y="2362320"/>
            <a:ext cx="3808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492360" y="4797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s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4419720" y="2362320"/>
            <a:ext cx="2057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64000" y="47973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420080" y="2280960"/>
            <a:ext cx="3958200" cy="229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187280" y="33336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(CLASE ANT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AS RELACIONES LÉ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558972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EL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T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19280" y="558972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EL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348000" y="55897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de la ola/del gal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7164360" y="4724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ero/Hip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148360" y="55897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metal/ verbo cobr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948360" y="558972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Rectángulo"/>
          <p:cNvSpPr/>
          <p:nvPr/>
        </p:nvSpPr>
        <p:spPr>
          <a:xfrm>
            <a:off x="468360" y="40464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ál es la relación semántica establecida entre cada una de estas parejas de palabr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gradable / placenter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jota (letra) / jota (bail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eneroso/ tacañ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cendido/ apaga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ivo/muer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adre/hij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aca/ba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aranja/pe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anado/ove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395280" y="177336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lla / tabure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olígrafo / lápi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ato / per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ndalia/bo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ndiente/co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 Rectángulo"/>
          <p:cNvSpPr/>
          <p:nvPr/>
        </p:nvSpPr>
        <p:spPr>
          <a:xfrm>
            <a:off x="468360" y="62064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¿Cuál es el hiperónimo de cada una de estas parej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¿Qué es el PREDI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Es una prueba diseñada para detectar dificultades para que presentan los adolescentes para narrar, describir, argumentar y exponer oralmente sus ide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PREDI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CL" sz="3100" spc="-1" strike="noStrike">
                <a:solidFill>
                  <a:srgbClr val="ff0000"/>
                </a:solidFill>
                <a:latin typeface="Arial"/>
              </a:rPr>
              <a:t>PR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ocedimientos para </a:t>
            </a:r>
            <a:r>
              <a:rPr b="1" lang="es-CL" sz="31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valuar </a:t>
            </a:r>
            <a:r>
              <a:rPr b="1" lang="es-CL" sz="3100" spc="-1" strike="noStrike">
                <a:solidFill>
                  <a:srgbClr val="ff0000"/>
                </a:solidFill>
                <a:latin typeface="Arial"/>
              </a:rPr>
              <a:t>DI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curs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PRED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7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mento desarrollado en la Escuela de Fonoaudiología de la Universidad de Chile por los profesores María Mercedes Pavez, Carmen Julia Coloma, Mariangela Maggiolo, Luis Romero y Luis Martín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 creación fue motivada por la experiencia de fonoaudiólogos co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umnos de enseñanza medi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que presentab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bajo rendimiento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dificultades en el manejo del discurso</a:t>
            </a: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predi"/>
          <p:cNvPicPr/>
          <p:nvPr/>
        </p:nvPicPr>
        <p:blipFill>
          <a:blip r:embed="rId1"/>
          <a:stretch/>
        </p:blipFill>
        <p:spPr>
          <a:xfrm>
            <a:off x="5651640" y="1916280"/>
            <a:ext cx="220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DIFICULTADES EN EL MANEJO DEL DISCURS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Describir una esce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Narrar un suces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xponer un te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rgument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705800" cy="4392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2556000" y="2133720"/>
            <a:ext cx="374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Describir un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Narrar un su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xponer un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Argu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Investigaciones revelan que…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Existe correlación significativa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Adolescentes con un manejo deficitario del discurso no conversacional se encuentran -con más frecuencia- en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LICEOS MUNICIP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16000" y="2781360"/>
            <a:ext cx="25923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dimiento escolar de estudiantes de enseñanza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932360" y="2781360"/>
            <a:ext cx="25923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ejo del discurso no conversacional emitido o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851280" y="2997360"/>
            <a:ext cx="936720" cy="504720"/>
          </a:xfrm>
          <a:prstGeom prst="leftRightArrow">
            <a:avLst>
              <a:gd name="adj1" fmla="val 50000"/>
              <a:gd name="adj2" fmla="val 36947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21:28:55Z</dcterms:created>
  <dc:creator>claudia</dc:creator>
  <dc:description/>
  <dc:language>en-US</dc:language>
  <cp:lastModifiedBy>a</cp:lastModifiedBy>
  <dcterms:modified xsi:type="dcterms:W3CDTF">2010-08-13T14:34:56Z</dcterms:modified>
  <cp:revision>22</cp:revision>
  <dc:subject/>
  <dc:title> PREDI: evaluación del uso de antónimos y sinónimos en adolescentes</dc:title>
</cp:coreProperties>
</file>